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42.png" ContentType="image/png"/>
  <Override PartName="/ppt/media/image41.png" ContentType="image/png"/>
  <Override PartName="/ppt/media/image49.jpeg" ContentType="image/jpe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E2BE0-35BE-4A22-BD37-41882EEEF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56293-B18E-4AA3-86E4-990417065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C348-2766-41CE-AF71-AE1355AC6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2A18-33C6-4587-B5D0-3456B916B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79C3-2948-4566-A096-8B7AA9C28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6A41-EE50-4E18-9EBC-FD51A2E50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0976-A255-4403-AA42-CFE244FC3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8812-081C-4C0B-9911-711113B89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1BD6-289D-46EA-937F-D01588EDB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7A23-7AC1-41CF-B3DE-B104D26F4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353C-FFE0-4EDE-8C80-CD176AE35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6D63-674F-4063-8B3A-93B1A19545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1447560" cy="868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676520" y="274680"/>
            <a:ext cx="2409840" cy="447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459432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3E93-5F2E-4FB4-ACFD-5BC1B18770E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c4af64"/>
          </a:solidFill>
          <a:ln w="9360">
            <a:solidFill>
              <a:srgbClr val="c4a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0"/>
            <a:ext cx="75960" cy="6858000"/>
          </a:xfrm>
          <a:prstGeom prst="rect">
            <a:avLst/>
          </a:prstGeom>
          <a:solidFill>
            <a:srgbClr val="00006a"/>
          </a:solidFill>
          <a:ln w="93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66520" y="914400"/>
            <a:ext cx="6172200" cy="1047600"/>
            <a:chOff x="2666520" y="914400"/>
            <a:chExt cx="6172200" cy="1047600"/>
          </a:xfrm>
        </p:grpSpPr>
        <p:sp>
          <p:nvSpPr>
            <p:cNvPr id="81" name="File"/>
            <p:cNvSpPr/>
            <p:nvPr/>
          </p:nvSpPr>
          <p:spPr>
            <a:xfrm rot="10800000">
              <a:off x="2666520" y="914040"/>
              <a:ext cx="617220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990720"/>
              <a:ext cx="594360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мулација у пакету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sim 3.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rcRect l="52780" t="28349" r="30558" b="54896"/>
          <a:stretch/>
        </p:blipFill>
        <p:spPr>
          <a:xfrm>
            <a:off x="2057400" y="3048120"/>
            <a:ext cx="4419720" cy="293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43521" r="82888" b="22507"/>
          <a:stretch/>
        </p:blipFill>
        <p:spPr>
          <a:xfrm>
            <a:off x="2514600" y="228600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28240" r="89433" b="55818"/>
          <a:stretch/>
        </p:blipFill>
        <p:spPr>
          <a:xfrm>
            <a:off x="68580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 са миш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View Window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погледом на модел)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ирањ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Зум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и 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точкић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Object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објектима)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Y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X,Y,Z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and Y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жуту тачку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жуту тачку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Дефинисање лејау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623960" cy="4038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7621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Левим тастером миша превуците објекте из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bjects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ibrary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библиотеке објеката) и поставите их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оти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ли мењајте величин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бјекат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шем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5486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76760" cy="3441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Док држите типку 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“A”,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кликните и вуците да би сте створили излазно-улазну везу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output to input port connection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између објеката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Ове везе су потребне да би се означио ток произ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Дефинисање тока производа кроз модел-повезивање објеката уз помоћ пор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828800"/>
            <a:ext cx="70102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пке које се користе за повезивање порт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797200"/>
            <a:ext cx="4419720" cy="307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7120" y="4572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0080" y="312408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4160" y="31240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0" y="4572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3434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98108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аздв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п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828800"/>
            <a:ext cx="304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злазни са улаз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utputs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828800"/>
            <a:ext cx="3504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Централни са централ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Center to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не врсте ве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ред излазно-улазних веза (о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utput to input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 постоје и централне везе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Централне везе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Center port to center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се најчешће користе да би неки фиксирани објекат (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Fixed Resource)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звао транспорт или ’’помоћ’’ при раду 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(Transporter, Operator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Дакле, излазно-улазним везама се </a:t>
            </a:r>
            <a:r>
              <a:rPr b="0" lang="sr-CS" sz="2200" spc="-1" strike="noStrike" u="sng">
                <a:solidFill>
                  <a:srgbClr val="ff3300"/>
                </a:solidFill>
                <a:uFillTx/>
                <a:latin typeface="Arial"/>
              </a:rPr>
              <a:t>искључиво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спајају фиксирани објекти (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</a:rPr>
              <a:t>Source,Queue,Processor)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, док је централним везама омогућено спајање било које комбинације фиксни – мобилни ресурс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8380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јаут по завршетку повез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880" y="1828800"/>
          <a:ext cx="830592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059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Детаљније одређење објеката променом њихових параметар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990720"/>
            <a:ext cx="2133720" cy="685800"/>
          </a:xfrm>
          <a:prstGeom prst="wedgeRoundRectCallout">
            <a:avLst>
              <a:gd name="adj1" fmla="val 36162"/>
              <a:gd name="adj2" fmla="val 106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ocuments"/>
          <p:cNvSpPr/>
          <p:nvPr/>
        </p:nvSpPr>
        <p:spPr>
          <a:xfrm>
            <a:off x="304920" y="1371600"/>
            <a:ext cx="4343400" cy="3276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нели параметре са претходног слајда морамо да приступимо параметарским прозорима објеката који сачињавају наш леја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5257800" y="4648320"/>
            <a:ext cx="3352680" cy="1752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упли клик на објекат, или десни клик па изабе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09880" y="228240"/>
            <a:ext cx="5105520" cy="1085400"/>
            <a:chOff x="3809880" y="228240"/>
            <a:chExt cx="5105520" cy="1085400"/>
          </a:xfrm>
        </p:grpSpPr>
        <p:sp>
          <p:nvSpPr>
            <p:cNvPr id="251" name="File"/>
            <p:cNvSpPr/>
            <p:nvPr/>
          </p:nvSpPr>
          <p:spPr>
            <a:xfrm rot="10800000">
              <a:off x="3809880" y="227880"/>
              <a:ext cx="510552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307440"/>
              <a:ext cx="49176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Parameters Window (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араметарски проз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740000">
            <a:off x="4191120" y="342864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19687200">
            <a:off x="1980720" y="7621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а врста објекта има свој параметарски прозор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одређују време које производи проведу у објект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упућују поједине врсте производа ка одређеним портовим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343400" y="1523880"/>
          <a:ext cx="445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445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tab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Параметарске страниц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параметарски прозор има своје параметарске страниц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су груписани у странице, по својој врс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фиксирани објекат им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Flow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(ток) и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Triggers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окидачи) страницу.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да неки објекти имају више окидача од осталих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7080" y="3251160"/>
          <a:ext cx="417528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3251160"/>
                    <a:ext cx="41752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91120" y="4648320"/>
          <a:ext cx="4190760" cy="16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648320"/>
                    <a:ext cx="419076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505320" y="380880"/>
            <a:ext cx="5333760" cy="1047600"/>
            <a:chOff x="3505320" y="380880"/>
            <a:chExt cx="5333760" cy="1047600"/>
          </a:xfrm>
        </p:grpSpPr>
        <p:sp>
          <p:nvSpPr>
            <p:cNvPr id="87" name="File"/>
            <p:cNvSpPr/>
            <p:nvPr/>
          </p:nvSpPr>
          <p:spPr>
            <a:xfrm rot="10800000">
              <a:off x="3505320" y="380520"/>
              <a:ext cx="533376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457200"/>
              <a:ext cx="513612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Врсте симулационог софтв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410080" y="3962520"/>
            <a:ext cx="1752840" cy="53316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AN - Ar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962520"/>
            <a:ext cx="3353040" cy="533160"/>
          </a:xfrm>
          <a:prstGeom prst="flowChartTerminator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457200" y="525780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есплатни софтвер отвореног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457200" y="152388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ерцијални софт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286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286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160" y="29718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ant  (Simple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600" y="60958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266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Sourc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Изв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cuments"/>
          <p:cNvSpPr/>
          <p:nvPr/>
        </p:nvSpPr>
        <p:spPr>
          <a:xfrm>
            <a:off x="228600" y="1981080"/>
            <a:ext cx="43434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740000">
            <a:off x="4191120" y="312372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cuments"/>
          <p:cNvSpPr/>
          <p:nvPr/>
        </p:nvSpPr>
        <p:spPr>
          <a:xfrm>
            <a:off x="3962520" y="4267080"/>
            <a:ext cx="38862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ељивање врсте и јединств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је производ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niform(1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17520" y="1892160"/>
            <a:ext cx="4863960" cy="546120"/>
          </a:xfrm>
          <a:custGeom>
            <a:avLst/>
            <a:gdLst/>
            <a:ahLst/>
            <a:rect l="l" t="t" r="r" b="b"/>
            <a:pathLst>
              <a:path w="3208" h="335">
                <a:moveTo>
                  <a:pt x="477" y="42"/>
                </a:moveTo>
                <a:cubicBezTo>
                  <a:pt x="345" y="0"/>
                  <a:pt x="196" y="9"/>
                  <a:pt x="65" y="51"/>
                </a:cubicBezTo>
                <a:cubicBezTo>
                  <a:pt x="2" y="93"/>
                  <a:pt x="17" y="67"/>
                  <a:pt x="1" y="115"/>
                </a:cubicBezTo>
                <a:cubicBezTo>
                  <a:pt x="4" y="152"/>
                  <a:pt x="0" y="190"/>
                  <a:pt x="10" y="225"/>
                </a:cubicBezTo>
                <a:cubicBezTo>
                  <a:pt x="18" y="251"/>
                  <a:pt x="144" y="270"/>
                  <a:pt x="157" y="271"/>
                </a:cubicBezTo>
                <a:cubicBezTo>
                  <a:pt x="233" y="276"/>
                  <a:pt x="309" y="277"/>
                  <a:pt x="385" y="280"/>
                </a:cubicBezTo>
                <a:cubicBezTo>
                  <a:pt x="681" y="304"/>
                  <a:pt x="300" y="275"/>
                  <a:pt x="934" y="298"/>
                </a:cubicBezTo>
                <a:cubicBezTo>
                  <a:pt x="1125" y="305"/>
                  <a:pt x="911" y="303"/>
                  <a:pt x="1034" y="317"/>
                </a:cubicBezTo>
                <a:cubicBezTo>
                  <a:pt x="1073" y="321"/>
                  <a:pt x="1310" y="334"/>
                  <a:pt x="1336" y="335"/>
                </a:cubicBezTo>
                <a:cubicBezTo>
                  <a:pt x="1871" y="327"/>
                  <a:pt x="1743" y="335"/>
                  <a:pt x="1985" y="335"/>
                </a:cubicBezTo>
                <a:lnTo>
                  <a:pt x="3208" y="296"/>
                </a:lnTo>
                <a:lnTo>
                  <a:pt x="3016" y="8"/>
                </a:lnTo>
                <a:lnTo>
                  <a:pt x="534" y="99"/>
                </a:lnTo>
                <a:cubicBezTo>
                  <a:pt x="534" y="99"/>
                  <a:pt x="477" y="42"/>
                  <a:pt x="477" y="4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3623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1447920"/>
            <a:ext cx="3962520" cy="1600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чин, стил наиласка прои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еђен временом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3810240" cy="1219320"/>
          </a:xfrm>
          <a:custGeom>
            <a:avLst/>
            <a:gdLst>
              <a:gd name="textAreaLeft" fmla="*/ 869760 w 3810240"/>
              <a:gd name="textAreaRight" fmla="*/ 2940480 w 381024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бор расподеле 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описује време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47760" y="4952880"/>
            <a:ext cx="7043760" cy="70812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36576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315200" y="40381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590920"/>
            <a:ext cx="2286000" cy="99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t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Кодни шабло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лужи да се задају параметри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екст браон боје се може мења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Задајемо параметре нормалне расподеле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μ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0,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σ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705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5680" y="304920"/>
            <a:ext cx="4343400" cy="19047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ource trig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адајемо врсту и боју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457200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34290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292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28600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905440" cy="158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ели производу врсту са бројем равномерно расподељеним између 1 и 3, и свакој врсти производа дај јединствену б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838080"/>
            <a:ext cx="5816520" cy="297180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048120"/>
            <a:ext cx="5335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Triggers Tab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траница са окидачим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Окидачи су функције које се извршавају у одређеним тренуцима: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Rese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ресетов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Message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пријему порук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Creation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стварању производ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Exi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изласку производа из објект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 смо равноправно могли да користимо последња два окидача пошто дају сличне резултате!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301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Queu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Ре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ocuments"/>
          <p:cNvSpPr/>
          <p:nvPr/>
        </p:nvSpPr>
        <p:spPr>
          <a:xfrm>
            <a:off x="228600" y="1981080"/>
            <a:ext cx="4343400" cy="1295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40000">
            <a:off x="4267080" y="327636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cuments"/>
          <p:cNvSpPr/>
          <p:nvPr/>
        </p:nvSpPr>
        <p:spPr>
          <a:xfrm>
            <a:off x="3962520" y="4267080"/>
            <a:ext cx="45720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ње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врсте на 1. маш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врсте на 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врсте на 3. машин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66760" y="1790640"/>
            <a:ext cx="4622760" cy="660600"/>
          </a:xfrm>
          <a:custGeom>
            <a:avLst/>
            <a:gdLst/>
            <a:ahLst/>
            <a:rect l="l" t="t" r="r" b="b"/>
            <a:pathLst>
              <a:path w="2912" h="416">
                <a:moveTo>
                  <a:pt x="264" y="72"/>
                </a:moveTo>
                <a:cubicBezTo>
                  <a:pt x="192" y="88"/>
                  <a:pt x="48" y="128"/>
                  <a:pt x="24" y="168"/>
                </a:cubicBezTo>
                <a:cubicBezTo>
                  <a:pt x="0" y="208"/>
                  <a:pt x="56" y="280"/>
                  <a:pt x="120" y="312"/>
                </a:cubicBezTo>
                <a:cubicBezTo>
                  <a:pt x="184" y="344"/>
                  <a:pt x="272" y="352"/>
                  <a:pt x="408" y="360"/>
                </a:cubicBezTo>
                <a:cubicBezTo>
                  <a:pt x="544" y="368"/>
                  <a:pt x="832" y="360"/>
                  <a:pt x="936" y="360"/>
                </a:cubicBezTo>
                <a:cubicBezTo>
                  <a:pt x="1040" y="360"/>
                  <a:pt x="936" y="352"/>
                  <a:pt x="1032" y="360"/>
                </a:cubicBezTo>
                <a:cubicBezTo>
                  <a:pt x="1128" y="368"/>
                  <a:pt x="1344" y="400"/>
                  <a:pt x="1512" y="408"/>
                </a:cubicBezTo>
                <a:cubicBezTo>
                  <a:pt x="1680" y="416"/>
                  <a:pt x="1872" y="408"/>
                  <a:pt x="2040" y="408"/>
                </a:cubicBezTo>
                <a:cubicBezTo>
                  <a:pt x="2208" y="408"/>
                  <a:pt x="2384" y="416"/>
                  <a:pt x="2520" y="408"/>
                </a:cubicBezTo>
                <a:cubicBezTo>
                  <a:pt x="2656" y="400"/>
                  <a:pt x="2800" y="400"/>
                  <a:pt x="2856" y="360"/>
                </a:cubicBezTo>
                <a:cubicBezTo>
                  <a:pt x="2912" y="320"/>
                  <a:pt x="2888" y="224"/>
                  <a:pt x="2856" y="168"/>
                </a:cubicBezTo>
                <a:cubicBezTo>
                  <a:pt x="2824" y="112"/>
                  <a:pt x="2768" y="48"/>
                  <a:pt x="2664" y="24"/>
                </a:cubicBezTo>
                <a:cubicBezTo>
                  <a:pt x="2560" y="0"/>
                  <a:pt x="2392" y="24"/>
                  <a:pt x="2232" y="24"/>
                </a:cubicBezTo>
                <a:cubicBezTo>
                  <a:pt x="2072" y="24"/>
                  <a:pt x="1864" y="16"/>
                  <a:pt x="1704" y="24"/>
                </a:cubicBezTo>
                <a:cubicBezTo>
                  <a:pt x="1544" y="32"/>
                  <a:pt x="1424" y="64"/>
                  <a:pt x="1272" y="72"/>
                </a:cubicBezTo>
                <a:cubicBezTo>
                  <a:pt x="1120" y="80"/>
                  <a:pt x="928" y="72"/>
                  <a:pt x="792" y="72"/>
                </a:cubicBezTo>
                <a:cubicBezTo>
                  <a:pt x="656" y="72"/>
                  <a:pt x="544" y="80"/>
                  <a:pt x="456" y="72"/>
                </a:cubicBezTo>
                <a:cubicBezTo>
                  <a:pt x="368" y="64"/>
                  <a:pt x="336" y="56"/>
                  <a:pt x="264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1295280"/>
            <a:ext cx="3047760" cy="1676520"/>
          </a:xfrm>
          <a:custGeom>
            <a:avLst/>
            <a:gdLst>
              <a:gd name="textAreaLeft" fmla="*/ 695520 w 3047760"/>
              <a:gd name="textAreaRight" fmla="*/ 2352240 w 304776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ксимални капац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ли садржај објекта 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962520" y="609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ок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371240" y="106668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0532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13372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99072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066680"/>
            <a:ext cx="2133360" cy="10670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28800"/>
            <a:ext cx="2362320" cy="4800600"/>
          </a:xfrm>
          <a:prstGeom prst="flowChartAlternateProcess">
            <a:avLst/>
          </a:prstGeom>
          <a:solidFill>
            <a:srgbClr val="8ec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19047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ia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520" y="151920"/>
            <a:ext cx="3629160" cy="1590840"/>
            <a:chOff x="4952520" y="151920"/>
            <a:chExt cx="3629160" cy="1590840"/>
          </a:xfrm>
        </p:grpSpPr>
        <p:sp>
          <p:nvSpPr>
            <p:cNvPr id="108" name="File"/>
            <p:cNvSpPr/>
            <p:nvPr/>
          </p:nvSpPr>
          <p:spPr>
            <a:xfrm rot="10800000">
              <a:off x="4952520" y="151560"/>
              <a:ext cx="3629160" cy="15908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024880" y="209160"/>
              <a:ext cx="3456720" cy="11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52680" y="1766880"/>
            <a:ext cx="5791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200400" y="609480"/>
          <a:ext cx="53420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53420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219320" y="4648320"/>
            <a:ext cx="426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аљи производ на онај порт који одговара редном броју његовог типа (врст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267080"/>
            <a:ext cx="502920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2285640"/>
            <a:ext cx="6094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505320" y="761760"/>
            <a:ext cx="5410080" cy="1085400"/>
            <a:chOff x="3505320" y="761760"/>
            <a:chExt cx="5410080" cy="1085400"/>
          </a:xfrm>
        </p:grpSpPr>
        <p:sp>
          <p:nvSpPr>
            <p:cNvPr id="323" name="File"/>
            <p:cNvSpPr/>
            <p:nvPr/>
          </p:nvSpPr>
          <p:spPr>
            <a:xfrm rot="10800000">
              <a:off x="3505320" y="76140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05320" y="84096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Process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Машин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rot="19687200">
            <a:off x="2133000" y="2057040"/>
            <a:ext cx="1676160" cy="5335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s"/>
          <p:cNvSpPr/>
          <p:nvPr/>
        </p:nvSpPr>
        <p:spPr>
          <a:xfrm>
            <a:off x="457200" y="3200400"/>
            <a:ext cx="4343400" cy="1295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41200" y="2768760"/>
            <a:ext cx="1676520" cy="54612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36" y="128"/>
                </a:moveTo>
                <a:cubicBezTo>
                  <a:pt x="32" y="176"/>
                  <a:pt x="0" y="296"/>
                  <a:pt x="136" y="320"/>
                </a:cubicBezTo>
                <a:cubicBezTo>
                  <a:pt x="272" y="344"/>
                  <a:pt x="848" y="320"/>
                  <a:pt x="952" y="272"/>
                </a:cubicBezTo>
                <a:cubicBezTo>
                  <a:pt x="1056" y="224"/>
                  <a:pt x="896" y="64"/>
                  <a:pt x="760" y="32"/>
                </a:cubicBezTo>
                <a:cubicBezTo>
                  <a:pt x="624" y="0"/>
                  <a:pt x="240" y="80"/>
                  <a:pt x="136" y="12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1752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е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цесир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160" y="251460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4572000"/>
            <a:ext cx="678204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312408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1028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198108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5905440" cy="1447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00400" y="4419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уписујемо одговарајуће вредности парамета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поненцијалн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3809880"/>
            <a:ext cx="464796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3200" y="2362320"/>
            <a:ext cx="12952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123720" y="380880"/>
            <a:ext cx="5410440" cy="1085760"/>
            <a:chOff x="3123720" y="380880"/>
            <a:chExt cx="5410440" cy="1085760"/>
          </a:xfrm>
        </p:grpSpPr>
        <p:sp>
          <p:nvSpPr>
            <p:cNvPr id="340" name="File"/>
            <p:cNvSpPr/>
            <p:nvPr/>
          </p:nvSpPr>
          <p:spPr>
            <a:xfrm rot="10800000">
              <a:off x="3123720" y="380520"/>
              <a:ext cx="5410440" cy="108576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45972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 Convey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Конвејер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 rot="19687200">
            <a:off x="1828800" y="1752480"/>
            <a:ext cx="1676880" cy="53352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uments"/>
          <p:cNvSpPr/>
          <p:nvPr/>
        </p:nvSpPr>
        <p:spPr>
          <a:xfrm>
            <a:off x="990720" y="2971800"/>
            <a:ext cx="5181480" cy="236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ом параметарских страница објекта уверавамо се да брзина конвејера већ износи 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а нема потребе да ишта мења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мпајлирање и пуштање модела у р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мпајлирај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есету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крени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нтролишите брзину извршавања модела клизачем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Експериментер се користи за одређивање трајања симулације (Ове опције нема у демо верзији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105520" y="1905120"/>
          <a:ext cx="9572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957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029200" y="3962520"/>
          <a:ext cx="32004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62520"/>
                    <a:ext cx="32004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29000" y="2862360"/>
          <a:ext cx="487692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862360"/>
                    <a:ext cx="4876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4120" y="5141880"/>
          <a:ext cx="144756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141880"/>
                    <a:ext cx="1447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95680" y="304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 Прикупљање и обрад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089760" cy="4636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04920" y="76212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једноставнији начин, посматрањем вредности поред обј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95880" y="1522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Уз помоћ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perties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обине) прозора об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638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553080" y="1066680"/>
            <a:ext cx="23623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тање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казује проценат и време  које је објекат провео у одређеним ст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53080" y="457200"/>
            <a:ext cx="23623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адржај) страница доступна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розору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број производа који се налазе унутар објекта у току извесног интер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Морају бити укључена подешавања за прикупљање 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352320" y="304920"/>
            <a:ext cx="5334120" cy="1047600"/>
            <a:chOff x="3352320" y="304920"/>
            <a:chExt cx="5334120" cy="1047600"/>
          </a:xfrm>
        </p:grpSpPr>
        <p:sp>
          <p:nvSpPr>
            <p:cNvPr id="112" name="File"/>
            <p:cNvSpPr/>
            <p:nvPr/>
          </p:nvSpPr>
          <p:spPr>
            <a:xfrm rot="10800000">
              <a:off x="3352320" y="304560"/>
              <a:ext cx="533412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81240"/>
              <a:ext cx="513756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де наћи потребну документацију за учење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8720" y="5257800"/>
            <a:ext cx="53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http://www.flexsim.com/products/flexsim/webdem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243828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2ab0"/>
                </a:solidFill>
                <a:latin typeface="Arial"/>
              </a:rPr>
              <a:t>http://file.sf.bg.ac.yu/nastava/course/view.php?id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1.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0520" y="297180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 различите тежине, са објашњ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lassmod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 туторијала од најједноставнијих до врло тешких, са објашње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724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ратки демо за увод у прављење модела у последњој верзији софт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53080" y="457200"/>
            <a:ext cx="236232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ytim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Време задржавања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структуру задржавања производа у обј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ваки стубац представља број производа који се задржавају одређени временски интер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410080" y="2286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е посматрали, пратили и обрађивали подаци, одговарајући објекти морају бити селектов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2117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09680" y="304812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1240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ње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ву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авање у селекцију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клик на обј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ни објекти су означени црвеном бо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867280" cy="2473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5791320" cy="241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724280" y="0"/>
            <a:ext cx="4419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кође, морају бити изврш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ешава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падајућем мен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281952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исао ових подешавања је да се омогући прикупљање података, баш за селектоване објек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562720" y="27428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10360" y="2489040"/>
            <a:ext cx="2628720" cy="3480120"/>
          </a:xfrm>
          <a:custGeom>
            <a:avLst/>
            <a:gdLst/>
            <a:ahLst/>
            <a:rect l="l" t="t" r="r" b="b"/>
            <a:pathLst>
              <a:path w="1656" h="2192">
                <a:moveTo>
                  <a:pt x="408" y="112"/>
                </a:moveTo>
                <a:cubicBezTo>
                  <a:pt x="204" y="648"/>
                  <a:pt x="0" y="1184"/>
                  <a:pt x="168" y="1504"/>
                </a:cubicBezTo>
                <a:cubicBezTo>
                  <a:pt x="336" y="1824"/>
                  <a:pt x="1176" y="2192"/>
                  <a:pt x="1416" y="2032"/>
                </a:cubicBezTo>
                <a:cubicBezTo>
                  <a:pt x="1656" y="1872"/>
                  <a:pt x="1648" y="880"/>
                  <a:pt x="1608" y="544"/>
                </a:cubicBezTo>
                <a:cubicBezTo>
                  <a:pt x="1568" y="208"/>
                  <a:pt x="1440" y="32"/>
                  <a:pt x="1176" y="16"/>
                </a:cubicBezTo>
                <a:cubicBezTo>
                  <a:pt x="912" y="0"/>
                  <a:pt x="208" y="440"/>
                  <a:pt x="24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а су подешавања у мениј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извршена појављују се зелени оквири око објект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вири се могу сакрити избором опциј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Hide Green Indicator Boxe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Stat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ниј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45924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114800" y="3657600"/>
          <a:ext cx="43639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3639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Стандардни извешта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540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95880" y="2286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 преглед параметара с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раница у табеларној форми погодној за даљу об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533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sim State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Извештај о стањим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743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ценат времена које је објекат провео у сваком од стања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фил стања је дат за сваки објекат који је тренутно 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селектован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у моделу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638680" cy="4226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042440" y="2318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Служи да сними и прикаже статистичке податке у виду хистограма, табела, питиц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Може да сакупља тачкасте податке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(min, max, avg)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или комплетне вредности кроз сваки протекли тренутак времен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Дуплим кликом на објекат се стартује његова параметарска страница на којој се налазе подешавања за прикупљање податак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010280" y="1447920"/>
          <a:ext cx="12193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4479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Уз помоћ објект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нимате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410080" y="114300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219320"/>
            <a:ext cx="2590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0"/>
            <a:ext cx="2666880" cy="167652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купљање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10820520" cy="4500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ип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2577960"/>
            <a:ext cx="1613160" cy="520920"/>
          </a:xfrm>
          <a:custGeom>
            <a:avLst/>
            <a:gdLst/>
            <a:ahLst/>
            <a:rect l="l" t="t" r="r" b="b"/>
            <a:pathLst>
              <a:path w="1016" h="328">
                <a:moveTo>
                  <a:pt x="144" y="8"/>
                </a:moveTo>
                <a:cubicBezTo>
                  <a:pt x="104" y="80"/>
                  <a:pt x="64" y="152"/>
                  <a:pt x="96" y="200"/>
                </a:cubicBezTo>
                <a:cubicBezTo>
                  <a:pt x="128" y="248"/>
                  <a:pt x="216" y="280"/>
                  <a:pt x="336" y="296"/>
                </a:cubicBezTo>
                <a:cubicBezTo>
                  <a:pt x="456" y="312"/>
                  <a:pt x="704" y="328"/>
                  <a:pt x="816" y="296"/>
                </a:cubicBezTo>
                <a:cubicBezTo>
                  <a:pt x="928" y="264"/>
                  <a:pt x="1016" y="152"/>
                  <a:pt x="1008" y="104"/>
                </a:cubicBezTo>
                <a:cubicBezTo>
                  <a:pt x="1000" y="56"/>
                  <a:pt x="904" y="16"/>
                  <a:pt x="768" y="8"/>
                </a:cubicBezTo>
                <a:cubicBezTo>
                  <a:pt x="632" y="0"/>
                  <a:pt x="320" y="32"/>
                  <a:pt x="192" y="56"/>
                </a:cubicBezTo>
                <a:cubicBezTo>
                  <a:pt x="64" y="80"/>
                  <a:pt x="40" y="168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914040" y="29718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840" y="3746520"/>
            <a:ext cx="1612800" cy="622440"/>
          </a:xfrm>
          <a:custGeom>
            <a:avLst/>
            <a:gdLst/>
            <a:ahLst/>
            <a:rect l="l" t="t" r="r" b="b"/>
            <a:pathLst>
              <a:path w="1016" h="392">
                <a:moveTo>
                  <a:pt x="128" y="136"/>
                </a:moveTo>
                <a:cubicBezTo>
                  <a:pt x="64" y="164"/>
                  <a:pt x="0" y="192"/>
                  <a:pt x="32" y="232"/>
                </a:cubicBezTo>
                <a:cubicBezTo>
                  <a:pt x="64" y="272"/>
                  <a:pt x="168" y="360"/>
                  <a:pt x="320" y="376"/>
                </a:cubicBezTo>
                <a:cubicBezTo>
                  <a:pt x="472" y="392"/>
                  <a:pt x="872" y="384"/>
                  <a:pt x="944" y="328"/>
                </a:cubicBezTo>
                <a:cubicBezTo>
                  <a:pt x="1016" y="272"/>
                  <a:pt x="872" y="80"/>
                  <a:pt x="752" y="40"/>
                </a:cubicBezTo>
                <a:cubicBezTo>
                  <a:pt x="632" y="0"/>
                  <a:pt x="344" y="40"/>
                  <a:pt x="224" y="88"/>
                </a:cubicBezTo>
                <a:cubicBezTo>
                  <a:pt x="104" y="136"/>
                  <a:pt x="72" y="296"/>
                  <a:pt x="32" y="3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38862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ндардни пода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352320" y="4038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797280"/>
            <a:ext cx="1866960" cy="736560"/>
          </a:xfrm>
          <a:custGeom>
            <a:avLst/>
            <a:gdLst/>
            <a:ahLst/>
            <a:rect l="l" t="t" r="r" b="b"/>
            <a:pathLst>
              <a:path w="1176" h="464">
                <a:moveTo>
                  <a:pt x="336" y="8"/>
                </a:moveTo>
                <a:cubicBezTo>
                  <a:pt x="276" y="72"/>
                  <a:pt x="216" y="136"/>
                  <a:pt x="240" y="200"/>
                </a:cubicBezTo>
                <a:cubicBezTo>
                  <a:pt x="264" y="264"/>
                  <a:pt x="368" y="352"/>
                  <a:pt x="480" y="392"/>
                </a:cubicBezTo>
                <a:cubicBezTo>
                  <a:pt x="592" y="432"/>
                  <a:pt x="800" y="464"/>
                  <a:pt x="912" y="440"/>
                </a:cubicBezTo>
                <a:cubicBezTo>
                  <a:pt x="1024" y="416"/>
                  <a:pt x="1128" y="312"/>
                  <a:pt x="1152" y="248"/>
                </a:cubicBezTo>
                <a:cubicBezTo>
                  <a:pt x="1176" y="184"/>
                  <a:pt x="1144" y="96"/>
                  <a:pt x="1056" y="56"/>
                </a:cubicBezTo>
                <a:cubicBezTo>
                  <a:pt x="968" y="16"/>
                  <a:pt x="752" y="0"/>
                  <a:pt x="624" y="8"/>
                </a:cubicBezTo>
                <a:cubicBezTo>
                  <a:pt x="496" y="16"/>
                  <a:pt x="392" y="88"/>
                  <a:pt x="288" y="104"/>
                </a:cubicBezTo>
                <a:cubicBezTo>
                  <a:pt x="184" y="120"/>
                  <a:pt x="40" y="120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4800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468648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809880" y="4952880"/>
            <a:ext cx="2895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6340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података који се прикупљ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210360"/>
            <a:ext cx="2463840" cy="876240"/>
          </a:xfrm>
          <a:custGeom>
            <a:avLst/>
            <a:gdLst/>
            <a:ahLst/>
            <a:rect l="l" t="t" r="r" b="b"/>
            <a:pathLst>
              <a:path w="1552" h="552">
                <a:moveTo>
                  <a:pt x="336" y="24"/>
                </a:moveTo>
                <a:cubicBezTo>
                  <a:pt x="268" y="20"/>
                  <a:pt x="200" y="16"/>
                  <a:pt x="192" y="72"/>
                </a:cubicBezTo>
                <a:cubicBezTo>
                  <a:pt x="184" y="128"/>
                  <a:pt x="168" y="280"/>
                  <a:pt x="288" y="360"/>
                </a:cubicBezTo>
                <a:cubicBezTo>
                  <a:pt x="408" y="440"/>
                  <a:pt x="720" y="552"/>
                  <a:pt x="912" y="552"/>
                </a:cubicBezTo>
                <a:cubicBezTo>
                  <a:pt x="1104" y="552"/>
                  <a:pt x="1360" y="440"/>
                  <a:pt x="1440" y="360"/>
                </a:cubicBezTo>
                <a:cubicBezTo>
                  <a:pt x="1520" y="280"/>
                  <a:pt x="1552" y="128"/>
                  <a:pt x="1392" y="72"/>
                </a:cubicBezTo>
                <a:cubicBezTo>
                  <a:pt x="1232" y="16"/>
                  <a:pt x="712" y="0"/>
                  <a:pt x="480" y="24"/>
                </a:cubicBezTo>
                <a:cubicBezTo>
                  <a:pt x="248" y="48"/>
                  <a:pt x="88" y="216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066320" y="54100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5943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држај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579132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580920" y="5562360"/>
            <a:ext cx="3124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5486400" cy="3500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410080" y="144792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219320"/>
            <a:ext cx="2362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0"/>
            <a:ext cx="2895480" cy="14479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изгл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800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мена имена 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895120" y="388584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4648320"/>
            <a:ext cx="2616480" cy="533160"/>
          </a:xfrm>
          <a:custGeom>
            <a:avLst/>
            <a:gdLst/>
            <a:ahLst/>
            <a:rect l="l" t="t" r="r" b="b"/>
            <a:pathLst>
              <a:path w="1648" h="336">
                <a:moveTo>
                  <a:pt x="240" y="32"/>
                </a:moveTo>
                <a:cubicBezTo>
                  <a:pt x="152" y="128"/>
                  <a:pt x="64" y="224"/>
                  <a:pt x="96" y="272"/>
                </a:cubicBezTo>
                <a:cubicBezTo>
                  <a:pt x="128" y="320"/>
                  <a:pt x="288" y="312"/>
                  <a:pt x="432" y="320"/>
                </a:cubicBezTo>
                <a:cubicBezTo>
                  <a:pt x="576" y="328"/>
                  <a:pt x="800" y="320"/>
                  <a:pt x="960" y="320"/>
                </a:cubicBezTo>
                <a:cubicBezTo>
                  <a:pt x="1120" y="320"/>
                  <a:pt x="1280" y="336"/>
                  <a:pt x="1392" y="320"/>
                </a:cubicBezTo>
                <a:cubicBezTo>
                  <a:pt x="1504" y="304"/>
                  <a:pt x="1616" y="272"/>
                  <a:pt x="1632" y="224"/>
                </a:cubicBezTo>
                <a:cubicBezTo>
                  <a:pt x="1648" y="176"/>
                  <a:pt x="1552" y="64"/>
                  <a:pt x="1488" y="32"/>
                </a:cubicBezTo>
                <a:cubicBezTo>
                  <a:pt x="1424" y="0"/>
                  <a:pt x="1376" y="24"/>
                  <a:pt x="1248" y="32"/>
                </a:cubicBezTo>
                <a:cubicBezTo>
                  <a:pt x="1120" y="40"/>
                  <a:pt x="872" y="64"/>
                  <a:pt x="720" y="80"/>
                </a:cubicBezTo>
                <a:cubicBezTo>
                  <a:pt x="568" y="96"/>
                  <a:pt x="456" y="120"/>
                  <a:pt x="336" y="128"/>
                </a:cubicBezTo>
                <a:cubicBezTo>
                  <a:pt x="216" y="136"/>
                  <a:pt x="48" y="152"/>
                  <a:pt x="0" y="1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81480" cy="395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867280" y="609480"/>
            <a:ext cx="30481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глед 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сле параметарских подеш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 посматрања садржаја графика и у перспективи, а не само у првој пројекцији, треба променити одређене вредности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страницама објек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533160" y="762120"/>
            <a:ext cx="8229240" cy="1047600"/>
            <a:chOff x="533160" y="762120"/>
            <a:chExt cx="8229240" cy="1047600"/>
          </a:xfrm>
        </p:grpSpPr>
        <p:sp>
          <p:nvSpPr>
            <p:cNvPr id="121" name="File"/>
            <p:cNvSpPr/>
            <p:nvPr/>
          </p:nvSpPr>
          <p:spPr>
            <a:xfrm rot="10800000">
              <a:off x="533160" y="761760"/>
              <a:ext cx="822924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838440"/>
              <a:ext cx="792648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Задатак за симулац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2819520"/>
            <a:ext cx="6324840" cy="3276360"/>
          </a:xfrm>
          <a:prstGeom prst="cloudCallout">
            <a:avLst>
              <a:gd name="adj1" fmla="val 22541"/>
              <a:gd name="adj2" fmla="val -85319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илазак 3 врсте производа на пуфер, после чега се свака врста упућује на обраду на једној од 3 машине (процесора). Са машина се врши отпрема конвејерима до излаза из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страна – Особине обј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Поред статистичких,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страна садржи и генералне физичке и визуелне информације о објекту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Tab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– стране на сваком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прозор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Visu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визуелн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Gener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опште (тип и име објекта, сви портови) 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Label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налепнице(напреднији ниво)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Statistic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статистичк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228600"/>
            <a:ext cx="2057400" cy="533520"/>
          </a:xfrm>
          <a:prstGeom prst="wedgeRoundRectCallout">
            <a:avLst>
              <a:gd name="adj1" fmla="val -52856"/>
              <a:gd name="adj2" fmla="val 94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629400" y="30456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tab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6213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57800" y="4114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ординате и димензије обј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1295280"/>
            <a:ext cx="289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ајл који садржи информације о изгледу објекта. Може бит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3ds(3DsMax)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xf(AutoCad)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се мењати по жељ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3840" y="1346040"/>
            <a:ext cx="39369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479760"/>
            <a:ext cx="4203720" cy="162576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914400"/>
            <a:ext cx="3657600" cy="23749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3936960"/>
            <a:ext cx="2959200" cy="119376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505320" y="1828440"/>
            <a:ext cx="1752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038480" y="419076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1680" y="5943600"/>
            <a:ext cx="2057400" cy="533520"/>
          </a:xfrm>
          <a:prstGeom prst="wedgeRoundRectCallout">
            <a:avLst>
              <a:gd name="adj1" fmla="val -45449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248520" y="2286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tab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990720" y="838080"/>
            <a:ext cx="34797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514600"/>
            <a:ext cx="4267440" cy="190512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914400"/>
            <a:ext cx="2057400" cy="12193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4120" y="3505320"/>
            <a:ext cx="2286000" cy="160020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848040" y="1320480"/>
            <a:ext cx="154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46640" y="3682800"/>
            <a:ext cx="127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3657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зни, централни и излазни порт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1295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е и тип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5943600"/>
            <a:ext cx="2057400" cy="533520"/>
          </a:xfrm>
          <a:prstGeom prst="wedgeRoundRectCallout">
            <a:avLst>
              <a:gd name="adj1" fmla="val -39814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4879800" cy="723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09880" cy="2903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33412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бјекат изгледао као на горњој слици потребно је унети заокружене параме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4419720"/>
            <a:ext cx="1231920" cy="444240"/>
          </a:xfrm>
          <a:custGeom>
            <a:avLst/>
            <a:gdLst/>
            <a:ahLst/>
            <a:rect l="l" t="t" r="r" b="b"/>
            <a:pathLst>
              <a:path w="776" h="280">
                <a:moveTo>
                  <a:pt x="152" y="72"/>
                </a:moveTo>
                <a:cubicBezTo>
                  <a:pt x="76" y="104"/>
                  <a:pt x="0" y="136"/>
                  <a:pt x="8" y="168"/>
                </a:cubicBezTo>
                <a:cubicBezTo>
                  <a:pt x="16" y="200"/>
                  <a:pt x="88" y="248"/>
                  <a:pt x="200" y="264"/>
                </a:cubicBezTo>
                <a:cubicBezTo>
                  <a:pt x="312" y="280"/>
                  <a:pt x="584" y="280"/>
                  <a:pt x="680" y="264"/>
                </a:cubicBezTo>
                <a:cubicBezTo>
                  <a:pt x="776" y="248"/>
                  <a:pt x="776" y="208"/>
                  <a:pt x="776" y="168"/>
                </a:cubicBezTo>
                <a:cubicBezTo>
                  <a:pt x="776" y="128"/>
                  <a:pt x="760" y="48"/>
                  <a:pt x="680" y="24"/>
                </a:cubicBezTo>
                <a:cubicBezTo>
                  <a:pt x="600" y="0"/>
                  <a:pt x="408" y="8"/>
                  <a:pt x="296" y="24"/>
                </a:cubicBezTo>
                <a:cubicBezTo>
                  <a:pt x="184" y="40"/>
                  <a:pt x="72" y="120"/>
                  <a:pt x="8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5280" y="3657600"/>
            <a:ext cx="1427040" cy="468360"/>
          </a:xfrm>
          <a:custGeom>
            <a:avLst/>
            <a:gdLst/>
            <a:ahLst/>
            <a:rect l="l" t="t" r="r" b="b"/>
            <a:pathLst>
              <a:path w="899" h="295">
                <a:moveTo>
                  <a:pt x="102" y="37"/>
                </a:moveTo>
                <a:cubicBezTo>
                  <a:pt x="87" y="64"/>
                  <a:pt x="0" y="151"/>
                  <a:pt x="11" y="192"/>
                </a:cubicBezTo>
                <a:cubicBezTo>
                  <a:pt x="22" y="233"/>
                  <a:pt x="38" y="271"/>
                  <a:pt x="166" y="283"/>
                </a:cubicBezTo>
                <a:cubicBezTo>
                  <a:pt x="294" y="295"/>
                  <a:pt x="659" y="283"/>
                  <a:pt x="779" y="264"/>
                </a:cubicBezTo>
                <a:cubicBezTo>
                  <a:pt x="899" y="245"/>
                  <a:pt x="886" y="208"/>
                  <a:pt x="886" y="168"/>
                </a:cubicBezTo>
                <a:cubicBezTo>
                  <a:pt x="886" y="128"/>
                  <a:pt x="868" y="48"/>
                  <a:pt x="779" y="24"/>
                </a:cubicBezTo>
                <a:cubicBezTo>
                  <a:pt x="690" y="0"/>
                  <a:pt x="466" y="17"/>
                  <a:pt x="352" y="24"/>
                </a:cubicBezTo>
                <a:cubicBezTo>
                  <a:pt x="238" y="31"/>
                  <a:pt x="147" y="56"/>
                  <a:pt x="93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иближавање модела реал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диспечера и 2 оператера 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пуфера и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3 селективна палетна регал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глобалне табеле з</a:t>
            </a:r>
            <a:r>
              <a:rPr b="1" lang="en-US" sz="2400" spc="-1" strike="noStrike">
                <a:solidFill>
                  <a:srgbClr val="00006a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 рутирање производ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822040" y="762120"/>
            <a:ext cx="60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давање диспечера и 2 операте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638680" cy="429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324480" y="16002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управља оператерима који носе производе од пуфера ка маш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38098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је спојен са операторима излазно-улазном везом, док је са пуфером спојен централ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553080" y="1219320"/>
            <a:ext cx="259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 диспечер и оператери служе да транспортују производе од пуфера до машина,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(ток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ра бити чекирано коришћење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539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7840" y="2984400"/>
            <a:ext cx="1663560" cy="596880"/>
          </a:xfrm>
          <a:custGeom>
            <a:avLst/>
            <a:gdLst/>
            <a:ahLst/>
            <a:rect l="l" t="t" r="r" b="b"/>
            <a:pathLst>
              <a:path w="1048" h="376">
                <a:moveTo>
                  <a:pt x="176" y="88"/>
                </a:moveTo>
                <a:cubicBezTo>
                  <a:pt x="72" y="136"/>
                  <a:pt x="0" y="288"/>
                  <a:pt x="128" y="328"/>
                </a:cubicBezTo>
                <a:cubicBezTo>
                  <a:pt x="256" y="368"/>
                  <a:pt x="840" y="376"/>
                  <a:pt x="944" y="328"/>
                </a:cubicBezTo>
                <a:cubicBezTo>
                  <a:pt x="1048" y="280"/>
                  <a:pt x="872" y="80"/>
                  <a:pt x="752" y="40"/>
                </a:cubicBezTo>
                <a:cubicBezTo>
                  <a:pt x="632" y="0"/>
                  <a:pt x="280" y="40"/>
                  <a:pt x="176" y="8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19920" y="228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о желомо да искористимо оператере за припрему процеса обраде који се обавља на машинама, треба 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867280" cy="44686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324480" y="388620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појимо централним портовима диспечера и маши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421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5334120" cy="1123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477120" y="9144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есемо траја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мештањ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im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cess Tim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152280" y="1905120"/>
            <a:ext cx="5562360" cy="761760"/>
          </a:xfrm>
          <a:custGeom>
            <a:avLst/>
            <a:gdLst/>
            <a:ahLst/>
            <a:rect l="l" t="t" r="r" b="b"/>
            <a:pathLst>
              <a:path w="3496" h="320">
                <a:moveTo>
                  <a:pt x="360" y="40"/>
                </a:moveTo>
                <a:cubicBezTo>
                  <a:pt x="328" y="92"/>
                  <a:pt x="296" y="144"/>
                  <a:pt x="312" y="184"/>
                </a:cubicBezTo>
                <a:cubicBezTo>
                  <a:pt x="328" y="224"/>
                  <a:pt x="0" y="264"/>
                  <a:pt x="456" y="280"/>
                </a:cubicBezTo>
                <a:cubicBezTo>
                  <a:pt x="912" y="296"/>
                  <a:pt x="2600" y="320"/>
                  <a:pt x="3048" y="280"/>
                </a:cubicBezTo>
                <a:cubicBezTo>
                  <a:pt x="3496" y="240"/>
                  <a:pt x="3240" y="80"/>
                  <a:pt x="3144" y="40"/>
                </a:cubicBezTo>
                <a:cubicBezTo>
                  <a:pt x="3048" y="0"/>
                  <a:pt x="2824" y="40"/>
                  <a:pt x="2472" y="40"/>
                </a:cubicBezTo>
                <a:cubicBezTo>
                  <a:pt x="2120" y="40"/>
                  <a:pt x="1400" y="32"/>
                  <a:pt x="1032" y="40"/>
                </a:cubicBezTo>
                <a:cubicBezTo>
                  <a:pt x="664" y="48"/>
                  <a:pt x="392" y="104"/>
                  <a:pt x="264" y="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00400" y="2438280"/>
            <a:ext cx="175248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553080" y="1600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..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чимо да желимо да користимо оператере за припрем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2044800"/>
            <a:ext cx="2235240" cy="635040"/>
          </a:xfrm>
          <a:custGeom>
            <a:avLst/>
            <a:gdLst/>
            <a:ahLst/>
            <a:rect l="l" t="t" r="r" b="b"/>
            <a:pathLst>
              <a:path w="1408" h="400">
                <a:moveTo>
                  <a:pt x="96" y="8"/>
                </a:moveTo>
                <a:cubicBezTo>
                  <a:pt x="72" y="148"/>
                  <a:pt x="48" y="288"/>
                  <a:pt x="240" y="344"/>
                </a:cubicBezTo>
                <a:cubicBezTo>
                  <a:pt x="432" y="400"/>
                  <a:pt x="1088" y="392"/>
                  <a:pt x="1248" y="344"/>
                </a:cubicBezTo>
                <a:cubicBezTo>
                  <a:pt x="1408" y="296"/>
                  <a:pt x="1376" y="112"/>
                  <a:pt x="1200" y="56"/>
                </a:cubicBezTo>
                <a:cubicBezTo>
                  <a:pt x="1024" y="0"/>
                  <a:pt x="384" y="8"/>
                  <a:pt x="192" y="8"/>
                </a:cubicBezTo>
                <a:cubicBezTo>
                  <a:pt x="0" y="8"/>
                  <a:pt x="72" y="80"/>
                  <a:pt x="48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781680" y="533520"/>
            <a:ext cx="2057400" cy="1218960"/>
          </a:xfrm>
          <a:prstGeom prst="wedgeRoundRectCallout">
            <a:avLst>
              <a:gd name="adj1" fmla="val 25847"/>
              <a:gd name="adj2" fmla="val 16132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ршетак посматраног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24080"/>
            <a:ext cx="30492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05120"/>
            <a:ext cx="2057400" cy="914400"/>
          </a:xfrm>
          <a:prstGeom prst="wedgeRoundRectCallout">
            <a:avLst>
              <a:gd name="adj1" fmla="val -23611"/>
              <a:gd name="adj2" fmla="val 70138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ак посматраног 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295280"/>
            <a:ext cx="1371600" cy="457200"/>
          </a:xfrm>
          <a:prstGeom prst="wedgeRoundRectCallout">
            <a:avLst>
              <a:gd name="adj1" fmla="val -47222"/>
              <a:gd name="adj2" fmla="val 322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к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85800"/>
            <a:ext cx="1143000" cy="457200"/>
          </a:xfrm>
          <a:prstGeom prst="wedgeRoundRectCallout">
            <a:avLst>
              <a:gd name="adj1" fmla="val 8750"/>
              <a:gd name="adj2" fmla="val 235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990720"/>
            <a:ext cx="1752480" cy="457200"/>
          </a:xfrm>
          <a:prstGeom prst="wedgeRoundRectCallout">
            <a:avLst>
              <a:gd name="adj1" fmla="val 7518"/>
              <a:gd name="adj2" fmla="val 196180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416 4.56647E-006 E">
                                      <p:cBhvr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 4.56647E-006 E">
                                      <p:cBhvr>
                                        <p:cTn id="11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56647E-006 L 0.15417 4.56647E-006 E">
                                      <p:cBhvr>
                                        <p:cTn id="11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1.09827E-006 L 0.28333 -0.14428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4.56647E-006 L 0.3375 0.01109 E">
                                      <p:cBhvr>
                                        <p:cTn id="1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 4.56647E-006 L 0.38333 0.19976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14428 L 0.67084 -0.13318 E">
                                      <p:cBhvr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0111 L 0.72083 0.0222 E">
                                      <p:cBhvr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333 0.19976 L 0.75833 0.21086 E">
                                      <p:cBhvr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84 -0.13318 L 0.8375 0.03329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083 0.02219 L 0.8375 0.03329 E">
                                      <p:cBhvr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33 0.21086 L 0.84166 0.03329 E">
                                      <p:cBhvr>
                                        <p:cTn id="15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095880" cy="36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477120" y="533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28600"/>
            <a:ext cx="25909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Додавање пуфера и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160020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опште дошли до оваквог лејаута прво смо морали да прекинемо излазно-улазне везе између сва три конвејера и понор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nk)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ом смо повезали конвејере и пуфер, пуфер и понор, док смо централном везом спојили пуфер и виљушк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7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вде нема диспечера јер постоји само један виљушка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464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о и код претходног пуфера и овде морамо да чекирамо употребу транспор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48520" y="3049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Додавање 3 селективна палетна рег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6019560" cy="4065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629400" y="1828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о је прво прекинути везе између пуфера и понора па затим повезати пуфер и регале као на с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791320" y="685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762120" y="1066680"/>
          <a:ext cx="4038480" cy="20098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Врста произ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5257800" y="990720"/>
            <a:ext cx="3505320" cy="1904760"/>
          </a:xfrm>
          <a:prstGeom prst="wedgeRoundRectCallout">
            <a:avLst>
              <a:gd name="adj1" fmla="val -65851"/>
              <a:gd name="adj2" fmla="val 2691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 који одговарају овим портовима су у ствари рег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380988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поставимо да треба да рутирамо производе у складу са горњом табелом. За сваку акцију која се може или мора представити табеларно постоји разрађен механизам глобалних табела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lobal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a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ако поставити глобалну табел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“ToolBox”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коницу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Add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Edit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финишите број редова и колона и притисн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Apply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ајте име табе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битно је да ли су мала или велика слов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На табелу се у току рада позивамо њеним именом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4120" y="1523880"/>
          <a:ext cx="9903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9903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228600" y="762120"/>
            <a:ext cx="2057400" cy="533160"/>
          </a:xfrm>
          <a:prstGeom prst="wedgeRoundRectCallout">
            <a:avLst>
              <a:gd name="adj1" fmla="val 93828"/>
              <a:gd name="adj2" fmla="val 4910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629400" y="2133720"/>
            <a:ext cx="75240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7543800" y="297180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019920" y="3886200"/>
            <a:ext cx="1904760" cy="993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5029200" y="5276880"/>
            <a:ext cx="1981080" cy="490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486400" y="3733920"/>
            <a:ext cx="2882880" cy="1333440"/>
          </a:xfrm>
          <a:custGeom>
            <a:avLst/>
            <a:gdLst/>
            <a:ahLst/>
            <a:rect l="l" t="t" r="r" b="b"/>
            <a:pathLst>
              <a:path w="1816" h="840">
                <a:moveTo>
                  <a:pt x="240" y="56"/>
                </a:moveTo>
                <a:cubicBezTo>
                  <a:pt x="168" y="120"/>
                  <a:pt x="96" y="184"/>
                  <a:pt x="96" y="296"/>
                </a:cubicBezTo>
                <a:cubicBezTo>
                  <a:pt x="96" y="408"/>
                  <a:pt x="120" y="640"/>
                  <a:pt x="240" y="728"/>
                </a:cubicBezTo>
                <a:cubicBezTo>
                  <a:pt x="360" y="816"/>
                  <a:pt x="576" y="840"/>
                  <a:pt x="816" y="824"/>
                </a:cubicBezTo>
                <a:cubicBezTo>
                  <a:pt x="1056" y="808"/>
                  <a:pt x="1544" y="752"/>
                  <a:pt x="1680" y="632"/>
                </a:cubicBezTo>
                <a:cubicBezTo>
                  <a:pt x="1816" y="512"/>
                  <a:pt x="1808" y="208"/>
                  <a:pt x="1632" y="104"/>
                </a:cubicBezTo>
                <a:cubicBezTo>
                  <a:pt x="1456" y="0"/>
                  <a:pt x="896" y="0"/>
                  <a:pt x="624" y="8"/>
                </a:cubicBezTo>
                <a:cubicBezTo>
                  <a:pt x="352" y="16"/>
                  <a:pt x="104" y="120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6480" y="5156280"/>
            <a:ext cx="267948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" y="64"/>
                </a:moveTo>
                <a:cubicBezTo>
                  <a:pt x="84" y="152"/>
                  <a:pt x="0" y="240"/>
                  <a:pt x="24" y="304"/>
                </a:cubicBezTo>
                <a:cubicBezTo>
                  <a:pt x="48" y="368"/>
                  <a:pt x="104" y="424"/>
                  <a:pt x="312" y="448"/>
                </a:cubicBezTo>
                <a:cubicBezTo>
                  <a:pt x="520" y="472"/>
                  <a:pt x="1056" y="456"/>
                  <a:pt x="1272" y="448"/>
                </a:cubicBezTo>
                <a:cubicBezTo>
                  <a:pt x="1488" y="440"/>
                  <a:pt x="1544" y="456"/>
                  <a:pt x="1608" y="400"/>
                </a:cubicBezTo>
                <a:cubicBezTo>
                  <a:pt x="1672" y="344"/>
                  <a:pt x="1688" y="176"/>
                  <a:pt x="1656" y="112"/>
                </a:cubicBezTo>
                <a:cubicBezTo>
                  <a:pt x="1624" y="48"/>
                  <a:pt x="1576" y="32"/>
                  <a:pt x="1416" y="16"/>
                </a:cubicBezTo>
                <a:cubicBezTo>
                  <a:pt x="1256" y="0"/>
                  <a:pt x="888" y="16"/>
                  <a:pt x="696" y="16"/>
                </a:cubicBezTo>
                <a:cubicBezTo>
                  <a:pt x="504" y="16"/>
                  <a:pt x="376" y="0"/>
                  <a:pt x="264" y="16"/>
                </a:cubicBezTo>
                <a:cubicBezTo>
                  <a:pt x="152" y="32"/>
                  <a:pt x="88" y="72"/>
                  <a:pt x="24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495680" y="76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д пуфера производи заиста продужавали пут ка регалима у складу са табелом, потребно је изабрати опцију у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28600" y="1549440"/>
          <a:ext cx="61722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9440"/>
                    <a:ext cx="61722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362320" y="4941720"/>
            <a:ext cx="5943600" cy="1362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486400" y="3429000"/>
            <a:ext cx="8380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3048120"/>
            <a:ext cx="457200" cy="49536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4" y="120"/>
                </a:moveTo>
                <a:cubicBezTo>
                  <a:pt x="0" y="176"/>
                  <a:pt x="32" y="336"/>
                  <a:pt x="72" y="360"/>
                </a:cubicBezTo>
                <a:cubicBezTo>
                  <a:pt x="112" y="384"/>
                  <a:pt x="240" y="320"/>
                  <a:pt x="264" y="264"/>
                </a:cubicBezTo>
                <a:cubicBezTo>
                  <a:pt x="288" y="208"/>
                  <a:pt x="264" y="48"/>
                  <a:pt x="216" y="24"/>
                </a:cubicBezTo>
                <a:cubicBezTo>
                  <a:pt x="168" y="0"/>
                  <a:pt x="48" y="64"/>
                  <a:pt x="24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181480" y="152280"/>
            <a:ext cx="396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24480" y="45720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ма тип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Network Nod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 обезбеђује да транспортери прате сложену путањ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у ови објекти форм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248520" cy="4219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62520" y="3429000"/>
            <a:ext cx="533160" cy="393840"/>
          </a:xfrm>
          <a:custGeom>
            <a:avLst/>
            <a:gdLst/>
            <a:ahLst/>
            <a:rect l="l" t="t" r="r" b="b"/>
            <a:pathLst>
              <a:path w="336" h="248">
                <a:moveTo>
                  <a:pt x="96" y="72"/>
                </a:moveTo>
                <a:cubicBezTo>
                  <a:pt x="80" y="132"/>
                  <a:pt x="64" y="192"/>
                  <a:pt x="96" y="216"/>
                </a:cubicBezTo>
                <a:cubicBezTo>
                  <a:pt x="128" y="240"/>
                  <a:pt x="256" y="248"/>
                  <a:pt x="288" y="216"/>
                </a:cubicBezTo>
                <a:cubicBezTo>
                  <a:pt x="320" y="184"/>
                  <a:pt x="336" y="48"/>
                  <a:pt x="288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419720" y="3733920"/>
            <a:ext cx="21333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66880" y="9907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утања се формира коришћењем неколик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Network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Nodes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везаних 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, исто као код излазно-улазних портов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кар један Мрежни чвор мора бити повезан са сваком утоварном и истоварном станицом. У нашем случају са пуфером и регалима. Опет користим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у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ранспортер се додељује путањи повезивањем са било којим мрежним чвором у путањи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543800" y="4572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33520" y="5257800"/>
            <a:ext cx="2057400" cy="533520"/>
          </a:xfrm>
          <a:prstGeom prst="wedgeRoundRectCallout">
            <a:avLst>
              <a:gd name="adj1" fmla="val 46912"/>
              <a:gd name="adj2" fmla="val -1148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ао код излазно-улазних портов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 спајању види се зелена линија као и средишна тачка која одређује кривину.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њем тачке закривљујемо пут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 клик на средишњу тачку додаје још једну тачк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800600" y="1143000"/>
          <a:ext cx="35989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598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800600" y="2514600"/>
          <a:ext cx="35989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598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8267760" y="2743200"/>
          <a:ext cx="1904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7760" y="274320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876920" y="3962520"/>
          <a:ext cx="338112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962520"/>
                    <a:ext cx="33811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800600" y="5181480"/>
          <a:ext cx="33526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181480"/>
                    <a:ext cx="3352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781680" cy="4579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562720" y="228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утоварних и истоварних ст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ве 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095520" y="304812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819160" y="3048120"/>
            <a:ext cx="4800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162920" cy="48369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800600" y="30492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транспор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915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Црвена ли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5320" y="289548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04920"/>
            <a:ext cx="2133720" cy="685800"/>
          </a:xfrm>
          <a:prstGeom prst="wedgeRoundRectCallout">
            <a:avLst>
              <a:gd name="adj1" fmla="val -12722"/>
              <a:gd name="adj2" fmla="val 205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4991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410080" y="3808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з закривљене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4038480"/>
            <a:ext cx="38124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648320"/>
            <a:ext cx="38124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10080"/>
            <a:ext cx="38124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28800"/>
            <a:ext cx="1218960" cy="10666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1752480"/>
            <a:ext cx="1904760" cy="838440"/>
          </a:xfrm>
          <a:prstGeom prst="cloudCallout">
            <a:avLst>
              <a:gd name="adj1" fmla="val -69500"/>
              <a:gd name="adj2" fmla="val 24810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828800"/>
            <a:ext cx="2209680" cy="914400"/>
          </a:xfrm>
          <a:prstGeom prst="cloudCallout">
            <a:avLst>
              <a:gd name="adj1" fmla="val -56250"/>
              <a:gd name="adj2" fmla="val 1041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4343400"/>
            <a:ext cx="1752840" cy="1066680"/>
          </a:xfrm>
          <a:prstGeom prst="cloudCallout">
            <a:avLst>
              <a:gd name="adj1" fmla="val -84962"/>
              <a:gd name="adj2" fmla="val 13245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86800">
            <a:off x="685800" y="3352320"/>
            <a:ext cx="380880" cy="1752840"/>
          </a:xfrm>
          <a:custGeom>
            <a:avLst/>
            <a:gdLst>
              <a:gd name="textAreaLeft" fmla="*/ 50760 w 380880"/>
              <a:gd name="textAreaRight" fmla="*/ 330120 w 380880"/>
              <a:gd name="textAreaTop" fmla="*/ 361080 h 1752840"/>
              <a:gd name="textAreaBottom" fmla="*/ 121644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0537"/>
                </a:lnTo>
                <a:arcTo wR="21600" hR="8903" stAng="10800000" swAng="-2962674"/>
                <a:lnTo>
                  <a:pt x="14400" y="21091"/>
                </a:lnTo>
                <a:lnTo>
                  <a:pt x="21600" y="18623"/>
                </a:lnTo>
                <a:lnTo>
                  <a:pt x="14400" y="15137"/>
                </a:lnTo>
                <a:lnTo>
                  <a:pt x="14400" y="17297"/>
                </a:lnTo>
                <a:arcTo wR="21600" hR="8903" stAng="7837326" swAng="2832156"/>
                <a:lnTo>
                  <a:pt x="91" y="9720"/>
                </a:lnTo>
                <a:arcTo wR="21600" hR="8903" stAng="-10669482" swAng="5269482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130518"/>
                <a:lnTo>
                  <a:pt x="91" y="9720"/>
                </a:lnTo>
                <a:arcTo wR="21600" hR="8903" stAng="-10669482" swAng="5269482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33560" y="304920"/>
            <a:ext cx="5105160" cy="838080"/>
            <a:chOff x="3733560" y="304920"/>
            <a:chExt cx="5105160" cy="838080"/>
          </a:xfrm>
        </p:grpSpPr>
        <p:sp>
          <p:nvSpPr>
            <p:cNvPr id="187" name="File"/>
            <p:cNvSpPr/>
            <p:nvPr/>
          </p:nvSpPr>
          <p:spPr>
            <a:xfrm rot="10800000">
              <a:off x="3733560" y="304560"/>
              <a:ext cx="5105160" cy="83808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33920" y="365760"/>
              <a:ext cx="491724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онешто о терминологиј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43200" y="4191120"/>
            <a:ext cx="2590920" cy="1371600"/>
          </a:xfrm>
          <a:prstGeom prst="cloudCallout">
            <a:avLst>
              <a:gd name="adj1" fmla="val -56004"/>
              <a:gd name="adj2" fmla="val -7754"/>
            </a:avLst>
          </a:prstGeom>
          <a:solidFill>
            <a:srgbClr val="cde4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 или врст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ocuments"/>
          <p:cNvSpPr/>
          <p:nvPr/>
        </p:nvSpPr>
        <p:spPr>
          <a:xfrm>
            <a:off x="380880" y="1219320"/>
            <a:ext cx="8534520" cy="541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да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лејаута – превлачење објеката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тока производа кроз модел – повезивање објеката уз помоћ пор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аљније одређење објеката променом њихових парамет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но компајлирање и пуштање модела у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упљање и обрада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738000">
            <a:off x="3136320" y="139680"/>
            <a:ext cx="838440" cy="2235240"/>
          </a:xfrm>
          <a:custGeom>
            <a:avLst/>
            <a:gdLst>
              <a:gd name="textAreaLeft" fmla="*/ 112320 w 838440"/>
              <a:gd name="textAreaRight" fmla="*/ 726120 w 838440"/>
              <a:gd name="textAreaTop" fmla="*/ 390960 h 2235240"/>
              <a:gd name="textAreaBottom" fmla="*/ 162072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160" y="228240"/>
            <a:ext cx="3809880" cy="1676520"/>
            <a:chOff x="5105160" y="228240"/>
            <a:chExt cx="3809880" cy="1676520"/>
          </a:xfrm>
        </p:grpSpPr>
        <p:sp>
          <p:nvSpPr>
            <p:cNvPr id="193" name="File"/>
            <p:cNvSpPr/>
            <p:nvPr/>
          </p:nvSpPr>
          <p:spPr>
            <a:xfrm rot="10800000">
              <a:off x="5105160" y="227880"/>
              <a:ext cx="3809880" cy="167652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181480" y="288360"/>
              <a:ext cx="362916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5:55:37Z</dcterms:created>
  <dc:creator>trn</dc:creator>
  <dc:description/>
  <dc:language>en-US</dc:language>
  <cp:lastModifiedBy>515-n</cp:lastModifiedBy>
  <dcterms:modified xsi:type="dcterms:W3CDTF">2008-11-24T16:30:53Z</dcterms:modified>
  <cp:revision>68</cp:revision>
  <dc:subject/>
  <dc:title>Slide 1</dc:title>
</cp:coreProperties>
</file>