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6.jpeg" ContentType="image/jpeg"/>
  <Override PartName="/ppt/media/image58.png" ContentType="image/png"/>
  <Override PartName="/ppt/media/image55.png" ContentType="image/png"/>
  <Override PartName="/ppt/media/image45.jpeg" ContentType="image/jpeg"/>
  <Override PartName="/ppt/media/image48.png" ContentType="image/png"/>
  <Override PartName="/ppt/media/image44.jpeg" ContentType="image/jpeg"/>
  <Override PartName="/ppt/media/image38.png" ContentType="image/png"/>
  <Override PartName="/ppt/media/image42.png" ContentType="image/png"/>
  <Override PartName="/ppt/media/image41.png" ContentType="image/png"/>
  <Override PartName="/ppt/media/image49.jpeg" ContentType="image/jpeg"/>
  <Override PartName="/ppt/media/image16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75.png" ContentType="image/png"/>
  <Override PartName="/ppt/media/image26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0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E22C-DF91-4C02-866D-41F60DCBB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CCD7-41D0-4979-A5D8-8202DD702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B4D1-0F41-4F4D-92B7-642BC96F5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4F26-4704-4D2E-8774-D3B296324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3392-3F3A-4C88-82A4-E2F91321D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ECED-2A31-4F16-89E3-A0EFFDAD2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EB8B-5240-4C6F-9C21-74481EF39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D3AC-2769-44C9-9762-2D087A360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8B3D-0DA3-4ABA-BE87-4140EB4EC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7F5D-841F-4705-AF8D-6C1B7A4B4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0FF6-C4F5-499E-832A-62BD9F8E0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44B1-A03D-4ED6-A861-D244864A7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122400"/>
            <a:ext cx="1447560" cy="8683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676520" y="274680"/>
            <a:ext cx="2409840" cy="4474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2209680" y="1371600"/>
            <a:ext cx="459432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B305-1EC3-4C14-B9D1-4614CB1115B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c4af64"/>
          </a:solidFill>
          <a:ln w="9360">
            <a:solidFill>
              <a:srgbClr val="c4af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0"/>
            <a:ext cx="75960" cy="6858000"/>
          </a:xfrm>
          <a:prstGeom prst="rect">
            <a:avLst/>
          </a:prstGeom>
          <a:solidFill>
            <a:srgbClr val="00006a"/>
          </a:solidFill>
          <a:ln w="9360">
            <a:solidFill>
              <a:srgbClr val="00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png"/><Relationship Id="rId11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2666520" y="914400"/>
            <a:ext cx="6172200" cy="1047600"/>
            <a:chOff x="2666520" y="914400"/>
            <a:chExt cx="6172200" cy="1047600"/>
          </a:xfrm>
        </p:grpSpPr>
        <p:sp>
          <p:nvSpPr>
            <p:cNvPr id="81" name="File"/>
            <p:cNvSpPr/>
            <p:nvPr/>
          </p:nvSpPr>
          <p:spPr>
            <a:xfrm rot="10800000">
              <a:off x="2666520" y="914040"/>
              <a:ext cx="6172200" cy="10476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66880" y="990720"/>
              <a:ext cx="594360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Симулација у пакету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exsim 3.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1"/>
          <a:srcRect l="52780" t="28349" r="30558" b="54896"/>
          <a:stretch/>
        </p:blipFill>
        <p:spPr>
          <a:xfrm>
            <a:off x="2057400" y="3048120"/>
            <a:ext cx="4419720" cy="2930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43521" r="82888" b="22507"/>
          <a:stretch/>
        </p:blipFill>
        <p:spPr>
          <a:xfrm>
            <a:off x="2514600" y="2286000"/>
            <a:ext cx="1295280" cy="1136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rcRect l="0" t="28240" r="89433" b="55818"/>
          <a:stretch/>
        </p:blipFill>
        <p:spPr>
          <a:xfrm>
            <a:off x="685800" y="1523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 са миш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View Window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(манипулација погледом на модел)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T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анслирање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леви клик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отација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сни клик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Зум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леви и десни клик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точкић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Object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(манипулација објектима) 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T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анслација по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X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Y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 ос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леви клик на објекат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T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анслација по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Z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 ос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сн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 леви клик на објекат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X,Y,Z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отација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сни клик на објекат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Промена величине по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X and Y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леви клик на жуту тачку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Промена величине по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Z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сн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 леви клик на жуту тачку 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28800" y="457200"/>
            <a:ext cx="4952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Дефинисање лејаут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1623960" cy="4038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066680" y="762120"/>
            <a:ext cx="7467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Левим тастером миша превуците објекте из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6a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bjects </a:t>
            </a:r>
            <a:r>
              <a:rPr b="0" lang="sr-Latn-CS" sz="2000" spc="-1" strike="noStrike">
                <a:solidFill>
                  <a:srgbClr val="00006a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ibrary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(библиотеке објеката) и поставите их на радну повр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мерајте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ротирајте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или мењајте величину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бјеката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мишем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54864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6476760" cy="3441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09480" y="1371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Док држите типку 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“A”, 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кликните и вуците да би сте створили излазно-улазну везу (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output to input port connection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између објеката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Ове везе су потребне да би се означио ток произ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 Дефинисање тока производа кроз модел-повезивање објеката уз помоћ пор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90720" y="1828800"/>
            <a:ext cx="701028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52480" y="91404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ипке које се користе за повезивање портов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797200"/>
            <a:ext cx="4419720" cy="3070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07120" y="4572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481f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30080" y="312408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481f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64160" y="3124080"/>
            <a:ext cx="9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481f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6800" y="457200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481f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43434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198108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3352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Раздвај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4800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пај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1828800"/>
            <a:ext cx="3047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Излазни са улаз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utputs to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05520" y="1828800"/>
            <a:ext cx="3504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Централни са централ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Center to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не врсте вез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32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Поред излазно-улазних веза (о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utput to input port connections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) постоје и централне везе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Централне везе (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Center port to center port connections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се најчешће користе да би неки фиксирани објекат (</a:t>
            </a:r>
            <a:r>
              <a:rPr b="0" lang="sr-Latn-CS" sz="2200" spc="-1" strike="noStrike">
                <a:solidFill>
                  <a:srgbClr val="00006a"/>
                </a:solidFill>
                <a:latin typeface="Arial"/>
              </a:rPr>
              <a:t>Fixed Resource) 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позвао транспорт или ’’помоћ’’ при раду </a:t>
            </a:r>
            <a:r>
              <a:rPr b="0" lang="sr-Latn-CS" sz="2200" spc="-1" strike="noStrike">
                <a:solidFill>
                  <a:srgbClr val="00006a"/>
                </a:solidFill>
                <a:latin typeface="Arial"/>
              </a:rPr>
              <a:t>(Transporter, Operator)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.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Дакле, излазно-улазним везама се </a:t>
            </a:r>
            <a:r>
              <a:rPr b="0" lang="sr-CS" sz="2200" spc="-1" strike="noStrike" u="sng">
                <a:solidFill>
                  <a:srgbClr val="ff3300"/>
                </a:solidFill>
                <a:uFillTx/>
                <a:latin typeface="Arial"/>
              </a:rPr>
              <a:t>искључиво</a:t>
            </a: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 спајају фиксирани објекти (</a:t>
            </a:r>
            <a:r>
              <a:rPr b="0" lang="sr-Latn-CS" sz="2200" spc="-1" strike="noStrike">
                <a:solidFill>
                  <a:srgbClr val="ff3300"/>
                </a:solidFill>
                <a:latin typeface="Arial"/>
              </a:rPr>
              <a:t>Source,Queue,Processor)</a:t>
            </a: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, док је централним везама омогућено спајање било које комбинације фиксни – мобилни ресурс.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52480" y="8380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ејаут по завршетку повези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80880" y="1828800"/>
          <a:ext cx="830592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0592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91120" y="609120"/>
            <a:ext cx="4952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. Детаљније одређење објеката променом њихових параметара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3200400"/>
            <a:ext cx="99036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Изв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124080"/>
            <a:ext cx="1066680" cy="914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уф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2057400"/>
            <a:ext cx="11430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2286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01000" y="3048120"/>
            <a:ext cx="91440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он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200400"/>
            <a:ext cx="12193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419720"/>
            <a:ext cx="114300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3429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4648320"/>
            <a:ext cx="25909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295280" y="31240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666880" y="20570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31240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3124080"/>
            <a:ext cx="609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43400" y="20574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3200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4419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15200" y="228600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91520" y="34290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391520" y="35049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3048120"/>
            <a:ext cx="76212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924320" y="3124080"/>
            <a:ext cx="83844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2133720"/>
            <a:ext cx="1523880" cy="609480"/>
          </a:xfrm>
          <a:prstGeom prst="wedgeRoundRectCallout">
            <a:avLst>
              <a:gd name="adj1" fmla="val 19689"/>
              <a:gd name="adj2" fmla="val 114064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ацитет пуф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990720"/>
            <a:ext cx="2133720" cy="685800"/>
          </a:xfrm>
          <a:prstGeom prst="wedgeRoundRectCallout">
            <a:avLst>
              <a:gd name="adj1" fmla="val 36162"/>
              <a:gd name="adj2" fmla="val 10601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 обра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xponential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5486400"/>
            <a:ext cx="3048120" cy="457200"/>
          </a:xfrm>
          <a:prstGeom prst="wedgeRoundRectCallout">
            <a:avLst>
              <a:gd name="adj1" fmla="val -26717"/>
              <a:gd name="adj2" fmla="val -157986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вејера: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495680"/>
            <a:ext cx="1904760" cy="1295640"/>
          </a:xfrm>
          <a:prstGeom prst="wedgeRoundRectCallout">
            <a:avLst>
              <a:gd name="adj1" fmla="val -30083"/>
              <a:gd name="adj2" fmla="val -90564"/>
              <a:gd name="adj3" fmla="val 16667"/>
            </a:avLst>
          </a:prstGeom>
          <a:solidFill>
            <a:srgbClr val="567e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 између наилазака произ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ormal(20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ocuments"/>
          <p:cNvSpPr/>
          <p:nvPr/>
        </p:nvSpPr>
        <p:spPr>
          <a:xfrm>
            <a:off x="304920" y="1371600"/>
            <a:ext cx="4343400" cy="3276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смо унели параметре са претходног слајда морамо да приступимо параметарским прозорима објеката који сачињавају наш леја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5257800" y="4648320"/>
            <a:ext cx="3352680" cy="17524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упли клик на објекат, или десни клик па изабер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809880" y="228240"/>
            <a:ext cx="5105520" cy="1085400"/>
            <a:chOff x="3809880" y="228240"/>
            <a:chExt cx="5105520" cy="1085400"/>
          </a:xfrm>
        </p:grpSpPr>
        <p:sp>
          <p:nvSpPr>
            <p:cNvPr id="251" name="File"/>
            <p:cNvSpPr/>
            <p:nvPr/>
          </p:nvSpPr>
          <p:spPr>
            <a:xfrm rot="10800000">
              <a:off x="3809880" y="227880"/>
              <a:ext cx="5105520" cy="10854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09880" y="307440"/>
              <a:ext cx="49176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Parameters Window (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араметарски прозор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 rot="1740000">
            <a:off x="4191120" y="3428640"/>
            <a:ext cx="2286000" cy="51912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69480 h 519120"/>
              <a:gd name="textAreaBottom" fmla="*/ 449640 h 51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rot="19687200">
            <a:off x="1980720" y="762120"/>
            <a:ext cx="1676880" cy="533160"/>
          </a:xfrm>
          <a:custGeom>
            <a:avLst/>
            <a:gdLst>
              <a:gd name="textAreaLeft" fmla="*/ 293400 w 1676880"/>
              <a:gd name="textAreaRight" fmla="*/ 1215720 w 16768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 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вака врста објекта има свој параметарски прозор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араметри одређују време које производи проведу у објекту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араметри упућују поједине врсте производа ка одређеним портовима.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343400" y="1523880"/>
          <a:ext cx="44546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523880"/>
                    <a:ext cx="4454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 tabs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Параметарске странице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ваки параметарски прозор има своје параметарске странице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араметри су груписани у странице, по својој врсти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ваки фиксирани објекат има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“Flow”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 (ток) и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“Triggers”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(окидачи) страницу.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мада неки објекти имају више окидача од осталих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57080" y="3251160"/>
          <a:ext cx="4175280" cy="15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3251160"/>
                    <a:ext cx="417528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4191120" y="4648320"/>
          <a:ext cx="4190760" cy="16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4648320"/>
                    <a:ext cx="4190760" cy="16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505320" y="380880"/>
            <a:ext cx="5333760" cy="1047600"/>
            <a:chOff x="3505320" y="380880"/>
            <a:chExt cx="5333760" cy="1047600"/>
          </a:xfrm>
        </p:grpSpPr>
        <p:sp>
          <p:nvSpPr>
            <p:cNvPr id="87" name="File"/>
            <p:cNvSpPr/>
            <p:nvPr/>
          </p:nvSpPr>
          <p:spPr>
            <a:xfrm rot="10800000">
              <a:off x="3505320" y="380520"/>
              <a:ext cx="5333760" cy="10476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05320" y="457200"/>
              <a:ext cx="513612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Врсте симулационог софтве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410080" y="3962520"/>
            <a:ext cx="1752840" cy="53316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8862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AN - Are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962520"/>
            <a:ext cx="3353040" cy="533160"/>
          </a:xfrm>
          <a:prstGeom prst="flowChartTerminator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cument"/>
          <p:cNvSpPr/>
          <p:nvPr/>
        </p:nvSpPr>
        <p:spPr>
          <a:xfrm>
            <a:off x="457200" y="5257800"/>
            <a:ext cx="8077320" cy="5335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есплатни софтвер отвореног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cument"/>
          <p:cNvSpPr/>
          <p:nvPr/>
        </p:nvSpPr>
        <p:spPr>
          <a:xfrm>
            <a:off x="457200" y="1523880"/>
            <a:ext cx="8077320" cy="5335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мерцијални софт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2286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286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22860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22860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yl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38862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exs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160" y="297180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ant  (Simple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29718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GA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MU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2971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mu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6600" y="60958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m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3429000" y="228240"/>
            <a:ext cx="5410080" cy="1085400"/>
            <a:chOff x="3429000" y="228240"/>
            <a:chExt cx="5410080" cy="1085400"/>
          </a:xfrm>
        </p:grpSpPr>
        <p:sp>
          <p:nvSpPr>
            <p:cNvPr id="266" name="File"/>
            <p:cNvSpPr/>
            <p:nvPr/>
          </p:nvSpPr>
          <p:spPr>
            <a:xfrm rot="10800000">
              <a:off x="3429000" y="227880"/>
              <a:ext cx="5410080" cy="10854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307440"/>
              <a:ext cx="52110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 параметар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објекта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Source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(Извор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 flipH="1" rot="19687200">
            <a:off x="1523520" y="990720"/>
            <a:ext cx="1676880" cy="533160"/>
          </a:xfrm>
          <a:custGeom>
            <a:avLst/>
            <a:gdLst>
              <a:gd name="textAreaLeft" fmla="*/ 293400 w 1676880"/>
              <a:gd name="textAreaRight" fmla="*/ 1215720 w 16768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ocuments"/>
          <p:cNvSpPr/>
          <p:nvPr/>
        </p:nvSpPr>
        <p:spPr>
          <a:xfrm>
            <a:off x="228600" y="1981080"/>
            <a:ext cx="4343400" cy="20574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еме између наилазака произв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ormal(20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740000">
            <a:off x="4191120" y="3123720"/>
            <a:ext cx="2286000" cy="51912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69480 h 519120"/>
              <a:gd name="textAreaBottom" fmla="*/ 449640 h 51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ocuments"/>
          <p:cNvSpPr/>
          <p:nvPr/>
        </p:nvSpPr>
        <p:spPr>
          <a:xfrm>
            <a:off x="3962520" y="4267080"/>
            <a:ext cx="3886200" cy="20574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дељивање врсте и јединстве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је производ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uniform(1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74" name=""/>
          <p:cNvSpPr/>
          <p:nvPr/>
        </p:nvSpPr>
        <p:spPr>
          <a:xfrm>
            <a:off x="317520" y="1892160"/>
            <a:ext cx="4863960" cy="546120"/>
          </a:xfrm>
          <a:custGeom>
            <a:avLst/>
            <a:gdLst/>
            <a:ahLst/>
            <a:rect l="l" t="t" r="r" b="b"/>
            <a:pathLst>
              <a:path w="3208" h="335">
                <a:moveTo>
                  <a:pt x="477" y="42"/>
                </a:moveTo>
                <a:cubicBezTo>
                  <a:pt x="345" y="0"/>
                  <a:pt x="196" y="9"/>
                  <a:pt x="65" y="51"/>
                </a:cubicBezTo>
                <a:cubicBezTo>
                  <a:pt x="2" y="93"/>
                  <a:pt x="17" y="67"/>
                  <a:pt x="1" y="115"/>
                </a:cubicBezTo>
                <a:cubicBezTo>
                  <a:pt x="4" y="152"/>
                  <a:pt x="0" y="190"/>
                  <a:pt x="10" y="225"/>
                </a:cubicBezTo>
                <a:cubicBezTo>
                  <a:pt x="18" y="251"/>
                  <a:pt x="144" y="270"/>
                  <a:pt x="157" y="271"/>
                </a:cubicBezTo>
                <a:cubicBezTo>
                  <a:pt x="233" y="276"/>
                  <a:pt x="309" y="277"/>
                  <a:pt x="385" y="280"/>
                </a:cubicBezTo>
                <a:cubicBezTo>
                  <a:pt x="681" y="304"/>
                  <a:pt x="300" y="275"/>
                  <a:pt x="934" y="298"/>
                </a:cubicBezTo>
                <a:cubicBezTo>
                  <a:pt x="1125" y="305"/>
                  <a:pt x="911" y="303"/>
                  <a:pt x="1034" y="317"/>
                </a:cubicBezTo>
                <a:cubicBezTo>
                  <a:pt x="1073" y="321"/>
                  <a:pt x="1310" y="334"/>
                  <a:pt x="1336" y="335"/>
                </a:cubicBezTo>
                <a:cubicBezTo>
                  <a:pt x="1871" y="327"/>
                  <a:pt x="1743" y="335"/>
                  <a:pt x="1985" y="335"/>
                </a:cubicBezTo>
                <a:lnTo>
                  <a:pt x="3208" y="296"/>
                </a:lnTo>
                <a:lnTo>
                  <a:pt x="3016" y="8"/>
                </a:lnTo>
                <a:lnTo>
                  <a:pt x="534" y="99"/>
                </a:lnTo>
                <a:cubicBezTo>
                  <a:pt x="534" y="99"/>
                  <a:pt x="477" y="42"/>
                  <a:pt x="477" y="4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81480" y="2362320"/>
            <a:ext cx="20574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1447920"/>
            <a:ext cx="3962520" cy="16002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Начин, стил наиласка проиво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Одређен временом између наилаз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4114800"/>
            <a:ext cx="3810240" cy="1219320"/>
          </a:xfrm>
          <a:custGeom>
            <a:avLst/>
            <a:gdLst>
              <a:gd name="textAreaLeft" fmla="*/ 869760 w 3810240"/>
              <a:gd name="textAreaRight" fmla="*/ 2940480 w 381024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збор расподеле вероватно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која описује време између наилаз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47760" y="4952880"/>
            <a:ext cx="7043760" cy="708120"/>
          </a:xfrm>
          <a:custGeom>
            <a:avLst/>
            <a:gdLst/>
            <a:ahLst/>
            <a:rect l="l" t="t" r="r" b="b"/>
            <a:pathLst>
              <a:path w="4437" h="446">
                <a:moveTo>
                  <a:pt x="220" y="89"/>
                </a:moveTo>
                <a:cubicBezTo>
                  <a:pt x="166" y="95"/>
                  <a:pt x="124" y="99"/>
                  <a:pt x="74" y="117"/>
                </a:cubicBezTo>
                <a:cubicBezTo>
                  <a:pt x="10" y="179"/>
                  <a:pt x="38" y="136"/>
                  <a:pt x="19" y="199"/>
                </a:cubicBezTo>
                <a:cubicBezTo>
                  <a:pt x="13" y="218"/>
                  <a:pt x="0" y="254"/>
                  <a:pt x="0" y="254"/>
                </a:cubicBezTo>
                <a:cubicBezTo>
                  <a:pt x="3" y="278"/>
                  <a:pt x="3" y="303"/>
                  <a:pt x="10" y="327"/>
                </a:cubicBezTo>
                <a:cubicBezTo>
                  <a:pt x="29" y="394"/>
                  <a:pt x="141" y="416"/>
                  <a:pt x="202" y="427"/>
                </a:cubicBezTo>
                <a:cubicBezTo>
                  <a:pt x="226" y="432"/>
                  <a:pt x="251" y="433"/>
                  <a:pt x="275" y="437"/>
                </a:cubicBezTo>
                <a:cubicBezTo>
                  <a:pt x="290" y="439"/>
                  <a:pt x="320" y="446"/>
                  <a:pt x="320" y="446"/>
                </a:cubicBezTo>
                <a:lnTo>
                  <a:pt x="1221" y="432"/>
                </a:lnTo>
                <a:lnTo>
                  <a:pt x="2277" y="432"/>
                </a:lnTo>
                <a:lnTo>
                  <a:pt x="3429" y="384"/>
                </a:lnTo>
                <a:lnTo>
                  <a:pt x="4389" y="384"/>
                </a:lnTo>
                <a:lnTo>
                  <a:pt x="4437" y="240"/>
                </a:lnTo>
                <a:lnTo>
                  <a:pt x="4101" y="48"/>
                </a:lnTo>
                <a:lnTo>
                  <a:pt x="3621" y="0"/>
                </a:lnTo>
                <a:lnTo>
                  <a:pt x="2469" y="48"/>
                </a:lnTo>
                <a:lnTo>
                  <a:pt x="1797" y="48"/>
                </a:lnTo>
                <a:lnTo>
                  <a:pt x="1173" y="48"/>
                </a:lnTo>
                <a:lnTo>
                  <a:pt x="501" y="48"/>
                </a:lnTo>
                <a:lnTo>
                  <a:pt x="261" y="48"/>
                </a:lnTo>
                <a:lnTo>
                  <a:pt x="165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91520" y="3657600"/>
            <a:ext cx="457200" cy="45720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48"/>
                </a:moveTo>
                <a:lnTo>
                  <a:pt x="0" y="240"/>
                </a:lnTo>
                <a:lnTo>
                  <a:pt x="48" y="336"/>
                </a:lnTo>
                <a:lnTo>
                  <a:pt x="144" y="336"/>
                </a:lnTo>
                <a:lnTo>
                  <a:pt x="240" y="336"/>
                </a:lnTo>
                <a:lnTo>
                  <a:pt x="240" y="192"/>
                </a:lnTo>
                <a:lnTo>
                  <a:pt x="192" y="48"/>
                </a:lnTo>
                <a:lnTo>
                  <a:pt x="96" y="0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315200" y="4038120"/>
            <a:ext cx="2286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2590920"/>
            <a:ext cx="2286000" cy="9903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d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дни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at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Кодни шаблон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480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лужи да се задају параметри 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екст браон боје се може мењати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Задајемо параметре нормалне расподеле </a:t>
            </a:r>
            <a:r>
              <a:rPr b="0" lang="el-GR" sz="2000" spc="-1" strike="noStrike">
                <a:solidFill>
                  <a:srgbClr val="00006a"/>
                </a:solidFill>
                <a:latin typeface="Arial"/>
                <a:ea typeface="Arial"/>
              </a:rPr>
              <a:t>μ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  <a:ea typeface="Arial"/>
              </a:rPr>
              <a:t>=20, </a:t>
            </a:r>
            <a:r>
              <a:rPr b="0" lang="el-GR" sz="2000" spc="-1" strike="noStrike">
                <a:solidFill>
                  <a:srgbClr val="00006a"/>
                </a:solidFill>
                <a:latin typeface="Arial"/>
                <a:ea typeface="Arial"/>
              </a:rPr>
              <a:t>σ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  <a:ea typeface="Arial"/>
              </a:rPr>
              <a:t>=2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670572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495680" y="304920"/>
            <a:ext cx="4343400" cy="1904760"/>
          </a:xfrm>
          <a:custGeom>
            <a:avLst/>
            <a:gdLst>
              <a:gd name="textAreaLeft" fmla="*/ 991440 w 4343400"/>
              <a:gd name="textAreaRight" fmla="*/ 3351960 w 4343400"/>
              <a:gd name="textAreaTop" fmla="*/ 434880 h 1904760"/>
              <a:gd name="textAreaBottom" fmla="*/ 14698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На параметарској страници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Source trig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задајемо врсту и боју произ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3520" y="4572000"/>
            <a:ext cx="6781680" cy="457200"/>
          </a:xfrm>
          <a:custGeom>
            <a:avLst/>
            <a:gdLst/>
            <a:ahLst/>
            <a:rect l="l" t="t" r="r" b="b"/>
            <a:pathLst>
              <a:path w="4437" h="446">
                <a:moveTo>
                  <a:pt x="220" y="89"/>
                </a:moveTo>
                <a:cubicBezTo>
                  <a:pt x="166" y="95"/>
                  <a:pt x="124" y="99"/>
                  <a:pt x="74" y="117"/>
                </a:cubicBezTo>
                <a:cubicBezTo>
                  <a:pt x="10" y="179"/>
                  <a:pt x="38" y="136"/>
                  <a:pt x="19" y="199"/>
                </a:cubicBezTo>
                <a:cubicBezTo>
                  <a:pt x="13" y="218"/>
                  <a:pt x="0" y="254"/>
                  <a:pt x="0" y="254"/>
                </a:cubicBezTo>
                <a:cubicBezTo>
                  <a:pt x="3" y="278"/>
                  <a:pt x="3" y="303"/>
                  <a:pt x="10" y="327"/>
                </a:cubicBezTo>
                <a:cubicBezTo>
                  <a:pt x="29" y="394"/>
                  <a:pt x="141" y="416"/>
                  <a:pt x="202" y="427"/>
                </a:cubicBezTo>
                <a:cubicBezTo>
                  <a:pt x="226" y="432"/>
                  <a:pt x="251" y="433"/>
                  <a:pt x="275" y="437"/>
                </a:cubicBezTo>
                <a:cubicBezTo>
                  <a:pt x="290" y="439"/>
                  <a:pt x="320" y="446"/>
                  <a:pt x="320" y="446"/>
                </a:cubicBezTo>
                <a:lnTo>
                  <a:pt x="1221" y="432"/>
                </a:lnTo>
                <a:lnTo>
                  <a:pt x="2277" y="432"/>
                </a:lnTo>
                <a:lnTo>
                  <a:pt x="3429" y="384"/>
                </a:lnTo>
                <a:lnTo>
                  <a:pt x="4389" y="384"/>
                </a:lnTo>
                <a:lnTo>
                  <a:pt x="4437" y="240"/>
                </a:lnTo>
                <a:lnTo>
                  <a:pt x="4101" y="48"/>
                </a:lnTo>
                <a:lnTo>
                  <a:pt x="3621" y="0"/>
                </a:lnTo>
                <a:lnTo>
                  <a:pt x="2469" y="48"/>
                </a:lnTo>
                <a:lnTo>
                  <a:pt x="1797" y="48"/>
                </a:lnTo>
                <a:lnTo>
                  <a:pt x="1173" y="48"/>
                </a:lnTo>
                <a:lnTo>
                  <a:pt x="501" y="48"/>
                </a:lnTo>
                <a:lnTo>
                  <a:pt x="261" y="48"/>
                </a:lnTo>
                <a:lnTo>
                  <a:pt x="165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91520" y="3429000"/>
            <a:ext cx="457200" cy="45720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48"/>
                </a:moveTo>
                <a:lnTo>
                  <a:pt x="0" y="240"/>
                </a:lnTo>
                <a:lnTo>
                  <a:pt x="48" y="336"/>
                </a:lnTo>
                <a:lnTo>
                  <a:pt x="144" y="336"/>
                </a:lnTo>
                <a:lnTo>
                  <a:pt x="240" y="336"/>
                </a:lnTo>
                <a:lnTo>
                  <a:pt x="240" y="192"/>
                </a:lnTo>
                <a:lnTo>
                  <a:pt x="192" y="48"/>
                </a:lnTo>
                <a:lnTo>
                  <a:pt x="96" y="0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7162920" y="3580920"/>
            <a:ext cx="2286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77120" y="2286000"/>
            <a:ext cx="2666880" cy="11430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d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дни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600200" y="3886200"/>
            <a:ext cx="5905440" cy="15811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37160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 кодном шаблону налазимо детаљнији опис оп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одели производу врсту са бројем равномерно расподељеним између 1 и 3, и свакој врсти производа дај јединствену бој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838080"/>
            <a:ext cx="5816520" cy="2971800"/>
          </a:xfrm>
          <a:custGeom>
            <a:avLst/>
            <a:gdLst/>
            <a:ahLst/>
            <a:rect l="l" t="t" r="r" b="b"/>
            <a:pathLst>
              <a:path w="3664" h="1872">
                <a:moveTo>
                  <a:pt x="768" y="136"/>
                </a:moveTo>
                <a:cubicBezTo>
                  <a:pt x="508" y="276"/>
                  <a:pt x="248" y="416"/>
                  <a:pt x="144" y="568"/>
                </a:cubicBezTo>
                <a:cubicBezTo>
                  <a:pt x="40" y="720"/>
                  <a:pt x="0" y="848"/>
                  <a:pt x="144" y="1048"/>
                </a:cubicBezTo>
                <a:cubicBezTo>
                  <a:pt x="288" y="1248"/>
                  <a:pt x="584" y="1664"/>
                  <a:pt x="1008" y="1768"/>
                </a:cubicBezTo>
                <a:cubicBezTo>
                  <a:pt x="1432" y="1872"/>
                  <a:pt x="2264" y="1792"/>
                  <a:pt x="2688" y="1672"/>
                </a:cubicBezTo>
                <a:cubicBezTo>
                  <a:pt x="3112" y="1552"/>
                  <a:pt x="3440" y="1264"/>
                  <a:pt x="3552" y="1048"/>
                </a:cubicBezTo>
                <a:cubicBezTo>
                  <a:pt x="3664" y="832"/>
                  <a:pt x="3536" y="544"/>
                  <a:pt x="3360" y="376"/>
                </a:cubicBezTo>
                <a:cubicBezTo>
                  <a:pt x="3184" y="208"/>
                  <a:pt x="2872" y="80"/>
                  <a:pt x="2496" y="40"/>
                </a:cubicBezTo>
                <a:cubicBezTo>
                  <a:pt x="2120" y="0"/>
                  <a:pt x="1488" y="80"/>
                  <a:pt x="1104" y="136"/>
                </a:cubicBezTo>
                <a:cubicBezTo>
                  <a:pt x="720" y="192"/>
                  <a:pt x="368" y="320"/>
                  <a:pt x="192" y="376"/>
                </a:cubicBezTo>
                <a:cubicBezTo>
                  <a:pt x="16" y="432"/>
                  <a:pt x="32" y="452"/>
                  <a:pt x="48" y="4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3048120"/>
            <a:ext cx="5335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95320" y="304920"/>
            <a:ext cx="4496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Triggers Tab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Страница са окидачима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114800" y="1371600"/>
            <a:ext cx="4861080" cy="48769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Окидачи су функције које се извршавају у одређеним тренуцима: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nReset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-по ресетовању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nMessage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-по пријему поруке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nCreation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-по стварању производа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nExit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-по изласку производа из објекта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Ми смо равноправно могли да користимо последња два окидача пошто дају сличне резултате!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3429000" y="228240"/>
            <a:ext cx="5410080" cy="1085400"/>
            <a:chOff x="3429000" y="228240"/>
            <a:chExt cx="5410080" cy="1085400"/>
          </a:xfrm>
        </p:grpSpPr>
        <p:sp>
          <p:nvSpPr>
            <p:cNvPr id="301" name="File"/>
            <p:cNvSpPr/>
            <p:nvPr/>
          </p:nvSpPr>
          <p:spPr>
            <a:xfrm rot="10800000">
              <a:off x="3429000" y="227880"/>
              <a:ext cx="5410080" cy="10854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29000" y="307440"/>
              <a:ext cx="52110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 параметар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објекта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Queue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(Ред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 flipH="1" rot="19687200">
            <a:off x="1523520" y="990720"/>
            <a:ext cx="1676880" cy="533160"/>
          </a:xfrm>
          <a:custGeom>
            <a:avLst/>
            <a:gdLst>
              <a:gd name="textAreaLeft" fmla="*/ 293400 w 1676880"/>
              <a:gd name="textAreaRight" fmla="*/ 1215720 w 16768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Documents"/>
          <p:cNvSpPr/>
          <p:nvPr/>
        </p:nvSpPr>
        <p:spPr>
          <a:xfrm>
            <a:off x="228600" y="1981080"/>
            <a:ext cx="4343400" cy="1295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пацитет пуфе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740000">
            <a:off x="4267080" y="3276360"/>
            <a:ext cx="2286000" cy="51912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69480 h 519120"/>
              <a:gd name="textAreaBottom" fmla="*/ 449640 h 51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Documents"/>
          <p:cNvSpPr/>
          <p:nvPr/>
        </p:nvSpPr>
        <p:spPr>
          <a:xfrm>
            <a:off x="3962520" y="4267080"/>
            <a:ext cx="4572000" cy="20574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ње произ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врсте на 1. машин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врсте на 2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. врсте на 3. машину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66760" y="1790640"/>
            <a:ext cx="4622760" cy="660600"/>
          </a:xfrm>
          <a:custGeom>
            <a:avLst/>
            <a:gdLst/>
            <a:ahLst/>
            <a:rect l="l" t="t" r="r" b="b"/>
            <a:pathLst>
              <a:path w="2912" h="416">
                <a:moveTo>
                  <a:pt x="264" y="72"/>
                </a:moveTo>
                <a:cubicBezTo>
                  <a:pt x="192" y="88"/>
                  <a:pt x="48" y="128"/>
                  <a:pt x="24" y="168"/>
                </a:cubicBezTo>
                <a:cubicBezTo>
                  <a:pt x="0" y="208"/>
                  <a:pt x="56" y="280"/>
                  <a:pt x="120" y="312"/>
                </a:cubicBezTo>
                <a:cubicBezTo>
                  <a:pt x="184" y="344"/>
                  <a:pt x="272" y="352"/>
                  <a:pt x="408" y="360"/>
                </a:cubicBezTo>
                <a:cubicBezTo>
                  <a:pt x="544" y="368"/>
                  <a:pt x="832" y="360"/>
                  <a:pt x="936" y="360"/>
                </a:cubicBezTo>
                <a:cubicBezTo>
                  <a:pt x="1040" y="360"/>
                  <a:pt x="936" y="352"/>
                  <a:pt x="1032" y="360"/>
                </a:cubicBezTo>
                <a:cubicBezTo>
                  <a:pt x="1128" y="368"/>
                  <a:pt x="1344" y="400"/>
                  <a:pt x="1512" y="408"/>
                </a:cubicBezTo>
                <a:cubicBezTo>
                  <a:pt x="1680" y="416"/>
                  <a:pt x="1872" y="408"/>
                  <a:pt x="2040" y="408"/>
                </a:cubicBezTo>
                <a:cubicBezTo>
                  <a:pt x="2208" y="408"/>
                  <a:pt x="2384" y="416"/>
                  <a:pt x="2520" y="408"/>
                </a:cubicBezTo>
                <a:cubicBezTo>
                  <a:pt x="2656" y="400"/>
                  <a:pt x="2800" y="400"/>
                  <a:pt x="2856" y="360"/>
                </a:cubicBezTo>
                <a:cubicBezTo>
                  <a:pt x="2912" y="320"/>
                  <a:pt x="2888" y="224"/>
                  <a:pt x="2856" y="168"/>
                </a:cubicBezTo>
                <a:cubicBezTo>
                  <a:pt x="2824" y="112"/>
                  <a:pt x="2768" y="48"/>
                  <a:pt x="2664" y="24"/>
                </a:cubicBezTo>
                <a:cubicBezTo>
                  <a:pt x="2560" y="0"/>
                  <a:pt x="2392" y="24"/>
                  <a:pt x="2232" y="24"/>
                </a:cubicBezTo>
                <a:cubicBezTo>
                  <a:pt x="2072" y="24"/>
                  <a:pt x="1864" y="16"/>
                  <a:pt x="1704" y="24"/>
                </a:cubicBezTo>
                <a:cubicBezTo>
                  <a:pt x="1544" y="32"/>
                  <a:pt x="1424" y="64"/>
                  <a:pt x="1272" y="72"/>
                </a:cubicBezTo>
                <a:cubicBezTo>
                  <a:pt x="1120" y="80"/>
                  <a:pt x="928" y="72"/>
                  <a:pt x="792" y="72"/>
                </a:cubicBezTo>
                <a:cubicBezTo>
                  <a:pt x="656" y="72"/>
                  <a:pt x="544" y="80"/>
                  <a:pt x="456" y="72"/>
                </a:cubicBezTo>
                <a:cubicBezTo>
                  <a:pt x="368" y="64"/>
                  <a:pt x="336" y="56"/>
                  <a:pt x="264" y="72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1295280"/>
            <a:ext cx="3047760" cy="1676520"/>
          </a:xfrm>
          <a:custGeom>
            <a:avLst/>
            <a:gdLst>
              <a:gd name="textAreaLeft" fmla="*/ 695520 w 3047760"/>
              <a:gd name="textAreaRight" fmla="*/ 2352240 w 304776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Максимални капацит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ли садржај објекта р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962520" y="609480"/>
            <a:ext cx="1828800" cy="129564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Ток произ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371240" y="1066680"/>
            <a:ext cx="297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3505320"/>
            <a:ext cx="6781680" cy="457200"/>
          </a:xfrm>
          <a:custGeom>
            <a:avLst/>
            <a:gdLst/>
            <a:ahLst/>
            <a:rect l="l" t="t" r="r" b="b"/>
            <a:pathLst>
              <a:path w="4437" h="446">
                <a:moveTo>
                  <a:pt x="220" y="89"/>
                </a:moveTo>
                <a:cubicBezTo>
                  <a:pt x="166" y="95"/>
                  <a:pt x="124" y="99"/>
                  <a:pt x="74" y="117"/>
                </a:cubicBezTo>
                <a:cubicBezTo>
                  <a:pt x="10" y="179"/>
                  <a:pt x="38" y="136"/>
                  <a:pt x="19" y="199"/>
                </a:cubicBezTo>
                <a:cubicBezTo>
                  <a:pt x="13" y="218"/>
                  <a:pt x="0" y="254"/>
                  <a:pt x="0" y="254"/>
                </a:cubicBezTo>
                <a:cubicBezTo>
                  <a:pt x="3" y="278"/>
                  <a:pt x="3" y="303"/>
                  <a:pt x="10" y="327"/>
                </a:cubicBezTo>
                <a:cubicBezTo>
                  <a:pt x="29" y="394"/>
                  <a:pt x="141" y="416"/>
                  <a:pt x="202" y="427"/>
                </a:cubicBezTo>
                <a:cubicBezTo>
                  <a:pt x="226" y="432"/>
                  <a:pt x="251" y="433"/>
                  <a:pt x="275" y="437"/>
                </a:cubicBezTo>
                <a:cubicBezTo>
                  <a:pt x="290" y="439"/>
                  <a:pt x="320" y="446"/>
                  <a:pt x="320" y="446"/>
                </a:cubicBezTo>
                <a:lnTo>
                  <a:pt x="1221" y="432"/>
                </a:lnTo>
                <a:lnTo>
                  <a:pt x="2277" y="432"/>
                </a:lnTo>
                <a:lnTo>
                  <a:pt x="3429" y="384"/>
                </a:lnTo>
                <a:lnTo>
                  <a:pt x="4389" y="384"/>
                </a:lnTo>
                <a:lnTo>
                  <a:pt x="4437" y="240"/>
                </a:lnTo>
                <a:lnTo>
                  <a:pt x="4101" y="48"/>
                </a:lnTo>
                <a:lnTo>
                  <a:pt x="3621" y="0"/>
                </a:lnTo>
                <a:lnTo>
                  <a:pt x="2469" y="48"/>
                </a:lnTo>
                <a:lnTo>
                  <a:pt x="1797" y="48"/>
                </a:lnTo>
                <a:lnTo>
                  <a:pt x="1173" y="48"/>
                </a:lnTo>
                <a:lnTo>
                  <a:pt x="501" y="48"/>
                </a:lnTo>
                <a:lnTo>
                  <a:pt x="261" y="48"/>
                </a:lnTo>
                <a:lnTo>
                  <a:pt x="165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91520" y="2133720"/>
            <a:ext cx="457200" cy="45720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48"/>
                </a:moveTo>
                <a:lnTo>
                  <a:pt x="0" y="240"/>
                </a:lnTo>
                <a:lnTo>
                  <a:pt x="48" y="336"/>
                </a:lnTo>
                <a:lnTo>
                  <a:pt x="144" y="336"/>
                </a:lnTo>
                <a:lnTo>
                  <a:pt x="240" y="336"/>
                </a:lnTo>
                <a:lnTo>
                  <a:pt x="240" y="192"/>
                </a:lnTo>
                <a:lnTo>
                  <a:pt x="192" y="48"/>
                </a:lnTo>
                <a:lnTo>
                  <a:pt x="96" y="0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162920" y="2514600"/>
            <a:ext cx="2286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77120" y="990720"/>
            <a:ext cx="2666880" cy="11430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d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дни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1066680"/>
            <a:ext cx="2133360" cy="106704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828800"/>
            <a:ext cx="2362320" cy="4800600"/>
          </a:xfrm>
          <a:prstGeom prst="flowChartAlternateProcess">
            <a:avLst/>
          </a:prstGeom>
          <a:solidFill>
            <a:srgbClr val="8ec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19047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исниц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rgia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952520" y="151920"/>
            <a:ext cx="3629160" cy="1590840"/>
            <a:chOff x="4952520" y="151920"/>
            <a:chExt cx="3629160" cy="1590840"/>
          </a:xfrm>
        </p:grpSpPr>
        <p:sp>
          <p:nvSpPr>
            <p:cNvPr id="108" name="File"/>
            <p:cNvSpPr/>
            <p:nvPr/>
          </p:nvSpPr>
          <p:spPr>
            <a:xfrm rot="10800000">
              <a:off x="4952520" y="151560"/>
              <a:ext cx="3629160" cy="159084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024880" y="209160"/>
              <a:ext cx="3456720" cy="119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352680" y="1766880"/>
            <a:ext cx="57913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200400" y="609480"/>
          <a:ext cx="5342040" cy="34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609480"/>
                    <a:ext cx="5342040" cy="34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1219320" y="4648320"/>
            <a:ext cx="4267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 кодном шаблону налазимо детаљнији опис оп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аљи производ на онај порт који одговара редном броју његовог типа (врст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267080"/>
            <a:ext cx="5029200" cy="2362320"/>
          </a:xfrm>
          <a:custGeom>
            <a:avLst/>
            <a:gdLst/>
            <a:ahLst/>
            <a:rect l="l" t="t" r="r" b="b"/>
            <a:pathLst>
              <a:path w="3664" h="1872">
                <a:moveTo>
                  <a:pt x="768" y="136"/>
                </a:moveTo>
                <a:cubicBezTo>
                  <a:pt x="508" y="276"/>
                  <a:pt x="248" y="416"/>
                  <a:pt x="144" y="568"/>
                </a:cubicBezTo>
                <a:cubicBezTo>
                  <a:pt x="40" y="720"/>
                  <a:pt x="0" y="848"/>
                  <a:pt x="144" y="1048"/>
                </a:cubicBezTo>
                <a:cubicBezTo>
                  <a:pt x="288" y="1248"/>
                  <a:pt x="584" y="1664"/>
                  <a:pt x="1008" y="1768"/>
                </a:cubicBezTo>
                <a:cubicBezTo>
                  <a:pt x="1432" y="1872"/>
                  <a:pt x="2264" y="1792"/>
                  <a:pt x="2688" y="1672"/>
                </a:cubicBezTo>
                <a:cubicBezTo>
                  <a:pt x="3112" y="1552"/>
                  <a:pt x="3440" y="1264"/>
                  <a:pt x="3552" y="1048"/>
                </a:cubicBezTo>
                <a:cubicBezTo>
                  <a:pt x="3664" y="832"/>
                  <a:pt x="3536" y="544"/>
                  <a:pt x="3360" y="376"/>
                </a:cubicBezTo>
                <a:cubicBezTo>
                  <a:pt x="3184" y="208"/>
                  <a:pt x="2872" y="80"/>
                  <a:pt x="2496" y="40"/>
                </a:cubicBezTo>
                <a:cubicBezTo>
                  <a:pt x="2120" y="0"/>
                  <a:pt x="1488" y="80"/>
                  <a:pt x="1104" y="136"/>
                </a:cubicBezTo>
                <a:cubicBezTo>
                  <a:pt x="720" y="192"/>
                  <a:pt x="368" y="320"/>
                  <a:pt x="192" y="376"/>
                </a:cubicBezTo>
                <a:cubicBezTo>
                  <a:pt x="16" y="432"/>
                  <a:pt x="32" y="452"/>
                  <a:pt x="48" y="4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200400" y="2285640"/>
            <a:ext cx="60948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3505320" y="761760"/>
            <a:ext cx="5410080" cy="1085400"/>
            <a:chOff x="3505320" y="761760"/>
            <a:chExt cx="5410080" cy="1085400"/>
          </a:xfrm>
        </p:grpSpPr>
        <p:sp>
          <p:nvSpPr>
            <p:cNvPr id="323" name="File"/>
            <p:cNvSpPr/>
            <p:nvPr/>
          </p:nvSpPr>
          <p:spPr>
            <a:xfrm rot="10800000">
              <a:off x="3505320" y="761400"/>
              <a:ext cx="5410080" cy="10854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05320" y="840960"/>
              <a:ext cx="52110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 параметар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објеката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Processor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(Машин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 flipH="1" rot="19687200">
            <a:off x="2133000" y="2057040"/>
            <a:ext cx="1676160" cy="533520"/>
          </a:xfrm>
          <a:custGeom>
            <a:avLst/>
            <a:gdLst>
              <a:gd name="textAreaLeft" fmla="*/ 293040 w 1676160"/>
              <a:gd name="textAreaRight" fmla="*/ 1215360 w 16761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Documents"/>
          <p:cNvSpPr/>
          <p:nvPr/>
        </p:nvSpPr>
        <p:spPr>
          <a:xfrm>
            <a:off x="457200" y="3200400"/>
            <a:ext cx="4343400" cy="1295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еме обра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xponential(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41200" y="2768760"/>
            <a:ext cx="1676520" cy="546120"/>
          </a:xfrm>
          <a:custGeom>
            <a:avLst/>
            <a:gdLst/>
            <a:ahLst/>
            <a:rect l="l" t="t" r="r" b="b"/>
            <a:pathLst>
              <a:path w="1056" h="344">
                <a:moveTo>
                  <a:pt x="136" y="128"/>
                </a:moveTo>
                <a:cubicBezTo>
                  <a:pt x="32" y="176"/>
                  <a:pt x="0" y="296"/>
                  <a:pt x="136" y="320"/>
                </a:cubicBezTo>
                <a:cubicBezTo>
                  <a:pt x="272" y="344"/>
                  <a:pt x="848" y="320"/>
                  <a:pt x="952" y="272"/>
                </a:cubicBezTo>
                <a:cubicBezTo>
                  <a:pt x="1056" y="224"/>
                  <a:pt x="896" y="64"/>
                  <a:pt x="760" y="32"/>
                </a:cubicBezTo>
                <a:cubicBezTo>
                  <a:pt x="624" y="0"/>
                  <a:pt x="240" y="80"/>
                  <a:pt x="136" y="128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1752480"/>
            <a:ext cx="1828800" cy="129564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Врем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оцесирањ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676160" y="2514600"/>
            <a:ext cx="297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4572000"/>
            <a:ext cx="6782040" cy="457200"/>
          </a:xfrm>
          <a:custGeom>
            <a:avLst/>
            <a:gdLst/>
            <a:ahLst/>
            <a:rect l="l" t="t" r="r" b="b"/>
            <a:pathLst>
              <a:path w="4437" h="446">
                <a:moveTo>
                  <a:pt x="220" y="89"/>
                </a:moveTo>
                <a:cubicBezTo>
                  <a:pt x="166" y="95"/>
                  <a:pt x="124" y="99"/>
                  <a:pt x="74" y="117"/>
                </a:cubicBezTo>
                <a:cubicBezTo>
                  <a:pt x="10" y="179"/>
                  <a:pt x="38" y="136"/>
                  <a:pt x="19" y="199"/>
                </a:cubicBezTo>
                <a:cubicBezTo>
                  <a:pt x="13" y="218"/>
                  <a:pt x="0" y="254"/>
                  <a:pt x="0" y="254"/>
                </a:cubicBezTo>
                <a:cubicBezTo>
                  <a:pt x="3" y="278"/>
                  <a:pt x="3" y="303"/>
                  <a:pt x="10" y="327"/>
                </a:cubicBezTo>
                <a:cubicBezTo>
                  <a:pt x="29" y="394"/>
                  <a:pt x="141" y="416"/>
                  <a:pt x="202" y="427"/>
                </a:cubicBezTo>
                <a:cubicBezTo>
                  <a:pt x="226" y="432"/>
                  <a:pt x="251" y="433"/>
                  <a:pt x="275" y="437"/>
                </a:cubicBezTo>
                <a:cubicBezTo>
                  <a:pt x="290" y="439"/>
                  <a:pt x="320" y="446"/>
                  <a:pt x="320" y="446"/>
                </a:cubicBezTo>
                <a:lnTo>
                  <a:pt x="1221" y="432"/>
                </a:lnTo>
                <a:lnTo>
                  <a:pt x="2277" y="432"/>
                </a:lnTo>
                <a:lnTo>
                  <a:pt x="3429" y="384"/>
                </a:lnTo>
                <a:lnTo>
                  <a:pt x="4389" y="384"/>
                </a:lnTo>
                <a:lnTo>
                  <a:pt x="4437" y="240"/>
                </a:lnTo>
                <a:lnTo>
                  <a:pt x="4101" y="48"/>
                </a:lnTo>
                <a:lnTo>
                  <a:pt x="3621" y="0"/>
                </a:lnTo>
                <a:lnTo>
                  <a:pt x="2469" y="48"/>
                </a:lnTo>
                <a:lnTo>
                  <a:pt x="1797" y="48"/>
                </a:lnTo>
                <a:lnTo>
                  <a:pt x="1173" y="48"/>
                </a:lnTo>
                <a:lnTo>
                  <a:pt x="501" y="48"/>
                </a:lnTo>
                <a:lnTo>
                  <a:pt x="261" y="48"/>
                </a:lnTo>
                <a:lnTo>
                  <a:pt x="165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162920" y="3124080"/>
            <a:ext cx="457200" cy="45720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48"/>
                </a:moveTo>
                <a:lnTo>
                  <a:pt x="0" y="240"/>
                </a:lnTo>
                <a:lnTo>
                  <a:pt x="48" y="336"/>
                </a:lnTo>
                <a:lnTo>
                  <a:pt x="144" y="336"/>
                </a:lnTo>
                <a:lnTo>
                  <a:pt x="240" y="336"/>
                </a:lnTo>
                <a:lnTo>
                  <a:pt x="240" y="192"/>
                </a:lnTo>
                <a:lnTo>
                  <a:pt x="192" y="48"/>
                </a:lnTo>
                <a:lnTo>
                  <a:pt x="96" y="0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7010280" y="3580920"/>
            <a:ext cx="2286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77120" y="1981080"/>
            <a:ext cx="2666880" cy="11430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d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дни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5905440" cy="14475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200400" y="44197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 кодном шаблону уписујемо одговарајуће вредности параметар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кспоненцијалне распод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48120" y="3809880"/>
            <a:ext cx="4647960" cy="2362320"/>
          </a:xfrm>
          <a:custGeom>
            <a:avLst/>
            <a:gdLst/>
            <a:ahLst/>
            <a:rect l="l" t="t" r="r" b="b"/>
            <a:pathLst>
              <a:path w="3664" h="1872">
                <a:moveTo>
                  <a:pt x="768" y="136"/>
                </a:moveTo>
                <a:cubicBezTo>
                  <a:pt x="508" y="276"/>
                  <a:pt x="248" y="416"/>
                  <a:pt x="144" y="568"/>
                </a:cubicBezTo>
                <a:cubicBezTo>
                  <a:pt x="40" y="720"/>
                  <a:pt x="0" y="848"/>
                  <a:pt x="144" y="1048"/>
                </a:cubicBezTo>
                <a:cubicBezTo>
                  <a:pt x="288" y="1248"/>
                  <a:pt x="584" y="1664"/>
                  <a:pt x="1008" y="1768"/>
                </a:cubicBezTo>
                <a:cubicBezTo>
                  <a:pt x="1432" y="1872"/>
                  <a:pt x="2264" y="1792"/>
                  <a:pt x="2688" y="1672"/>
                </a:cubicBezTo>
                <a:cubicBezTo>
                  <a:pt x="3112" y="1552"/>
                  <a:pt x="3440" y="1264"/>
                  <a:pt x="3552" y="1048"/>
                </a:cubicBezTo>
                <a:cubicBezTo>
                  <a:pt x="3664" y="832"/>
                  <a:pt x="3536" y="544"/>
                  <a:pt x="3360" y="376"/>
                </a:cubicBezTo>
                <a:cubicBezTo>
                  <a:pt x="3184" y="208"/>
                  <a:pt x="2872" y="80"/>
                  <a:pt x="2496" y="40"/>
                </a:cubicBezTo>
                <a:cubicBezTo>
                  <a:pt x="2120" y="0"/>
                  <a:pt x="1488" y="80"/>
                  <a:pt x="1104" y="136"/>
                </a:cubicBezTo>
                <a:cubicBezTo>
                  <a:pt x="720" y="192"/>
                  <a:pt x="368" y="320"/>
                  <a:pt x="192" y="376"/>
                </a:cubicBezTo>
                <a:cubicBezTo>
                  <a:pt x="16" y="432"/>
                  <a:pt x="32" y="452"/>
                  <a:pt x="48" y="4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2743200" y="2362320"/>
            <a:ext cx="1295280" cy="21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3123720" y="380880"/>
            <a:ext cx="5410440" cy="1085760"/>
            <a:chOff x="3123720" y="380880"/>
            <a:chExt cx="5410440" cy="1085760"/>
          </a:xfrm>
        </p:grpSpPr>
        <p:sp>
          <p:nvSpPr>
            <p:cNvPr id="340" name="File"/>
            <p:cNvSpPr/>
            <p:nvPr/>
          </p:nvSpPr>
          <p:spPr>
            <a:xfrm rot="10800000">
              <a:off x="3123720" y="380520"/>
              <a:ext cx="5410440" cy="108576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24080" y="459720"/>
              <a:ext cx="52110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 параметар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објеката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 Conveyor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(Конвејери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 flipH="1" rot="19687200">
            <a:off x="1828800" y="1752480"/>
            <a:ext cx="1676880" cy="533520"/>
          </a:xfrm>
          <a:custGeom>
            <a:avLst/>
            <a:gdLst>
              <a:gd name="textAreaLeft" fmla="*/ 293400 w 1676880"/>
              <a:gd name="textAreaRight" fmla="*/ 1215720 w 16768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Documents"/>
          <p:cNvSpPr/>
          <p:nvPr/>
        </p:nvSpPr>
        <p:spPr>
          <a:xfrm>
            <a:off x="990720" y="2971800"/>
            <a:ext cx="5181480" cy="23623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гледом параметарских страница објекта уверавамо се да брзина конвејера већ износи 1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/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па нема потребе да ишта мења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омпајлирање и пуштање модела у ра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Компајлирајте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Ресетујте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крените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Контролишите брзину извршавања модела клизачем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Експериментер се користи за одређивање трајања симулације (Ове опције нема у демо верзији)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5105520" y="1905120"/>
          <a:ext cx="9572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905120"/>
                    <a:ext cx="9572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029200" y="3962520"/>
          <a:ext cx="320040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962520"/>
                    <a:ext cx="32004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3429000" y="2862360"/>
          <a:ext cx="4876920" cy="49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2862360"/>
                    <a:ext cx="487692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5334120" y="5141880"/>
          <a:ext cx="1447560" cy="49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5141880"/>
                    <a:ext cx="14475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495680" y="3049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. Прикупљање и обрада подат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6089760" cy="4636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04920" y="76212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јједноставнији начин, посматрањем вредности поред објек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095880" y="15228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. Уз помоћ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operties 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собине) прозора обј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56386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388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6553080" y="1066680"/>
            <a:ext cx="23623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Стање) страница доступна на прозору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казује проценат и време  које је објекат провео у одређеним ст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3736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6553080" y="457200"/>
            <a:ext cx="2362320" cy="57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ntent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Садржај) страница доступна н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прозору обј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казује број производа који се налазе унутар објекта у току извесног интерв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Морају бити укључена подешавања за прикупљање стат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352320" y="304920"/>
            <a:ext cx="5334120" cy="1047600"/>
            <a:chOff x="3352320" y="304920"/>
            <a:chExt cx="5334120" cy="1047600"/>
          </a:xfrm>
        </p:grpSpPr>
        <p:sp>
          <p:nvSpPr>
            <p:cNvPr id="112" name="File"/>
            <p:cNvSpPr/>
            <p:nvPr/>
          </p:nvSpPr>
          <p:spPr>
            <a:xfrm rot="10800000">
              <a:off x="3352320" y="304560"/>
              <a:ext cx="5334120" cy="10476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52680" y="381240"/>
              <a:ext cx="513756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Где наћи потребну документацију за учење 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908720" y="5257800"/>
            <a:ext cx="534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http://www.flexsim.com/products/flexsim/webdem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040" y="2438280"/>
            <a:ext cx="61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ab0"/>
                </a:solidFill>
                <a:latin typeface="Arial"/>
              </a:rPr>
              <a:t>2. </a:t>
            </a:r>
            <a:r>
              <a:rPr b="1" lang="sr-Latn-CS" sz="1800" spc="-1" strike="noStrike">
                <a:solidFill>
                  <a:srgbClr val="002ab0"/>
                </a:solidFill>
                <a:latin typeface="Arial"/>
              </a:rPr>
              <a:t>http://file.sf.bg.ac.yu/nastava/course/view.php?id=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981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ab0"/>
                </a:solidFill>
                <a:latin typeface="Arial"/>
              </a:rPr>
              <a:t>1.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0520" y="2971800"/>
            <a:ext cx="63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.6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ри различите тежине, са објашњењ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3429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lassmod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.6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олико туторијала од најједноставнијих до врло тешких, са објашње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72428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ратки демо за увод у прављење модела у последњој верзији софтв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3736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6553080" y="457200"/>
            <a:ext cx="2362320" cy="58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taytime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Време задржавања) страница доступна на прозору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казује структуру задржавања производа у обје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ваки стубац представља број производа који се задржавају одређени временски интер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5410080" y="22860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се посматрали, пратили и обрађивали подаци, одговарајући објекти морају бити селектов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809880" cy="21178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3200400" cy="24382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2209680" y="3048120"/>
            <a:ext cx="381240" cy="838080"/>
          </a:xfrm>
          <a:prstGeom prst="downArrow">
            <a:avLst>
              <a:gd name="adj1" fmla="val 50000"/>
              <a:gd name="adj2" fmla="val 5495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3124080"/>
            <a:ext cx="3657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електовање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-ву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одавање у селекцију: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ntrol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 клик на објек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електовани објекти су означени црвеном бој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5867280" cy="24732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5791320" cy="24177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724280" y="0"/>
            <a:ext cx="4419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акође, морају бити изврш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ешавањ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падајућем мен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tat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81680" y="2819520"/>
            <a:ext cx="1828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мисао ових подешавања је да се омогући прикупљање података, баш за селектоване објект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5562720" y="274284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210360" y="2489040"/>
            <a:ext cx="2628720" cy="3480120"/>
          </a:xfrm>
          <a:custGeom>
            <a:avLst/>
            <a:gdLst/>
            <a:ahLst/>
            <a:rect l="l" t="t" r="r" b="b"/>
            <a:pathLst>
              <a:path w="1656" h="2192">
                <a:moveTo>
                  <a:pt x="408" y="112"/>
                </a:moveTo>
                <a:cubicBezTo>
                  <a:pt x="204" y="648"/>
                  <a:pt x="0" y="1184"/>
                  <a:pt x="168" y="1504"/>
                </a:cubicBezTo>
                <a:cubicBezTo>
                  <a:pt x="336" y="1824"/>
                  <a:pt x="1176" y="2192"/>
                  <a:pt x="1416" y="2032"/>
                </a:cubicBezTo>
                <a:cubicBezTo>
                  <a:pt x="1656" y="1872"/>
                  <a:pt x="1648" y="880"/>
                  <a:pt x="1608" y="544"/>
                </a:cubicBezTo>
                <a:cubicBezTo>
                  <a:pt x="1568" y="208"/>
                  <a:pt x="1440" y="32"/>
                  <a:pt x="1176" y="16"/>
                </a:cubicBezTo>
                <a:cubicBezTo>
                  <a:pt x="912" y="0"/>
                  <a:pt x="208" y="440"/>
                  <a:pt x="24" y="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да су подешавања у менију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tats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извршена појављују се зелени оквири око објекта</a:t>
            </a: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квири се могу сакрити избором опциј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Hide Green Indicator Boxes”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Stats”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енија</a:t>
            </a: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459240" cy="251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8" name=""/>
          <p:cNvGraphicFramePr/>
          <p:nvPr/>
        </p:nvGraphicFramePr>
        <p:xfrm>
          <a:off x="4114800" y="3657600"/>
          <a:ext cx="4363920" cy="254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657600"/>
                    <a:ext cx="4363920" cy="25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5562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Report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- Стандардни извешта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305560" cy="45403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095880" y="2286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3.a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вожење податак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5943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је преглед параметара с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траница у табеларној форми погодној за даљу обр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5334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exsim State Report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- Извештај о стањим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27432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Проценат времена које је објекат провео у сваком од стања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Профил стања је дат за сваки објекат који је тренутно </a:t>
            </a: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селектован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 у моделу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5638680" cy="42260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042440" y="231840"/>
            <a:ext cx="51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вожење податак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Служи да сними и прикаже статистичке податке у виду хистограма, табела, питица.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Може да сакупља тачкасте податке 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(min, max, avg) 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или комплетне вредности кроз сваки протекли тренутак времена.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Дуплим кликом на објекат се стартује његова параметарска страница на којој се налазе подешавања за прикупљање податак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7010280" y="1447920"/>
          <a:ext cx="121932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447920"/>
                    <a:ext cx="12193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4952880" y="304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4. Уз помоћ објект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ecorder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Снимате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71640" cy="30034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5410080" y="1143000"/>
            <a:ext cx="2438640" cy="558720"/>
          </a:xfrm>
          <a:custGeom>
            <a:avLst/>
            <a:gdLst/>
            <a:ahLst/>
            <a:rect l="l" t="t" r="r" b="b"/>
            <a:pathLst>
              <a:path w="1536" h="352">
                <a:moveTo>
                  <a:pt x="144" y="64"/>
                </a:moveTo>
                <a:cubicBezTo>
                  <a:pt x="112" y="140"/>
                  <a:pt x="80" y="216"/>
                  <a:pt x="96" y="256"/>
                </a:cubicBezTo>
                <a:cubicBezTo>
                  <a:pt x="112" y="296"/>
                  <a:pt x="168" y="288"/>
                  <a:pt x="240" y="304"/>
                </a:cubicBezTo>
                <a:cubicBezTo>
                  <a:pt x="312" y="320"/>
                  <a:pt x="368" y="352"/>
                  <a:pt x="528" y="352"/>
                </a:cubicBezTo>
                <a:cubicBezTo>
                  <a:pt x="688" y="352"/>
                  <a:pt x="1040" y="312"/>
                  <a:pt x="1200" y="304"/>
                </a:cubicBezTo>
                <a:cubicBezTo>
                  <a:pt x="1360" y="296"/>
                  <a:pt x="1440" y="328"/>
                  <a:pt x="1488" y="304"/>
                </a:cubicBezTo>
                <a:cubicBezTo>
                  <a:pt x="1536" y="280"/>
                  <a:pt x="1512" y="208"/>
                  <a:pt x="1488" y="160"/>
                </a:cubicBezTo>
                <a:cubicBezTo>
                  <a:pt x="1464" y="112"/>
                  <a:pt x="1408" y="32"/>
                  <a:pt x="1344" y="16"/>
                </a:cubicBezTo>
                <a:cubicBezTo>
                  <a:pt x="1280" y="0"/>
                  <a:pt x="1232" y="56"/>
                  <a:pt x="1104" y="64"/>
                </a:cubicBezTo>
                <a:cubicBezTo>
                  <a:pt x="976" y="72"/>
                  <a:pt x="712" y="64"/>
                  <a:pt x="576" y="64"/>
                </a:cubicBezTo>
                <a:cubicBezTo>
                  <a:pt x="440" y="64"/>
                  <a:pt x="384" y="32"/>
                  <a:pt x="288" y="64"/>
                </a:cubicBezTo>
                <a:cubicBezTo>
                  <a:pt x="192" y="96"/>
                  <a:pt x="48" y="224"/>
                  <a:pt x="0" y="2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1219320"/>
            <a:ext cx="25909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76520" y="0"/>
            <a:ext cx="2666880" cy="167652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одешавања 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икупљање подат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10820520" cy="45003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 rot="4162800">
            <a:off x="4215960" y="1269720"/>
            <a:ext cx="469800" cy="2197080"/>
          </a:xfrm>
          <a:custGeom>
            <a:avLst/>
            <a:gdLst>
              <a:gd name="textAreaLeft" fmla="*/ 62640 w 469800"/>
              <a:gd name="textAreaRight" fmla="*/ 407160 w 469800"/>
              <a:gd name="textAreaTop" fmla="*/ 384480 h 2197080"/>
              <a:gd name="textAreaBottom" fmla="*/ 1593000 h 21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195711"/>
                <a:lnTo>
                  <a:pt x="6598" y="19479"/>
                </a:lnTo>
                <a:lnTo>
                  <a:pt x="21600" y="17280"/>
                </a:lnTo>
                <a:lnTo>
                  <a:pt x="6598" y="10839"/>
                </a:lnTo>
                <a:lnTo>
                  <a:pt x="6598" y="12999"/>
                </a:lnTo>
                <a:arcTo wR="21600" hR="7560" stAng="9604289" swAng="838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2666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Тип подат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2577960"/>
            <a:ext cx="1613160" cy="520920"/>
          </a:xfrm>
          <a:custGeom>
            <a:avLst/>
            <a:gdLst/>
            <a:ahLst/>
            <a:rect l="l" t="t" r="r" b="b"/>
            <a:pathLst>
              <a:path w="1016" h="328">
                <a:moveTo>
                  <a:pt x="144" y="8"/>
                </a:moveTo>
                <a:cubicBezTo>
                  <a:pt x="104" y="80"/>
                  <a:pt x="64" y="152"/>
                  <a:pt x="96" y="200"/>
                </a:cubicBezTo>
                <a:cubicBezTo>
                  <a:pt x="128" y="248"/>
                  <a:pt x="216" y="280"/>
                  <a:pt x="336" y="296"/>
                </a:cubicBezTo>
                <a:cubicBezTo>
                  <a:pt x="456" y="312"/>
                  <a:pt x="704" y="328"/>
                  <a:pt x="816" y="296"/>
                </a:cubicBezTo>
                <a:cubicBezTo>
                  <a:pt x="928" y="264"/>
                  <a:pt x="1016" y="152"/>
                  <a:pt x="1008" y="104"/>
                </a:cubicBezTo>
                <a:cubicBezTo>
                  <a:pt x="1000" y="56"/>
                  <a:pt x="904" y="16"/>
                  <a:pt x="768" y="8"/>
                </a:cubicBezTo>
                <a:cubicBezTo>
                  <a:pt x="632" y="0"/>
                  <a:pt x="320" y="32"/>
                  <a:pt x="192" y="56"/>
                </a:cubicBezTo>
                <a:cubicBezTo>
                  <a:pt x="64" y="80"/>
                  <a:pt x="40" y="168"/>
                  <a:pt x="0" y="1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914040" y="2971800"/>
            <a:ext cx="1522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7840" y="3746520"/>
            <a:ext cx="1612800" cy="622440"/>
          </a:xfrm>
          <a:custGeom>
            <a:avLst/>
            <a:gdLst/>
            <a:ahLst/>
            <a:rect l="l" t="t" r="r" b="b"/>
            <a:pathLst>
              <a:path w="1016" h="392">
                <a:moveTo>
                  <a:pt x="128" y="136"/>
                </a:moveTo>
                <a:cubicBezTo>
                  <a:pt x="64" y="164"/>
                  <a:pt x="0" y="192"/>
                  <a:pt x="32" y="232"/>
                </a:cubicBezTo>
                <a:cubicBezTo>
                  <a:pt x="64" y="272"/>
                  <a:pt x="168" y="360"/>
                  <a:pt x="320" y="376"/>
                </a:cubicBezTo>
                <a:cubicBezTo>
                  <a:pt x="472" y="392"/>
                  <a:pt x="872" y="384"/>
                  <a:pt x="944" y="328"/>
                </a:cubicBezTo>
                <a:cubicBezTo>
                  <a:pt x="1016" y="272"/>
                  <a:pt x="872" y="80"/>
                  <a:pt x="752" y="40"/>
                </a:cubicBezTo>
                <a:cubicBezTo>
                  <a:pt x="632" y="0"/>
                  <a:pt x="344" y="40"/>
                  <a:pt x="224" y="88"/>
                </a:cubicBezTo>
                <a:cubicBezTo>
                  <a:pt x="104" y="136"/>
                  <a:pt x="72" y="296"/>
                  <a:pt x="32" y="3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81480" y="38862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Стандардни подац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352320" y="40384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29200" y="3797280"/>
            <a:ext cx="1866960" cy="736560"/>
          </a:xfrm>
          <a:custGeom>
            <a:avLst/>
            <a:gdLst/>
            <a:ahLst/>
            <a:rect l="l" t="t" r="r" b="b"/>
            <a:pathLst>
              <a:path w="1176" h="464">
                <a:moveTo>
                  <a:pt x="336" y="8"/>
                </a:moveTo>
                <a:cubicBezTo>
                  <a:pt x="276" y="72"/>
                  <a:pt x="216" y="136"/>
                  <a:pt x="240" y="200"/>
                </a:cubicBezTo>
                <a:cubicBezTo>
                  <a:pt x="264" y="264"/>
                  <a:pt x="368" y="352"/>
                  <a:pt x="480" y="392"/>
                </a:cubicBezTo>
                <a:cubicBezTo>
                  <a:pt x="592" y="432"/>
                  <a:pt x="800" y="464"/>
                  <a:pt x="912" y="440"/>
                </a:cubicBezTo>
                <a:cubicBezTo>
                  <a:pt x="1024" y="416"/>
                  <a:pt x="1128" y="312"/>
                  <a:pt x="1152" y="248"/>
                </a:cubicBezTo>
                <a:cubicBezTo>
                  <a:pt x="1176" y="184"/>
                  <a:pt x="1144" y="96"/>
                  <a:pt x="1056" y="56"/>
                </a:cubicBezTo>
                <a:cubicBezTo>
                  <a:pt x="968" y="16"/>
                  <a:pt x="752" y="0"/>
                  <a:pt x="624" y="8"/>
                </a:cubicBezTo>
                <a:cubicBezTo>
                  <a:pt x="496" y="16"/>
                  <a:pt x="392" y="88"/>
                  <a:pt x="288" y="104"/>
                </a:cubicBezTo>
                <a:cubicBezTo>
                  <a:pt x="184" y="120"/>
                  <a:pt x="40" y="120"/>
                  <a:pt x="0" y="1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53080" y="48006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Врста обј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24480" y="4686480"/>
            <a:ext cx="2222640" cy="622080"/>
          </a:xfrm>
          <a:custGeom>
            <a:avLst/>
            <a:gdLst/>
            <a:ahLst/>
            <a:rect l="l" t="t" r="r" b="b"/>
            <a:pathLst>
              <a:path w="1400" h="392">
                <a:moveTo>
                  <a:pt x="240" y="72"/>
                </a:moveTo>
                <a:cubicBezTo>
                  <a:pt x="156" y="200"/>
                  <a:pt x="72" y="328"/>
                  <a:pt x="240" y="360"/>
                </a:cubicBezTo>
                <a:cubicBezTo>
                  <a:pt x="408" y="392"/>
                  <a:pt x="1096" y="312"/>
                  <a:pt x="1248" y="264"/>
                </a:cubicBezTo>
                <a:cubicBezTo>
                  <a:pt x="1400" y="216"/>
                  <a:pt x="1264" y="112"/>
                  <a:pt x="1152" y="72"/>
                </a:cubicBezTo>
                <a:cubicBezTo>
                  <a:pt x="1040" y="32"/>
                  <a:pt x="744" y="0"/>
                  <a:pt x="576" y="24"/>
                </a:cubicBezTo>
                <a:cubicBezTo>
                  <a:pt x="408" y="48"/>
                  <a:pt x="240" y="184"/>
                  <a:pt x="144" y="216"/>
                </a:cubicBezTo>
                <a:cubicBezTo>
                  <a:pt x="48" y="248"/>
                  <a:pt x="16" y="240"/>
                  <a:pt x="0" y="2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3809880" y="4952880"/>
            <a:ext cx="289584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63403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Врста података који се прикупљај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14400" y="6210360"/>
            <a:ext cx="2463840" cy="876240"/>
          </a:xfrm>
          <a:custGeom>
            <a:avLst/>
            <a:gdLst/>
            <a:ahLst/>
            <a:rect l="l" t="t" r="r" b="b"/>
            <a:pathLst>
              <a:path w="1552" h="552">
                <a:moveTo>
                  <a:pt x="336" y="24"/>
                </a:moveTo>
                <a:cubicBezTo>
                  <a:pt x="268" y="20"/>
                  <a:pt x="200" y="16"/>
                  <a:pt x="192" y="72"/>
                </a:cubicBezTo>
                <a:cubicBezTo>
                  <a:pt x="184" y="128"/>
                  <a:pt x="168" y="280"/>
                  <a:pt x="288" y="360"/>
                </a:cubicBezTo>
                <a:cubicBezTo>
                  <a:pt x="408" y="440"/>
                  <a:pt x="720" y="552"/>
                  <a:pt x="912" y="552"/>
                </a:cubicBezTo>
                <a:cubicBezTo>
                  <a:pt x="1104" y="552"/>
                  <a:pt x="1360" y="440"/>
                  <a:pt x="1440" y="360"/>
                </a:cubicBezTo>
                <a:cubicBezTo>
                  <a:pt x="1520" y="280"/>
                  <a:pt x="1552" y="128"/>
                  <a:pt x="1392" y="72"/>
                </a:cubicBezTo>
                <a:cubicBezTo>
                  <a:pt x="1232" y="16"/>
                  <a:pt x="712" y="0"/>
                  <a:pt x="480" y="24"/>
                </a:cubicBezTo>
                <a:cubicBezTo>
                  <a:pt x="248" y="48"/>
                  <a:pt x="88" y="216"/>
                  <a:pt x="0" y="2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1066320" y="5410080"/>
            <a:ext cx="685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59436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Садржај обј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172200" y="5791320"/>
            <a:ext cx="2222640" cy="622080"/>
          </a:xfrm>
          <a:custGeom>
            <a:avLst/>
            <a:gdLst/>
            <a:ahLst/>
            <a:rect l="l" t="t" r="r" b="b"/>
            <a:pathLst>
              <a:path w="1400" h="392">
                <a:moveTo>
                  <a:pt x="240" y="72"/>
                </a:moveTo>
                <a:cubicBezTo>
                  <a:pt x="156" y="200"/>
                  <a:pt x="72" y="328"/>
                  <a:pt x="240" y="360"/>
                </a:cubicBezTo>
                <a:cubicBezTo>
                  <a:pt x="408" y="392"/>
                  <a:pt x="1096" y="312"/>
                  <a:pt x="1248" y="264"/>
                </a:cubicBezTo>
                <a:cubicBezTo>
                  <a:pt x="1400" y="216"/>
                  <a:pt x="1264" y="112"/>
                  <a:pt x="1152" y="72"/>
                </a:cubicBezTo>
                <a:cubicBezTo>
                  <a:pt x="1040" y="32"/>
                  <a:pt x="744" y="0"/>
                  <a:pt x="576" y="24"/>
                </a:cubicBezTo>
                <a:cubicBezTo>
                  <a:pt x="408" y="48"/>
                  <a:pt x="240" y="184"/>
                  <a:pt x="144" y="216"/>
                </a:cubicBezTo>
                <a:cubicBezTo>
                  <a:pt x="48" y="248"/>
                  <a:pt x="16" y="240"/>
                  <a:pt x="0" y="2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3580920" y="5562360"/>
            <a:ext cx="31244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5486400" cy="3500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671640" cy="30034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410080" y="1447920"/>
            <a:ext cx="2438640" cy="558720"/>
          </a:xfrm>
          <a:custGeom>
            <a:avLst/>
            <a:gdLst/>
            <a:ahLst/>
            <a:rect l="l" t="t" r="r" b="b"/>
            <a:pathLst>
              <a:path w="1536" h="352">
                <a:moveTo>
                  <a:pt x="144" y="64"/>
                </a:moveTo>
                <a:cubicBezTo>
                  <a:pt x="112" y="140"/>
                  <a:pt x="80" y="216"/>
                  <a:pt x="96" y="256"/>
                </a:cubicBezTo>
                <a:cubicBezTo>
                  <a:pt x="112" y="296"/>
                  <a:pt x="168" y="288"/>
                  <a:pt x="240" y="304"/>
                </a:cubicBezTo>
                <a:cubicBezTo>
                  <a:pt x="312" y="320"/>
                  <a:pt x="368" y="352"/>
                  <a:pt x="528" y="352"/>
                </a:cubicBezTo>
                <a:cubicBezTo>
                  <a:pt x="688" y="352"/>
                  <a:pt x="1040" y="312"/>
                  <a:pt x="1200" y="304"/>
                </a:cubicBezTo>
                <a:cubicBezTo>
                  <a:pt x="1360" y="296"/>
                  <a:pt x="1440" y="328"/>
                  <a:pt x="1488" y="304"/>
                </a:cubicBezTo>
                <a:cubicBezTo>
                  <a:pt x="1536" y="280"/>
                  <a:pt x="1512" y="208"/>
                  <a:pt x="1488" y="160"/>
                </a:cubicBezTo>
                <a:cubicBezTo>
                  <a:pt x="1464" y="112"/>
                  <a:pt x="1408" y="32"/>
                  <a:pt x="1344" y="16"/>
                </a:cubicBezTo>
                <a:cubicBezTo>
                  <a:pt x="1280" y="0"/>
                  <a:pt x="1232" y="56"/>
                  <a:pt x="1104" y="64"/>
                </a:cubicBezTo>
                <a:cubicBezTo>
                  <a:pt x="976" y="72"/>
                  <a:pt x="712" y="64"/>
                  <a:pt x="576" y="64"/>
                </a:cubicBezTo>
                <a:cubicBezTo>
                  <a:pt x="440" y="64"/>
                  <a:pt x="384" y="32"/>
                  <a:pt x="288" y="64"/>
                </a:cubicBezTo>
                <a:cubicBezTo>
                  <a:pt x="192" y="96"/>
                  <a:pt x="48" y="224"/>
                  <a:pt x="0" y="2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57600" y="1219320"/>
            <a:ext cx="2362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676520" y="0"/>
            <a:ext cx="2895480" cy="144792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одешавања изгле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4162800">
            <a:off x="4215960" y="1269720"/>
            <a:ext cx="469800" cy="2197080"/>
          </a:xfrm>
          <a:custGeom>
            <a:avLst/>
            <a:gdLst>
              <a:gd name="textAreaLeft" fmla="*/ 62640 w 469800"/>
              <a:gd name="textAreaRight" fmla="*/ 407160 w 469800"/>
              <a:gd name="textAreaTop" fmla="*/ 384480 h 2197080"/>
              <a:gd name="textAreaBottom" fmla="*/ 1593000 h 21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195711"/>
                <a:lnTo>
                  <a:pt x="6598" y="19479"/>
                </a:lnTo>
                <a:lnTo>
                  <a:pt x="21600" y="17280"/>
                </a:lnTo>
                <a:lnTo>
                  <a:pt x="6598" y="10839"/>
                </a:lnTo>
                <a:lnTo>
                  <a:pt x="6598" y="12999"/>
                </a:lnTo>
                <a:arcTo wR="21600" hR="7560" stAng="9604289" swAng="838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562720" y="48006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омена имена граф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2895120" y="3885840"/>
            <a:ext cx="29718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410080" y="4648320"/>
            <a:ext cx="2616480" cy="533160"/>
          </a:xfrm>
          <a:custGeom>
            <a:avLst/>
            <a:gdLst/>
            <a:ahLst/>
            <a:rect l="l" t="t" r="r" b="b"/>
            <a:pathLst>
              <a:path w="1648" h="336">
                <a:moveTo>
                  <a:pt x="240" y="32"/>
                </a:moveTo>
                <a:cubicBezTo>
                  <a:pt x="152" y="128"/>
                  <a:pt x="64" y="224"/>
                  <a:pt x="96" y="272"/>
                </a:cubicBezTo>
                <a:cubicBezTo>
                  <a:pt x="128" y="320"/>
                  <a:pt x="288" y="312"/>
                  <a:pt x="432" y="320"/>
                </a:cubicBezTo>
                <a:cubicBezTo>
                  <a:pt x="576" y="328"/>
                  <a:pt x="800" y="320"/>
                  <a:pt x="960" y="320"/>
                </a:cubicBezTo>
                <a:cubicBezTo>
                  <a:pt x="1120" y="320"/>
                  <a:pt x="1280" y="336"/>
                  <a:pt x="1392" y="320"/>
                </a:cubicBezTo>
                <a:cubicBezTo>
                  <a:pt x="1504" y="304"/>
                  <a:pt x="1616" y="272"/>
                  <a:pt x="1632" y="224"/>
                </a:cubicBezTo>
                <a:cubicBezTo>
                  <a:pt x="1648" y="176"/>
                  <a:pt x="1552" y="64"/>
                  <a:pt x="1488" y="32"/>
                </a:cubicBezTo>
                <a:cubicBezTo>
                  <a:pt x="1424" y="0"/>
                  <a:pt x="1376" y="24"/>
                  <a:pt x="1248" y="32"/>
                </a:cubicBezTo>
                <a:cubicBezTo>
                  <a:pt x="1120" y="40"/>
                  <a:pt x="872" y="64"/>
                  <a:pt x="720" y="80"/>
                </a:cubicBezTo>
                <a:cubicBezTo>
                  <a:pt x="568" y="96"/>
                  <a:pt x="456" y="120"/>
                  <a:pt x="336" y="128"/>
                </a:cubicBezTo>
                <a:cubicBezTo>
                  <a:pt x="216" y="136"/>
                  <a:pt x="48" y="152"/>
                  <a:pt x="0" y="1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181480" cy="39560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5867280" y="609480"/>
            <a:ext cx="304812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глед објект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ecorder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сле параметарских подеша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ади посматрања садржаја графика и у перспективи, а не само у првој пројекцији, треба променити одређене вредности н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страницама објект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533160" y="762120"/>
            <a:ext cx="8229240" cy="1047600"/>
            <a:chOff x="533160" y="762120"/>
            <a:chExt cx="8229240" cy="1047600"/>
          </a:xfrm>
        </p:grpSpPr>
        <p:sp>
          <p:nvSpPr>
            <p:cNvPr id="121" name="File"/>
            <p:cNvSpPr/>
            <p:nvPr/>
          </p:nvSpPr>
          <p:spPr>
            <a:xfrm rot="10800000">
              <a:off x="533160" y="761760"/>
              <a:ext cx="8229240" cy="10476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838440"/>
              <a:ext cx="792648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Задатак за симулациј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95280" y="2819520"/>
            <a:ext cx="6324840" cy="3276360"/>
          </a:xfrm>
          <a:prstGeom prst="cloudCallout">
            <a:avLst>
              <a:gd name="adj1" fmla="val 22541"/>
              <a:gd name="adj2" fmla="val -85319"/>
            </a:avLst>
          </a:prstGeom>
          <a:solidFill>
            <a:srgbClr val="cfec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илазак 3 врсте производа на пуфер, после чега се свака врста упућује на обраду на једној од 3 машине (процесора). Са машина се врши отпрема конвејерима до излаза из мо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19320" y="10666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Properties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страна – Особине објек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Поред статистичких, 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Properties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страна садржи и генералне физичке и визуелне информације о објекту.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Tabs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– стране на сваком 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Properties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прозору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81f"/>
                </a:solidFill>
                <a:latin typeface="Arial"/>
              </a:rPr>
              <a:t>Visual</a:t>
            </a:r>
            <a:r>
              <a:rPr b="0" lang="sr-CS" sz="2400" spc="-1" strike="noStrike">
                <a:solidFill>
                  <a:srgbClr val="53481f"/>
                </a:solidFill>
                <a:latin typeface="Arial"/>
              </a:rPr>
              <a:t> - визуелне</a:t>
            </a: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81f"/>
                </a:solidFill>
                <a:latin typeface="Arial"/>
              </a:rPr>
              <a:t>General</a:t>
            </a:r>
            <a:r>
              <a:rPr b="0" lang="sr-CS" sz="2400" spc="-1" strike="noStrike">
                <a:solidFill>
                  <a:srgbClr val="53481f"/>
                </a:solidFill>
                <a:latin typeface="Arial"/>
              </a:rPr>
              <a:t> - опште (тип и име објекта, сви портови) </a:t>
            </a: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81f"/>
                </a:solidFill>
                <a:latin typeface="Arial"/>
              </a:rPr>
              <a:t>Labels</a:t>
            </a:r>
            <a:r>
              <a:rPr b="0" lang="sr-CS" sz="2400" spc="-1" strike="noStrike">
                <a:solidFill>
                  <a:srgbClr val="53481f"/>
                </a:solidFill>
                <a:latin typeface="Arial"/>
              </a:rPr>
              <a:t> - налепнице(напреднији ниво)</a:t>
            </a: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81f"/>
                </a:solidFill>
                <a:latin typeface="Arial"/>
              </a:rPr>
              <a:t>Statistics</a:t>
            </a:r>
            <a:r>
              <a:rPr b="0" lang="sr-CS" sz="2400" spc="-1" strike="noStrike">
                <a:solidFill>
                  <a:srgbClr val="53481f"/>
                </a:solidFill>
                <a:latin typeface="Arial"/>
              </a:rPr>
              <a:t> - статистичке</a:t>
            </a: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29400" y="228600"/>
            <a:ext cx="2057400" cy="533520"/>
          </a:xfrm>
          <a:prstGeom prst="wedgeRoundRectCallout">
            <a:avLst>
              <a:gd name="adj1" fmla="val -52856"/>
              <a:gd name="adj2" fmla="val 946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6629400" y="304560"/>
            <a:ext cx="1752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ual tab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a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6213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5257800" y="4114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оординате и димензије обј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8680" y="1295280"/>
            <a:ext cx="2895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Фајл који садржи информације о изгледу објекта. Може бит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екстензије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.3ds(3DsMax)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dxf(AutoCad).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же се мењати по жељ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3840" y="1346040"/>
            <a:ext cx="3936960" cy="698760"/>
          </a:xfrm>
          <a:custGeom>
            <a:avLst/>
            <a:gdLst/>
            <a:ahLst/>
            <a:rect l="l" t="t" r="r" b="b"/>
            <a:pathLst>
              <a:path w="2480" h="440">
                <a:moveTo>
                  <a:pt x="280" y="112"/>
                </a:moveTo>
                <a:cubicBezTo>
                  <a:pt x="204" y="124"/>
                  <a:pt x="128" y="136"/>
                  <a:pt x="88" y="160"/>
                </a:cubicBezTo>
                <a:cubicBezTo>
                  <a:pt x="48" y="184"/>
                  <a:pt x="0" y="224"/>
                  <a:pt x="40" y="256"/>
                </a:cubicBezTo>
                <a:cubicBezTo>
                  <a:pt x="80" y="288"/>
                  <a:pt x="184" y="336"/>
                  <a:pt x="328" y="352"/>
                </a:cubicBezTo>
                <a:cubicBezTo>
                  <a:pt x="472" y="368"/>
                  <a:pt x="696" y="344"/>
                  <a:pt x="904" y="352"/>
                </a:cubicBezTo>
                <a:cubicBezTo>
                  <a:pt x="1112" y="360"/>
                  <a:pt x="1408" y="392"/>
                  <a:pt x="1576" y="400"/>
                </a:cubicBezTo>
                <a:cubicBezTo>
                  <a:pt x="1744" y="408"/>
                  <a:pt x="1776" y="400"/>
                  <a:pt x="1912" y="400"/>
                </a:cubicBezTo>
                <a:cubicBezTo>
                  <a:pt x="2048" y="400"/>
                  <a:pt x="2304" y="440"/>
                  <a:pt x="2392" y="400"/>
                </a:cubicBezTo>
                <a:cubicBezTo>
                  <a:pt x="2480" y="360"/>
                  <a:pt x="2480" y="224"/>
                  <a:pt x="2440" y="160"/>
                </a:cubicBezTo>
                <a:cubicBezTo>
                  <a:pt x="2400" y="96"/>
                  <a:pt x="2248" y="32"/>
                  <a:pt x="2152" y="16"/>
                </a:cubicBezTo>
                <a:cubicBezTo>
                  <a:pt x="2056" y="0"/>
                  <a:pt x="2024" y="56"/>
                  <a:pt x="1864" y="64"/>
                </a:cubicBezTo>
                <a:cubicBezTo>
                  <a:pt x="1704" y="72"/>
                  <a:pt x="1384" y="64"/>
                  <a:pt x="1192" y="64"/>
                </a:cubicBezTo>
                <a:cubicBezTo>
                  <a:pt x="1000" y="64"/>
                  <a:pt x="824" y="64"/>
                  <a:pt x="712" y="64"/>
                </a:cubicBezTo>
                <a:cubicBezTo>
                  <a:pt x="600" y="64"/>
                  <a:pt x="632" y="56"/>
                  <a:pt x="520" y="64"/>
                </a:cubicBezTo>
                <a:cubicBezTo>
                  <a:pt x="408" y="72"/>
                  <a:pt x="128" y="128"/>
                  <a:pt x="40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3479760"/>
            <a:ext cx="4203720" cy="1625760"/>
          </a:xfrm>
          <a:custGeom>
            <a:avLst/>
            <a:gdLst/>
            <a:ahLst/>
            <a:rect l="l" t="t" r="r" b="b"/>
            <a:pathLst>
              <a:path w="2648" h="1024">
                <a:moveTo>
                  <a:pt x="96" y="64"/>
                </a:moveTo>
                <a:cubicBezTo>
                  <a:pt x="72" y="148"/>
                  <a:pt x="48" y="232"/>
                  <a:pt x="48" y="352"/>
                </a:cubicBezTo>
                <a:cubicBezTo>
                  <a:pt x="48" y="472"/>
                  <a:pt x="24" y="680"/>
                  <a:pt x="96" y="784"/>
                </a:cubicBezTo>
                <a:cubicBezTo>
                  <a:pt x="168" y="888"/>
                  <a:pt x="280" y="936"/>
                  <a:pt x="480" y="976"/>
                </a:cubicBezTo>
                <a:cubicBezTo>
                  <a:pt x="680" y="1016"/>
                  <a:pt x="1008" y="1024"/>
                  <a:pt x="1296" y="1024"/>
                </a:cubicBezTo>
                <a:cubicBezTo>
                  <a:pt x="1584" y="1024"/>
                  <a:pt x="1992" y="1000"/>
                  <a:pt x="2208" y="976"/>
                </a:cubicBezTo>
                <a:cubicBezTo>
                  <a:pt x="2424" y="952"/>
                  <a:pt x="2536" y="968"/>
                  <a:pt x="2592" y="880"/>
                </a:cubicBezTo>
                <a:cubicBezTo>
                  <a:pt x="2648" y="792"/>
                  <a:pt x="2576" y="568"/>
                  <a:pt x="2544" y="448"/>
                </a:cubicBezTo>
                <a:cubicBezTo>
                  <a:pt x="2512" y="328"/>
                  <a:pt x="2624" y="224"/>
                  <a:pt x="2400" y="160"/>
                </a:cubicBezTo>
                <a:cubicBezTo>
                  <a:pt x="2176" y="96"/>
                  <a:pt x="1552" y="88"/>
                  <a:pt x="1200" y="64"/>
                </a:cubicBezTo>
                <a:cubicBezTo>
                  <a:pt x="848" y="40"/>
                  <a:pt x="488" y="0"/>
                  <a:pt x="288" y="16"/>
                </a:cubicBezTo>
                <a:cubicBezTo>
                  <a:pt x="88" y="32"/>
                  <a:pt x="56" y="176"/>
                  <a:pt x="0" y="1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181480" y="914400"/>
            <a:ext cx="3657600" cy="2374920"/>
          </a:xfrm>
          <a:custGeom>
            <a:avLst/>
            <a:gdLst/>
            <a:ahLst/>
            <a:rect l="l" t="t" r="r" b="b"/>
            <a:pathLst>
              <a:path w="2488" h="1592">
                <a:moveTo>
                  <a:pt x="336" y="160"/>
                </a:moveTo>
                <a:cubicBezTo>
                  <a:pt x="168" y="500"/>
                  <a:pt x="0" y="840"/>
                  <a:pt x="192" y="1072"/>
                </a:cubicBezTo>
                <a:cubicBezTo>
                  <a:pt x="384" y="1304"/>
                  <a:pt x="1120" y="1592"/>
                  <a:pt x="1488" y="1552"/>
                </a:cubicBezTo>
                <a:cubicBezTo>
                  <a:pt x="1856" y="1512"/>
                  <a:pt x="2312" y="1080"/>
                  <a:pt x="2400" y="832"/>
                </a:cubicBezTo>
                <a:cubicBezTo>
                  <a:pt x="2488" y="584"/>
                  <a:pt x="2416" y="128"/>
                  <a:pt x="2016" y="64"/>
                </a:cubicBezTo>
                <a:cubicBezTo>
                  <a:pt x="1616" y="0"/>
                  <a:pt x="344" y="416"/>
                  <a:pt x="0" y="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3936960"/>
            <a:ext cx="2959200" cy="1193760"/>
          </a:xfrm>
          <a:custGeom>
            <a:avLst/>
            <a:gdLst/>
            <a:ahLst/>
            <a:rect l="l" t="t" r="r" b="b"/>
            <a:pathLst>
              <a:path w="1864" h="752">
                <a:moveTo>
                  <a:pt x="192" y="112"/>
                </a:moveTo>
                <a:cubicBezTo>
                  <a:pt x="128" y="276"/>
                  <a:pt x="64" y="440"/>
                  <a:pt x="192" y="544"/>
                </a:cubicBezTo>
                <a:cubicBezTo>
                  <a:pt x="320" y="648"/>
                  <a:pt x="688" y="752"/>
                  <a:pt x="960" y="736"/>
                </a:cubicBezTo>
                <a:cubicBezTo>
                  <a:pt x="1232" y="720"/>
                  <a:pt x="1784" y="560"/>
                  <a:pt x="1824" y="448"/>
                </a:cubicBezTo>
                <a:cubicBezTo>
                  <a:pt x="1864" y="336"/>
                  <a:pt x="1464" y="128"/>
                  <a:pt x="1200" y="64"/>
                </a:cubicBezTo>
                <a:cubicBezTo>
                  <a:pt x="936" y="0"/>
                  <a:pt x="440" y="40"/>
                  <a:pt x="240" y="64"/>
                </a:cubicBezTo>
                <a:cubicBezTo>
                  <a:pt x="40" y="88"/>
                  <a:pt x="20" y="148"/>
                  <a:pt x="0" y="20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3505320" y="1828440"/>
            <a:ext cx="1752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4038480" y="4190760"/>
            <a:ext cx="1447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781680" y="5943600"/>
            <a:ext cx="2057400" cy="533520"/>
          </a:xfrm>
          <a:prstGeom prst="wedgeRoundRectCallout">
            <a:avLst>
              <a:gd name="adj1" fmla="val -45449"/>
              <a:gd name="adj2" fmla="val -13065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6248520" y="228600"/>
            <a:ext cx="2209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tab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311720" cy="6400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990720" y="838080"/>
            <a:ext cx="3479760" cy="698760"/>
          </a:xfrm>
          <a:custGeom>
            <a:avLst/>
            <a:gdLst/>
            <a:ahLst/>
            <a:rect l="l" t="t" r="r" b="b"/>
            <a:pathLst>
              <a:path w="2480" h="440">
                <a:moveTo>
                  <a:pt x="280" y="112"/>
                </a:moveTo>
                <a:cubicBezTo>
                  <a:pt x="204" y="124"/>
                  <a:pt x="128" y="136"/>
                  <a:pt x="88" y="160"/>
                </a:cubicBezTo>
                <a:cubicBezTo>
                  <a:pt x="48" y="184"/>
                  <a:pt x="0" y="224"/>
                  <a:pt x="40" y="256"/>
                </a:cubicBezTo>
                <a:cubicBezTo>
                  <a:pt x="80" y="288"/>
                  <a:pt x="184" y="336"/>
                  <a:pt x="328" y="352"/>
                </a:cubicBezTo>
                <a:cubicBezTo>
                  <a:pt x="472" y="368"/>
                  <a:pt x="696" y="344"/>
                  <a:pt x="904" y="352"/>
                </a:cubicBezTo>
                <a:cubicBezTo>
                  <a:pt x="1112" y="360"/>
                  <a:pt x="1408" y="392"/>
                  <a:pt x="1576" y="400"/>
                </a:cubicBezTo>
                <a:cubicBezTo>
                  <a:pt x="1744" y="408"/>
                  <a:pt x="1776" y="400"/>
                  <a:pt x="1912" y="400"/>
                </a:cubicBezTo>
                <a:cubicBezTo>
                  <a:pt x="2048" y="400"/>
                  <a:pt x="2304" y="440"/>
                  <a:pt x="2392" y="400"/>
                </a:cubicBezTo>
                <a:cubicBezTo>
                  <a:pt x="2480" y="360"/>
                  <a:pt x="2480" y="224"/>
                  <a:pt x="2440" y="160"/>
                </a:cubicBezTo>
                <a:cubicBezTo>
                  <a:pt x="2400" y="96"/>
                  <a:pt x="2248" y="32"/>
                  <a:pt x="2152" y="16"/>
                </a:cubicBezTo>
                <a:cubicBezTo>
                  <a:pt x="2056" y="0"/>
                  <a:pt x="2024" y="56"/>
                  <a:pt x="1864" y="64"/>
                </a:cubicBezTo>
                <a:cubicBezTo>
                  <a:pt x="1704" y="72"/>
                  <a:pt x="1384" y="64"/>
                  <a:pt x="1192" y="64"/>
                </a:cubicBezTo>
                <a:cubicBezTo>
                  <a:pt x="1000" y="64"/>
                  <a:pt x="824" y="64"/>
                  <a:pt x="712" y="64"/>
                </a:cubicBezTo>
                <a:cubicBezTo>
                  <a:pt x="600" y="64"/>
                  <a:pt x="632" y="56"/>
                  <a:pt x="520" y="64"/>
                </a:cubicBezTo>
                <a:cubicBezTo>
                  <a:pt x="408" y="72"/>
                  <a:pt x="128" y="128"/>
                  <a:pt x="40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2514600"/>
            <a:ext cx="4267440" cy="1905120"/>
          </a:xfrm>
          <a:custGeom>
            <a:avLst/>
            <a:gdLst/>
            <a:ahLst/>
            <a:rect l="l" t="t" r="r" b="b"/>
            <a:pathLst>
              <a:path w="2648" h="1024">
                <a:moveTo>
                  <a:pt x="96" y="64"/>
                </a:moveTo>
                <a:cubicBezTo>
                  <a:pt x="72" y="148"/>
                  <a:pt x="48" y="232"/>
                  <a:pt x="48" y="352"/>
                </a:cubicBezTo>
                <a:cubicBezTo>
                  <a:pt x="48" y="472"/>
                  <a:pt x="24" y="680"/>
                  <a:pt x="96" y="784"/>
                </a:cubicBezTo>
                <a:cubicBezTo>
                  <a:pt x="168" y="888"/>
                  <a:pt x="280" y="936"/>
                  <a:pt x="480" y="976"/>
                </a:cubicBezTo>
                <a:cubicBezTo>
                  <a:pt x="680" y="1016"/>
                  <a:pt x="1008" y="1024"/>
                  <a:pt x="1296" y="1024"/>
                </a:cubicBezTo>
                <a:cubicBezTo>
                  <a:pt x="1584" y="1024"/>
                  <a:pt x="1992" y="1000"/>
                  <a:pt x="2208" y="976"/>
                </a:cubicBezTo>
                <a:cubicBezTo>
                  <a:pt x="2424" y="952"/>
                  <a:pt x="2536" y="968"/>
                  <a:pt x="2592" y="880"/>
                </a:cubicBezTo>
                <a:cubicBezTo>
                  <a:pt x="2648" y="792"/>
                  <a:pt x="2576" y="568"/>
                  <a:pt x="2544" y="448"/>
                </a:cubicBezTo>
                <a:cubicBezTo>
                  <a:pt x="2512" y="328"/>
                  <a:pt x="2624" y="224"/>
                  <a:pt x="2400" y="160"/>
                </a:cubicBezTo>
                <a:cubicBezTo>
                  <a:pt x="2176" y="96"/>
                  <a:pt x="1552" y="88"/>
                  <a:pt x="1200" y="64"/>
                </a:cubicBezTo>
                <a:cubicBezTo>
                  <a:pt x="848" y="40"/>
                  <a:pt x="488" y="0"/>
                  <a:pt x="288" y="16"/>
                </a:cubicBezTo>
                <a:cubicBezTo>
                  <a:pt x="88" y="32"/>
                  <a:pt x="56" y="176"/>
                  <a:pt x="0" y="1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181480" y="914400"/>
            <a:ext cx="2057400" cy="1219320"/>
          </a:xfrm>
          <a:custGeom>
            <a:avLst/>
            <a:gdLst/>
            <a:ahLst/>
            <a:rect l="l" t="t" r="r" b="b"/>
            <a:pathLst>
              <a:path w="2488" h="1592">
                <a:moveTo>
                  <a:pt x="336" y="160"/>
                </a:moveTo>
                <a:cubicBezTo>
                  <a:pt x="168" y="500"/>
                  <a:pt x="0" y="840"/>
                  <a:pt x="192" y="1072"/>
                </a:cubicBezTo>
                <a:cubicBezTo>
                  <a:pt x="384" y="1304"/>
                  <a:pt x="1120" y="1592"/>
                  <a:pt x="1488" y="1552"/>
                </a:cubicBezTo>
                <a:cubicBezTo>
                  <a:pt x="1856" y="1512"/>
                  <a:pt x="2312" y="1080"/>
                  <a:pt x="2400" y="832"/>
                </a:cubicBezTo>
                <a:cubicBezTo>
                  <a:pt x="2488" y="584"/>
                  <a:pt x="2416" y="128"/>
                  <a:pt x="2016" y="64"/>
                </a:cubicBezTo>
                <a:cubicBezTo>
                  <a:pt x="1616" y="0"/>
                  <a:pt x="344" y="416"/>
                  <a:pt x="0" y="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34120" y="3505320"/>
            <a:ext cx="2286000" cy="1600200"/>
          </a:xfrm>
          <a:custGeom>
            <a:avLst/>
            <a:gdLst/>
            <a:ahLst/>
            <a:rect l="l" t="t" r="r" b="b"/>
            <a:pathLst>
              <a:path w="1864" h="752">
                <a:moveTo>
                  <a:pt x="192" y="112"/>
                </a:moveTo>
                <a:cubicBezTo>
                  <a:pt x="128" y="276"/>
                  <a:pt x="64" y="440"/>
                  <a:pt x="192" y="544"/>
                </a:cubicBezTo>
                <a:cubicBezTo>
                  <a:pt x="320" y="648"/>
                  <a:pt x="688" y="752"/>
                  <a:pt x="960" y="736"/>
                </a:cubicBezTo>
                <a:cubicBezTo>
                  <a:pt x="1232" y="720"/>
                  <a:pt x="1784" y="560"/>
                  <a:pt x="1824" y="448"/>
                </a:cubicBezTo>
                <a:cubicBezTo>
                  <a:pt x="1864" y="336"/>
                  <a:pt x="1464" y="128"/>
                  <a:pt x="1200" y="64"/>
                </a:cubicBezTo>
                <a:cubicBezTo>
                  <a:pt x="936" y="0"/>
                  <a:pt x="440" y="40"/>
                  <a:pt x="240" y="64"/>
                </a:cubicBezTo>
                <a:cubicBezTo>
                  <a:pt x="40" y="88"/>
                  <a:pt x="20" y="148"/>
                  <a:pt x="0" y="20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3848040" y="1320480"/>
            <a:ext cx="1549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4346640" y="3682800"/>
            <a:ext cx="1279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486400" y="36576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лазни, централни и излазни порто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334120" y="12952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ме и тип обј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477120" y="5943600"/>
            <a:ext cx="2057400" cy="533520"/>
          </a:xfrm>
          <a:prstGeom prst="wedgeRoundRectCallout">
            <a:avLst>
              <a:gd name="adj1" fmla="val -39814"/>
              <a:gd name="adj2" fmla="val -13065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4879800" cy="72388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105520" y="152280"/>
            <a:ext cx="3809880" cy="29037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5334120" y="38098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објекат изгледао као на горњој слици потребно је унети заокружене параме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04920" y="4419720"/>
            <a:ext cx="1231920" cy="444240"/>
          </a:xfrm>
          <a:custGeom>
            <a:avLst/>
            <a:gdLst/>
            <a:ahLst/>
            <a:rect l="l" t="t" r="r" b="b"/>
            <a:pathLst>
              <a:path w="776" h="280">
                <a:moveTo>
                  <a:pt x="152" y="72"/>
                </a:moveTo>
                <a:cubicBezTo>
                  <a:pt x="76" y="104"/>
                  <a:pt x="0" y="136"/>
                  <a:pt x="8" y="168"/>
                </a:cubicBezTo>
                <a:cubicBezTo>
                  <a:pt x="16" y="200"/>
                  <a:pt x="88" y="248"/>
                  <a:pt x="200" y="264"/>
                </a:cubicBezTo>
                <a:cubicBezTo>
                  <a:pt x="312" y="280"/>
                  <a:pt x="584" y="280"/>
                  <a:pt x="680" y="264"/>
                </a:cubicBezTo>
                <a:cubicBezTo>
                  <a:pt x="776" y="248"/>
                  <a:pt x="776" y="208"/>
                  <a:pt x="776" y="168"/>
                </a:cubicBezTo>
                <a:cubicBezTo>
                  <a:pt x="776" y="128"/>
                  <a:pt x="760" y="48"/>
                  <a:pt x="680" y="24"/>
                </a:cubicBezTo>
                <a:cubicBezTo>
                  <a:pt x="600" y="0"/>
                  <a:pt x="408" y="8"/>
                  <a:pt x="296" y="24"/>
                </a:cubicBezTo>
                <a:cubicBezTo>
                  <a:pt x="184" y="40"/>
                  <a:pt x="72" y="120"/>
                  <a:pt x="8" y="1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565280" y="3657600"/>
            <a:ext cx="1427040" cy="468360"/>
          </a:xfrm>
          <a:custGeom>
            <a:avLst/>
            <a:gdLst/>
            <a:ahLst/>
            <a:rect l="l" t="t" r="r" b="b"/>
            <a:pathLst>
              <a:path w="899" h="295">
                <a:moveTo>
                  <a:pt x="102" y="37"/>
                </a:moveTo>
                <a:cubicBezTo>
                  <a:pt x="87" y="64"/>
                  <a:pt x="0" y="151"/>
                  <a:pt x="11" y="192"/>
                </a:cubicBezTo>
                <a:cubicBezTo>
                  <a:pt x="22" y="233"/>
                  <a:pt x="38" y="271"/>
                  <a:pt x="166" y="283"/>
                </a:cubicBezTo>
                <a:cubicBezTo>
                  <a:pt x="294" y="295"/>
                  <a:pt x="659" y="283"/>
                  <a:pt x="779" y="264"/>
                </a:cubicBezTo>
                <a:cubicBezTo>
                  <a:pt x="899" y="245"/>
                  <a:pt x="886" y="208"/>
                  <a:pt x="886" y="168"/>
                </a:cubicBezTo>
                <a:cubicBezTo>
                  <a:pt x="886" y="128"/>
                  <a:pt x="868" y="48"/>
                  <a:pt x="779" y="24"/>
                </a:cubicBezTo>
                <a:cubicBezTo>
                  <a:pt x="690" y="0"/>
                  <a:pt x="466" y="17"/>
                  <a:pt x="352" y="24"/>
                </a:cubicBezTo>
                <a:cubicBezTo>
                  <a:pt x="238" y="31"/>
                  <a:pt x="147" y="56"/>
                  <a:pt x="93" y="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880" y="106632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иближавање модела реал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Додавање диспечера и 2 оператера 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Додавање пуфера и виљушкар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Додавање 3 селективна палетна регал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Коришћење глобалне табеле з</a:t>
            </a:r>
            <a:r>
              <a:rPr b="1" lang="en-US" sz="2400" spc="-1" strike="noStrike">
                <a:solidFill>
                  <a:srgbClr val="00006a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 рутирање производ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Коришћење мрежних чворова за путање виљушкар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822040" y="762120"/>
            <a:ext cx="6025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одавање диспечера и 2 оператер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13716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638680" cy="4294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6324480" y="160020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испечер управља оператерима који носе производе од пуфера ка машин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477120" y="380988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испечер је спојен са операторима излазно-улазном везом, док је са пуфером спојен централ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553080" y="1219320"/>
            <a:ext cx="259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то диспечер и оператери служе да транспортују производе од пуфера до машина, на параметарској страници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(ток)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Queue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ора бити чекирано коришћење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6477120" cy="53974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7840" y="2984400"/>
            <a:ext cx="1663560" cy="596880"/>
          </a:xfrm>
          <a:custGeom>
            <a:avLst/>
            <a:gdLst/>
            <a:ahLst/>
            <a:rect l="l" t="t" r="r" b="b"/>
            <a:pathLst>
              <a:path w="1048" h="376">
                <a:moveTo>
                  <a:pt x="176" y="88"/>
                </a:moveTo>
                <a:cubicBezTo>
                  <a:pt x="72" y="136"/>
                  <a:pt x="0" y="288"/>
                  <a:pt x="128" y="328"/>
                </a:cubicBezTo>
                <a:cubicBezTo>
                  <a:pt x="256" y="368"/>
                  <a:pt x="840" y="376"/>
                  <a:pt x="944" y="328"/>
                </a:cubicBezTo>
                <a:cubicBezTo>
                  <a:pt x="1048" y="280"/>
                  <a:pt x="872" y="80"/>
                  <a:pt x="752" y="40"/>
                </a:cubicBezTo>
                <a:cubicBezTo>
                  <a:pt x="632" y="0"/>
                  <a:pt x="280" y="40"/>
                  <a:pt x="176" y="88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019920" y="2286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ко желомо да искористимо оператере за припрему процеса обраде који се обавља на машинама, треба 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5867280" cy="44686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6324480" y="3886200"/>
            <a:ext cx="243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појимо централним портовима диспечера и машин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6019920" cy="42116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228600" y="5410080"/>
            <a:ext cx="5334120" cy="11239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6477120" y="9144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несемо траја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мештања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up time)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 параметарској страници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cess Tim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-152280" y="1905120"/>
            <a:ext cx="5562360" cy="761760"/>
          </a:xfrm>
          <a:custGeom>
            <a:avLst/>
            <a:gdLst/>
            <a:ahLst/>
            <a:rect l="l" t="t" r="r" b="b"/>
            <a:pathLst>
              <a:path w="3496" h="320">
                <a:moveTo>
                  <a:pt x="360" y="40"/>
                </a:moveTo>
                <a:cubicBezTo>
                  <a:pt x="328" y="92"/>
                  <a:pt x="296" y="144"/>
                  <a:pt x="312" y="184"/>
                </a:cubicBezTo>
                <a:cubicBezTo>
                  <a:pt x="328" y="224"/>
                  <a:pt x="0" y="264"/>
                  <a:pt x="456" y="280"/>
                </a:cubicBezTo>
                <a:cubicBezTo>
                  <a:pt x="912" y="296"/>
                  <a:pt x="2600" y="320"/>
                  <a:pt x="3048" y="280"/>
                </a:cubicBezTo>
                <a:cubicBezTo>
                  <a:pt x="3496" y="240"/>
                  <a:pt x="3240" y="80"/>
                  <a:pt x="3144" y="40"/>
                </a:cubicBezTo>
                <a:cubicBezTo>
                  <a:pt x="3048" y="0"/>
                  <a:pt x="2824" y="40"/>
                  <a:pt x="2472" y="40"/>
                </a:cubicBezTo>
                <a:cubicBezTo>
                  <a:pt x="2120" y="40"/>
                  <a:pt x="1400" y="32"/>
                  <a:pt x="1032" y="40"/>
                </a:cubicBezTo>
                <a:cubicBezTo>
                  <a:pt x="664" y="48"/>
                  <a:pt x="392" y="104"/>
                  <a:pt x="264" y="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200400" y="2438280"/>
            <a:ext cx="1752480" cy="3353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6019920" cy="50292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6553080" y="160020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... На параметарској страници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perators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значимо да желимо да користимо оператере за припрему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52280" y="2044800"/>
            <a:ext cx="2235240" cy="635040"/>
          </a:xfrm>
          <a:custGeom>
            <a:avLst/>
            <a:gdLst/>
            <a:ahLst/>
            <a:rect l="l" t="t" r="r" b="b"/>
            <a:pathLst>
              <a:path w="1408" h="400">
                <a:moveTo>
                  <a:pt x="96" y="8"/>
                </a:moveTo>
                <a:cubicBezTo>
                  <a:pt x="72" y="148"/>
                  <a:pt x="48" y="288"/>
                  <a:pt x="240" y="344"/>
                </a:cubicBezTo>
                <a:cubicBezTo>
                  <a:pt x="432" y="400"/>
                  <a:pt x="1088" y="392"/>
                  <a:pt x="1248" y="344"/>
                </a:cubicBezTo>
                <a:cubicBezTo>
                  <a:pt x="1408" y="296"/>
                  <a:pt x="1376" y="112"/>
                  <a:pt x="1200" y="56"/>
                </a:cubicBezTo>
                <a:cubicBezTo>
                  <a:pt x="1024" y="0"/>
                  <a:pt x="384" y="8"/>
                  <a:pt x="192" y="8"/>
                </a:cubicBezTo>
                <a:cubicBezTo>
                  <a:pt x="0" y="8"/>
                  <a:pt x="72" y="80"/>
                  <a:pt x="48" y="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781680" y="533520"/>
            <a:ext cx="2057400" cy="1218960"/>
          </a:xfrm>
          <a:prstGeom prst="wedgeRoundRectCallout">
            <a:avLst>
              <a:gd name="adj1" fmla="val 25847"/>
              <a:gd name="adj2" fmla="val 16132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вршетак посматраног тока произ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3200400"/>
            <a:ext cx="99036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Изв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3124080"/>
            <a:ext cx="1066680" cy="914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уф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2057400"/>
            <a:ext cx="11430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286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3048120"/>
            <a:ext cx="91440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он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3200400"/>
            <a:ext cx="12193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419720"/>
            <a:ext cx="114300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429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648320"/>
            <a:ext cx="25909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295280" y="31240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666880" y="20570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1240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3124080"/>
            <a:ext cx="609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20574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3200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4419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228600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34290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391520" y="35049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3124080"/>
            <a:ext cx="380880" cy="304920"/>
          </a:xfrm>
          <a:prstGeom prst="cube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3124080"/>
            <a:ext cx="380880" cy="304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124080"/>
            <a:ext cx="304920" cy="3049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905120"/>
            <a:ext cx="2057400" cy="914400"/>
          </a:xfrm>
          <a:prstGeom prst="wedgeRoundRectCallout">
            <a:avLst>
              <a:gd name="adj1" fmla="val -23611"/>
              <a:gd name="adj2" fmla="val 70138"/>
              <a:gd name="adj3" fmla="val 16667"/>
            </a:avLst>
          </a:prstGeom>
          <a:solidFill>
            <a:srgbClr val="567e26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етак посматраног  тока произ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24680" y="3048120"/>
            <a:ext cx="76212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924320" y="3124080"/>
            <a:ext cx="83844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1295280"/>
            <a:ext cx="1371600" cy="457200"/>
          </a:xfrm>
          <a:prstGeom prst="wedgeRoundRectCallout">
            <a:avLst>
              <a:gd name="adj1" fmla="val -47222"/>
              <a:gd name="adj2" fmla="val 322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к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85800"/>
            <a:ext cx="1143000" cy="457200"/>
          </a:xfrm>
          <a:prstGeom prst="wedgeRoundRectCallout">
            <a:avLst>
              <a:gd name="adj1" fmla="val 8750"/>
              <a:gd name="adj2" fmla="val 2350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990720"/>
            <a:ext cx="1752480" cy="457200"/>
          </a:xfrm>
          <a:prstGeom prst="wedgeRoundRectCallout">
            <a:avLst>
              <a:gd name="adj1" fmla="val 7518"/>
              <a:gd name="adj2" fmla="val 196180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56647E-006 L 0.15416 4.56647E-006 E">
                                      <p:cBhvr>
                                        <p:cTn id="11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56647E-006 L 0.15 4.56647E-006 E">
                                      <p:cBhvr>
                                        <p:cTn id="11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56647E-006 L 0.15417 4.56647E-006 E">
                                      <p:cBhvr>
                                        <p:cTn id="117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416 1.09827E-006 L 0.28333 -0.14428 E">
                                      <p:cBhvr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416 4.56647E-006 L 0.3375 0.01109 E">
                                      <p:cBhvr>
                                        <p:cTn id="12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 4.56647E-006 L 0.38333 0.19976 E">
                                      <p:cBhvr>
                                        <p:cTn id="12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0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8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-0.14428 L 0.67084 -0.13318 E">
                                      <p:cBhvr>
                                        <p:cTn id="143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75 0.0111 L 0.72083 0.0222 E">
                                      <p:cBhvr>
                                        <p:cTn id="14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333 0.19976 L 0.75833 0.21086 E">
                                      <p:cBhvr>
                                        <p:cTn id="147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084 -0.13318 L 0.8375 0.03329 E">
                                      <p:cBhvr>
                                        <p:cTn id="15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083 0.02219 L 0.8375 0.03329 E">
                                      <p:cBhvr>
                                        <p:cTn id="15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33 0.21086 L 0.84166 0.03329 E">
                                      <p:cBhvr>
                                        <p:cTn id="15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6095880" cy="36986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6477120" y="5335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553080" y="228600"/>
            <a:ext cx="25909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. Додавање пуфера и виљушк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53080" y="1600200"/>
            <a:ext cx="2362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смо уопште дошли до оваквог лејаута прво смо морали да прекинемо излазно-улазне везе између сва три конвејера и понор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ink)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том смо повезали конвејере и пуфер, пуфер и понор, док смо централном везом спојили пуфер и виљушк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0880" y="4724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вде нема диспечера јер постоји само један виљушка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581280" y="4648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о и код претходног пуфера и овде морамо да чекирамо употребу транспор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248520" y="3049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3. Додавање 3 селективна палетна рег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6019560" cy="406548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6629400" y="182880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требно је прво прекинути везе између пуфера и понора па затим повезати пуфер и регале као на сл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5791320" y="68580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762120" y="1066680"/>
          <a:ext cx="4038480" cy="20098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7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Врста произ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По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Производ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Производ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Производ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8" name=""/>
          <p:cNvSpPr/>
          <p:nvPr/>
        </p:nvSpPr>
        <p:spPr>
          <a:xfrm>
            <a:off x="5257800" y="990720"/>
            <a:ext cx="3505320" cy="1904760"/>
          </a:xfrm>
          <a:prstGeom prst="wedgeRoundRectCallout">
            <a:avLst>
              <a:gd name="adj1" fmla="val -65851"/>
              <a:gd name="adj2" fmla="val 26916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и који одговарају овим портовима су у ствари рег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371600" y="3809880"/>
            <a:ext cx="434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тпоставимо да треба да рутирамо производе у складу са горњом табелом. За сваку акцију која се може или мора представити табеларно постоји разрађен механизам глобалних табела (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Global T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a"/>
                </a:solidFill>
                <a:latin typeface="Arial"/>
              </a:rPr>
              <a:t>K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ако поставити глобалну табелу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заберите 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“ToolBox”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коницу 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На 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Global Tables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заберите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“Add”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Global Tables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заберите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“Edit”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финишите број редова и колона и притисните 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Apply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ајте име табел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битно је да ли су мала или велика слова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На табелу се у току рада позивамо њеним именом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334120" y="1523880"/>
          <a:ext cx="990360" cy="3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523880"/>
                    <a:ext cx="9903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228600" y="762120"/>
            <a:ext cx="2057400" cy="533160"/>
          </a:xfrm>
          <a:prstGeom prst="wedgeRoundRectCallout">
            <a:avLst>
              <a:gd name="adj1" fmla="val 93828"/>
              <a:gd name="adj2" fmla="val 4910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6629400" y="2133720"/>
            <a:ext cx="752400" cy="360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7543800" y="2971800"/>
            <a:ext cx="914400" cy="3808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6019920" y="3886200"/>
            <a:ext cx="1904760" cy="9936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6"/>
          <a:stretch/>
        </p:blipFill>
        <p:spPr>
          <a:xfrm>
            <a:off x="5029200" y="5276880"/>
            <a:ext cx="1981080" cy="4906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486400" y="3733920"/>
            <a:ext cx="2882880" cy="1333440"/>
          </a:xfrm>
          <a:custGeom>
            <a:avLst/>
            <a:gdLst/>
            <a:ahLst/>
            <a:rect l="l" t="t" r="r" b="b"/>
            <a:pathLst>
              <a:path w="1816" h="840">
                <a:moveTo>
                  <a:pt x="240" y="56"/>
                </a:moveTo>
                <a:cubicBezTo>
                  <a:pt x="168" y="120"/>
                  <a:pt x="96" y="184"/>
                  <a:pt x="96" y="296"/>
                </a:cubicBezTo>
                <a:cubicBezTo>
                  <a:pt x="96" y="408"/>
                  <a:pt x="120" y="640"/>
                  <a:pt x="240" y="728"/>
                </a:cubicBezTo>
                <a:cubicBezTo>
                  <a:pt x="360" y="816"/>
                  <a:pt x="576" y="840"/>
                  <a:pt x="816" y="824"/>
                </a:cubicBezTo>
                <a:cubicBezTo>
                  <a:pt x="1056" y="808"/>
                  <a:pt x="1544" y="752"/>
                  <a:pt x="1680" y="632"/>
                </a:cubicBezTo>
                <a:cubicBezTo>
                  <a:pt x="1816" y="512"/>
                  <a:pt x="1808" y="208"/>
                  <a:pt x="1632" y="104"/>
                </a:cubicBezTo>
                <a:cubicBezTo>
                  <a:pt x="1456" y="0"/>
                  <a:pt x="896" y="0"/>
                  <a:pt x="624" y="8"/>
                </a:cubicBezTo>
                <a:cubicBezTo>
                  <a:pt x="352" y="16"/>
                  <a:pt x="104" y="120"/>
                  <a:pt x="0" y="1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86480" y="5156280"/>
            <a:ext cx="2679480" cy="749160"/>
          </a:xfrm>
          <a:custGeom>
            <a:avLst/>
            <a:gdLst/>
            <a:ahLst/>
            <a:rect l="l" t="t" r="r" b="b"/>
            <a:pathLst>
              <a:path w="1688" h="472">
                <a:moveTo>
                  <a:pt x="168" y="64"/>
                </a:moveTo>
                <a:cubicBezTo>
                  <a:pt x="84" y="152"/>
                  <a:pt x="0" y="240"/>
                  <a:pt x="24" y="304"/>
                </a:cubicBezTo>
                <a:cubicBezTo>
                  <a:pt x="48" y="368"/>
                  <a:pt x="104" y="424"/>
                  <a:pt x="312" y="448"/>
                </a:cubicBezTo>
                <a:cubicBezTo>
                  <a:pt x="520" y="472"/>
                  <a:pt x="1056" y="456"/>
                  <a:pt x="1272" y="448"/>
                </a:cubicBezTo>
                <a:cubicBezTo>
                  <a:pt x="1488" y="440"/>
                  <a:pt x="1544" y="456"/>
                  <a:pt x="1608" y="400"/>
                </a:cubicBezTo>
                <a:cubicBezTo>
                  <a:pt x="1672" y="344"/>
                  <a:pt x="1688" y="176"/>
                  <a:pt x="1656" y="112"/>
                </a:cubicBezTo>
                <a:cubicBezTo>
                  <a:pt x="1624" y="48"/>
                  <a:pt x="1576" y="32"/>
                  <a:pt x="1416" y="16"/>
                </a:cubicBezTo>
                <a:cubicBezTo>
                  <a:pt x="1256" y="0"/>
                  <a:pt x="888" y="16"/>
                  <a:pt x="696" y="16"/>
                </a:cubicBezTo>
                <a:cubicBezTo>
                  <a:pt x="504" y="16"/>
                  <a:pt x="376" y="0"/>
                  <a:pt x="264" y="16"/>
                </a:cubicBezTo>
                <a:cubicBezTo>
                  <a:pt x="152" y="32"/>
                  <a:pt x="88" y="72"/>
                  <a:pt x="24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4495680" y="76320"/>
            <a:ext cx="449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од пуфера производи заиста продужавали пут ка регалима у складу са табелом, потребно је изабрати опцију у параметарској страници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Queue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228600" y="1549440"/>
          <a:ext cx="61722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9440"/>
                    <a:ext cx="61722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2362320" y="4941720"/>
            <a:ext cx="5943600" cy="136224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5486400" y="3429000"/>
            <a:ext cx="83808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143680" y="3048120"/>
            <a:ext cx="457200" cy="49536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4" y="120"/>
                </a:moveTo>
                <a:cubicBezTo>
                  <a:pt x="0" y="176"/>
                  <a:pt x="32" y="336"/>
                  <a:pt x="72" y="360"/>
                </a:cubicBezTo>
                <a:cubicBezTo>
                  <a:pt x="112" y="384"/>
                  <a:pt x="240" y="320"/>
                  <a:pt x="264" y="264"/>
                </a:cubicBezTo>
                <a:cubicBezTo>
                  <a:pt x="288" y="208"/>
                  <a:pt x="264" y="48"/>
                  <a:pt x="216" y="24"/>
                </a:cubicBezTo>
                <a:cubicBezTo>
                  <a:pt x="168" y="0"/>
                  <a:pt x="48" y="64"/>
                  <a:pt x="24" y="12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5181480" y="152280"/>
            <a:ext cx="3962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ришћење мрежних чворова за путање виљушк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324480" y="457200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има тип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Network Node)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е обезбеђује да транспортери прате сложену путању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ју ови објекти формир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6248520" cy="421956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3962520" y="3429000"/>
            <a:ext cx="533160" cy="393840"/>
          </a:xfrm>
          <a:custGeom>
            <a:avLst/>
            <a:gdLst/>
            <a:ahLst/>
            <a:rect l="l" t="t" r="r" b="b"/>
            <a:pathLst>
              <a:path w="336" h="248">
                <a:moveTo>
                  <a:pt x="96" y="72"/>
                </a:moveTo>
                <a:cubicBezTo>
                  <a:pt x="80" y="132"/>
                  <a:pt x="64" y="192"/>
                  <a:pt x="96" y="216"/>
                </a:cubicBezTo>
                <a:cubicBezTo>
                  <a:pt x="128" y="240"/>
                  <a:pt x="256" y="248"/>
                  <a:pt x="288" y="216"/>
                </a:cubicBezTo>
                <a:cubicBezTo>
                  <a:pt x="320" y="184"/>
                  <a:pt x="336" y="48"/>
                  <a:pt x="288" y="24"/>
                </a:cubicBezTo>
                <a:cubicBezTo>
                  <a:pt x="240" y="0"/>
                  <a:pt x="120" y="36"/>
                  <a:pt x="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4419720" y="3733920"/>
            <a:ext cx="213336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666880" y="9907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утања се формира коришћењем неколико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Network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Nodes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везаних помоћу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“A”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ипке, исто као код излазно-улазних портова.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Макар један Мрежни чвор мора бити повезан са сваком утоварном и истоварном станицом. У нашем случају са пуфером и регалима. Опет користимо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“A”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ипку.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ранспортер се додељује путањи повезивањем са било којим мрежним чвором у путањи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моћу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“A”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ипке.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7543800" y="457200"/>
          <a:ext cx="106668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457200"/>
                    <a:ext cx="10666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>
            <a:off x="533520" y="5257800"/>
            <a:ext cx="2057400" cy="533520"/>
          </a:xfrm>
          <a:prstGeom prst="wedgeRoundRectCallout">
            <a:avLst>
              <a:gd name="adj1" fmla="val 46912"/>
              <a:gd name="adj2" fmla="val -114879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62520" y="22824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зивањ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Као код излазно-улазних портова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 спајању види се зелена линија као и средишна тачка која одређује кривину. 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мерањем тачке закривљујемо путању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6a"/>
                </a:solidFill>
                <a:latin typeface="Arial"/>
              </a:rPr>
              <a:t>X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и клик на средишњу тачку додаје још једну тачку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4800600" y="1143000"/>
          <a:ext cx="3598920" cy="13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3598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4800600" y="2514600"/>
          <a:ext cx="35989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514600"/>
                    <a:ext cx="35989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8267760" y="2743200"/>
          <a:ext cx="19044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7760" y="2743200"/>
                    <a:ext cx="1904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4876920" y="3962520"/>
          <a:ext cx="338112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962520"/>
                    <a:ext cx="33811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4800600" y="5181480"/>
          <a:ext cx="3352680" cy="144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5181480"/>
                    <a:ext cx="33526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781680" cy="45799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5562720" y="2286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зивање Мрежних чворова и утоварних и истоварних ст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162920" y="2666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лаве лин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6095520" y="3048120"/>
            <a:ext cx="175284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2819160" y="3048120"/>
            <a:ext cx="4800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7162920" cy="48369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4800600" y="304920"/>
            <a:ext cx="4191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зивање Мрежних чворова и транспор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39152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Црвена лин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495320" y="2895480"/>
            <a:ext cx="312444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3200400"/>
            <a:ext cx="99036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Изв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3124080"/>
            <a:ext cx="1066680" cy="914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уф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2057400"/>
            <a:ext cx="11430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2286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01000" y="3048120"/>
            <a:ext cx="91440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он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200400"/>
            <a:ext cx="12193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4419720"/>
            <a:ext cx="114300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3429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4648320"/>
            <a:ext cx="25909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295280" y="31240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666880" y="20570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31240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3124080"/>
            <a:ext cx="609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0574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200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4419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15200" y="228600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34290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391520" y="35049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3048120"/>
            <a:ext cx="76212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924320" y="3124080"/>
            <a:ext cx="83844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133720"/>
            <a:ext cx="1523880" cy="609480"/>
          </a:xfrm>
          <a:prstGeom prst="wedgeRoundRectCallout">
            <a:avLst>
              <a:gd name="adj1" fmla="val 19689"/>
              <a:gd name="adj2" fmla="val 114064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ацитет пуф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04920"/>
            <a:ext cx="2133720" cy="685800"/>
          </a:xfrm>
          <a:prstGeom prst="wedgeRoundRectCallout">
            <a:avLst>
              <a:gd name="adj1" fmla="val -12722"/>
              <a:gd name="adj2" fmla="val 2050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 обра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xponential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5486400"/>
            <a:ext cx="3048120" cy="457200"/>
          </a:xfrm>
          <a:prstGeom prst="wedgeRoundRectCallout">
            <a:avLst>
              <a:gd name="adj1" fmla="val -26717"/>
              <a:gd name="adj2" fmla="val -157986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вејера: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4495680"/>
            <a:ext cx="1904760" cy="1295640"/>
          </a:xfrm>
          <a:prstGeom prst="wedgeRoundRectCallout">
            <a:avLst>
              <a:gd name="adj1" fmla="val -30083"/>
              <a:gd name="adj2" fmla="val -90564"/>
              <a:gd name="adj3" fmla="val 16667"/>
            </a:avLst>
          </a:prstGeom>
          <a:solidFill>
            <a:srgbClr val="567e26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 између наилазака произ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ormal(20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7391520" cy="49914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410080" y="3808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иказ закривљене путање виљушк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52480" y="4038480"/>
            <a:ext cx="381240" cy="304920"/>
          </a:xfrm>
          <a:prstGeom prst="cube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4648320"/>
            <a:ext cx="381240" cy="3045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5410080"/>
            <a:ext cx="381240" cy="3049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1828800"/>
            <a:ext cx="1218960" cy="106668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1752480"/>
            <a:ext cx="1904760" cy="838440"/>
          </a:xfrm>
          <a:prstGeom prst="cloudCallout">
            <a:avLst>
              <a:gd name="adj1" fmla="val -69500"/>
              <a:gd name="adj2" fmla="val 24810"/>
            </a:avLst>
          </a:prstGeom>
          <a:solidFill>
            <a:srgbClr val="abc2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1828800"/>
            <a:ext cx="2209680" cy="914400"/>
          </a:xfrm>
          <a:prstGeom prst="cloudCallout">
            <a:avLst>
              <a:gd name="adj1" fmla="val -56250"/>
              <a:gd name="adj2" fmla="val 1041"/>
            </a:avLst>
          </a:prstGeom>
          <a:solidFill>
            <a:srgbClr val="cfec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из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4343400"/>
            <a:ext cx="1752840" cy="1066680"/>
          </a:xfrm>
          <a:prstGeom prst="cloudCallout">
            <a:avLst>
              <a:gd name="adj1" fmla="val -84962"/>
              <a:gd name="adj2" fmla="val 13245"/>
            </a:avLst>
          </a:prstGeom>
          <a:solidFill>
            <a:srgbClr val="abc2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0686800">
            <a:off x="685800" y="3352320"/>
            <a:ext cx="380880" cy="1752840"/>
          </a:xfrm>
          <a:custGeom>
            <a:avLst/>
            <a:gdLst>
              <a:gd name="textAreaLeft" fmla="*/ 50760 w 380880"/>
              <a:gd name="textAreaRight" fmla="*/ 330120 w 380880"/>
              <a:gd name="textAreaTop" fmla="*/ 361080 h 1752840"/>
              <a:gd name="textAreaBottom" fmla="*/ 121644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3" stAng="-5400000" swAng="-5400000"/>
                <a:lnTo>
                  <a:pt x="0" y="10537"/>
                </a:lnTo>
                <a:arcTo wR="21600" hR="8903" stAng="10800000" swAng="-2962674"/>
                <a:lnTo>
                  <a:pt x="14400" y="21091"/>
                </a:lnTo>
                <a:lnTo>
                  <a:pt x="21600" y="18623"/>
                </a:lnTo>
                <a:lnTo>
                  <a:pt x="14400" y="15137"/>
                </a:lnTo>
                <a:lnTo>
                  <a:pt x="14400" y="17297"/>
                </a:lnTo>
                <a:arcTo wR="21600" hR="8903" stAng="7837326" swAng="2832156"/>
                <a:lnTo>
                  <a:pt x="91" y="9720"/>
                </a:lnTo>
                <a:arcTo wR="21600" hR="8903" stAng="-10669482" swAng="5269482"/>
                <a:close/>
              </a:path>
              <a:path fill="darkenLess" w="21600" h="21600">
                <a:moveTo>
                  <a:pt x="21600" y="0"/>
                </a:moveTo>
                <a:arcTo wR="21600" hR="8903" stAng="-5400000" swAng="-5400000"/>
                <a:lnTo>
                  <a:pt x="0" y="8903"/>
                </a:lnTo>
                <a:arcTo wR="21600" hR="8903" stAng="10800000" swAng="-130518"/>
                <a:lnTo>
                  <a:pt x="91" y="9720"/>
                </a:lnTo>
                <a:arcTo wR="21600" hR="8903" stAng="-10669482" swAng="5269482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733560" y="304920"/>
            <a:ext cx="5105160" cy="838080"/>
            <a:chOff x="3733560" y="304920"/>
            <a:chExt cx="5105160" cy="838080"/>
          </a:xfrm>
        </p:grpSpPr>
        <p:sp>
          <p:nvSpPr>
            <p:cNvPr id="187" name="File"/>
            <p:cNvSpPr/>
            <p:nvPr/>
          </p:nvSpPr>
          <p:spPr>
            <a:xfrm rot="10800000">
              <a:off x="3733560" y="304560"/>
              <a:ext cx="5105160" cy="83808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33920" y="365760"/>
              <a:ext cx="491724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онешто о терминологиј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743200" y="4191120"/>
            <a:ext cx="2590920" cy="1371600"/>
          </a:xfrm>
          <a:prstGeom prst="cloudCallout">
            <a:avLst>
              <a:gd name="adj1" fmla="val -56004"/>
              <a:gd name="adj2" fmla="val -7754"/>
            </a:avLst>
          </a:prstGeom>
          <a:solidFill>
            <a:srgbClr val="cde4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п или врста произ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ocuments"/>
          <p:cNvSpPr/>
          <p:nvPr/>
        </p:nvSpPr>
        <p:spPr>
          <a:xfrm>
            <a:off x="380880" y="1219320"/>
            <a:ext cx="8534520" cy="5410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зрада мо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финисање лејаута – превлачење објеката на радну повр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финисање тока производа кроз модел – повезивање објеката уз помоћ пор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таљније одређење објеката променом њихових парамет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ршно компајлирање и пуштање модела у р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купљање и обрада подат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3738000">
            <a:off x="3136320" y="139680"/>
            <a:ext cx="838440" cy="2235240"/>
          </a:xfrm>
          <a:custGeom>
            <a:avLst/>
            <a:gdLst>
              <a:gd name="textAreaLeft" fmla="*/ 112320 w 838440"/>
              <a:gd name="textAreaRight" fmla="*/ 726120 w 838440"/>
              <a:gd name="textAreaTop" fmla="*/ 390960 h 2235240"/>
              <a:gd name="textAreaBottom" fmla="*/ 1620720 h 223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05160" y="228240"/>
            <a:ext cx="3809880" cy="1676520"/>
            <a:chOff x="5105160" y="228240"/>
            <a:chExt cx="3809880" cy="1676520"/>
          </a:xfrm>
        </p:grpSpPr>
        <p:sp>
          <p:nvSpPr>
            <p:cNvPr id="193" name="File"/>
            <p:cNvSpPr/>
            <p:nvPr/>
          </p:nvSpPr>
          <p:spPr>
            <a:xfrm rot="10800000">
              <a:off x="5105160" y="227880"/>
              <a:ext cx="3809880" cy="167652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181480" y="288360"/>
              <a:ext cx="3629160" cy="125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5:55:37Z</dcterms:created>
  <dc:creator>trn</dc:creator>
  <dc:description/>
  <dc:language>en-US</dc:language>
  <cp:lastModifiedBy>515-n</cp:lastModifiedBy>
  <dcterms:modified xsi:type="dcterms:W3CDTF">2008-11-24T16:30:53Z</dcterms:modified>
  <cp:revision>68</cp:revision>
  <dc:subject/>
  <dc:title>Slide 1</dc:title>
</cp:coreProperties>
</file>