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56.png" ContentType="image/png"/>
  <Override PartName="/ppt/media/image54.png" ContentType="image/png"/>
  <Override PartName="/ppt/media/image53.png" ContentType="image/png"/>
  <Override PartName="/ppt/media/image51.png" ContentType="image/png"/>
  <Override PartName="/ppt/media/image4.jpeg" ContentType="image/jpeg"/>
  <Override PartName="/ppt/media/image52.png" ContentType="image/png"/>
  <Override PartName="/ppt/media/image50.jpeg" ContentType="image/jpeg"/>
  <Override PartName="/ppt/media/image46.jpeg" ContentType="image/jpeg"/>
  <Override PartName="/ppt/media/image58.png" ContentType="image/png"/>
  <Override PartName="/ppt/media/image55.png" ContentType="image/png"/>
  <Override PartName="/ppt/media/image45.jpeg" ContentType="image/jpeg"/>
  <Override PartName="/ppt/media/image48.png" ContentType="image/png"/>
  <Override PartName="/ppt/media/image44.jpeg" ContentType="image/jpeg"/>
  <Override PartName="/ppt/media/image38.png" ContentType="image/png"/>
  <Override PartName="/ppt/media/image42.png" ContentType="image/png"/>
  <Override PartName="/ppt/media/image41.png" ContentType="image/png"/>
  <Override PartName="/ppt/media/image49.jpeg" ContentType="image/jpeg"/>
  <Override PartName="/ppt/media/image16.png" ContentType="image/png"/>
  <Override PartName="/ppt/media/image20.png" ContentType="image/png"/>
  <Override PartName="/ppt/media/image57.png" ContentType="image/png"/>
  <Override PartName="/ppt/media/image21.png" ContentType="image/png"/>
  <Override PartName="/ppt/media/image22.png" ContentType="image/png"/>
  <Override PartName="/ppt/media/image59.png" ContentType="image/png"/>
  <Override PartName="/ppt/media/image23.png" ContentType="image/png"/>
  <Override PartName="/ppt/media/image60.png" ContentType="image/png"/>
  <Override PartName="/ppt/media/image24.png" ContentType="image/png"/>
  <Override PartName="/ppt/media/image61.png" ContentType="image/png"/>
  <Override PartName="/ppt/media/image62.png" ContentType="image/png"/>
  <Override PartName="/ppt/media/image75.png" ContentType="image/png"/>
  <Override PartName="/ppt/media/image26.png" ContentType="image/png"/>
  <Override PartName="/ppt/media/image63.png" ContentType="image/png"/>
  <Override PartName="/ppt/media/image74.png" ContentType="image/png"/>
  <Override PartName="/ppt/media/image73.png" ContentType="image/png"/>
  <Override PartName="/ppt/media/image72.png" ContentType="image/png"/>
  <Override PartName="/ppt/media/image71.png" ContentType="image/png"/>
  <Override PartName="/ppt/media/image29.png" ContentType="image/png"/>
  <Override PartName="/ppt/media/image69.png" ContentType="image/png"/>
  <Override PartName="/ppt/media/image32.png" ContentType="image/png"/>
  <Override PartName="/ppt/media/image70.png" ContentType="image/png"/>
  <Override PartName="/ppt/media/image68.png" ContentType="image/png"/>
  <Override PartName="/ppt/media/image31.png" ContentType="image/png"/>
  <Override PartName="/ppt/media/image67.png" ContentType="image/png"/>
  <Override PartName="/ppt/media/image30.png" ContentType="image/png"/>
  <Override PartName="/ppt/media/image66.png" ContentType="image/png"/>
  <Override PartName="/ppt/media/image65.png" ContentType="image/png"/>
  <Override PartName="/ppt/media/image27.png" ContentType="image/png"/>
  <Override PartName="/ppt/media/image64.png" ContentType="image/png"/>
  <Override PartName="/ppt/media/image15.png" ContentType="image/png"/>
  <Override PartName="/ppt/media/image3.png" ContentType="image/png"/>
  <Override PartName="/ppt/media/image33.png" ContentType="image/png"/>
  <Override PartName="/ppt/media/image25.png" ContentType="image/png"/>
  <Override PartName="/ppt/media/image2.png" ContentType="image/png"/>
  <Override PartName="/ppt/media/image14.png" ContentType="image/png"/>
  <Override PartName="/ppt/media/image40.png" ContentType="image/png"/>
  <Override PartName="/ppt/media/image17.png" ContentType="image/png"/>
  <Override PartName="/ppt/media/image5.png" ContentType="image/png"/>
  <Override PartName="/ppt/media/image35.png" ContentType="image/png"/>
  <Override PartName="/ppt/media/image28.png" ContentType="image/png"/>
  <Override PartName="/ppt/media/image43.jpeg" ContentType="image/jpeg"/>
  <Override PartName="/ppt/media/image10.png" ContentType="image/png"/>
  <Override PartName="/ppt/media/image47.png" ContentType="image/png"/>
  <Override PartName="/ppt/media/image18.png" ContentType="image/png"/>
  <Override PartName="/ppt/media/image6.png" ContentType="image/png"/>
  <Override PartName="/ppt/media/image36.png" ContentType="image/png"/>
  <Override PartName="/ppt/media/image11.png" ContentType="image/png"/>
  <Override PartName="/ppt/media/image19.png" ContentType="image/png"/>
  <Override PartName="/ppt/media/image7.png" ContentType="image/png"/>
  <Override PartName="/ppt/media/image37.png" ContentType="image/png"/>
  <Override PartName="/ppt/media/image12.png" ContentType="image/png"/>
  <Override PartName="/ppt/media/image8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39.png" ContentType="image/png"/>
  <Override PartName="/ppt/media/image3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65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8E943B-2EE5-402A-AA2E-3A64E32468B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122AB2-20C6-489C-9A76-DC42B475753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60DBF1-36B8-4CEF-8A37-326CAE91C1F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36C0-32C8-443A-845D-5AF119C0EA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F440B2-CE27-4A46-B6EF-924D5B61B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0449A-3397-4DA2-8CDB-1989D5678A1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9EFE74-3203-44D4-A251-4A36DC89EF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E2DEAF-5A5E-40CD-84E0-90231211169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33520" y="6091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95310B-AC52-492F-9F8B-62401051207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1EF1EE-09E2-4587-B01E-A1FFBEB8285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BCE5A1-6F3E-4956-837A-2BDBD3B5819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114427-D97F-4E4F-9460-0803F41A398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304920" y="122400"/>
            <a:ext cx="1447560" cy="86832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1676520" y="274680"/>
            <a:ext cx="2409840" cy="447480"/>
          </a:xfrm>
          <a:prstGeom prst="rect">
            <a:avLst/>
          </a:prstGeom>
          <a:ln w="0">
            <a:noFill/>
          </a:ln>
        </p:spPr>
      </p:pic>
      <p:pic>
        <p:nvPicPr>
          <p:cNvPr id="2" name="" descr=""/>
          <p:cNvPicPr/>
          <p:nvPr/>
        </p:nvPicPr>
        <p:blipFill>
          <a:blip r:embed="rId4"/>
          <a:stretch/>
        </p:blipFill>
        <p:spPr>
          <a:xfrm>
            <a:off x="2209680" y="1371600"/>
            <a:ext cx="4594320" cy="4686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6a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6a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6a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88A64-7DA4-439C-A602-6D4073A20559}" type="slidenum">
              <a:rPr b="1" lang="en-US" sz="16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c4af64"/>
          </a:solidFill>
          <a:ln w="9360">
            <a:solidFill>
              <a:srgbClr val="c4af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76320" y="0"/>
            <a:ext cx="75960" cy="6858000"/>
          </a:xfrm>
          <a:prstGeom prst="rect">
            <a:avLst/>
          </a:prstGeom>
          <a:solidFill>
            <a:srgbClr val="00006a"/>
          </a:solidFill>
          <a:ln w="9360">
            <a:solidFill>
              <a:srgbClr val="00007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8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6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2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28.png"/><Relationship Id="rId9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8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9.png"/><Relationship Id="rId3" Type="http://schemas.openxmlformats.org/officeDocument/2006/relationships/image" Target="../media/image60.png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8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66.png"/><Relationship Id="rId2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6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70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71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2.png"/><Relationship Id="rId11" Type="http://schemas.openxmlformats.org/officeDocument/2006/relationships/slideLayout" Target="../slideLayouts/slideLayout8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2666520" y="914400"/>
            <a:ext cx="6172200" cy="1047600"/>
            <a:chOff x="2666520" y="914400"/>
            <a:chExt cx="6172200" cy="1047600"/>
          </a:xfrm>
        </p:grpSpPr>
        <p:sp>
          <p:nvSpPr>
            <p:cNvPr id="81" name="File"/>
            <p:cNvSpPr/>
            <p:nvPr/>
          </p:nvSpPr>
          <p:spPr>
            <a:xfrm rot="10800000">
              <a:off x="2666520" y="914040"/>
              <a:ext cx="617220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666880" y="990720"/>
              <a:ext cx="594360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Симулација у пакету </a:t>
              </a: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Flexsim 3.0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3" name="" descr=""/>
          <p:cNvPicPr/>
          <p:nvPr/>
        </p:nvPicPr>
        <p:blipFill>
          <a:blip r:embed="rId1"/>
          <a:srcRect l="52780" t="28349" r="30558" b="54896"/>
          <a:stretch/>
        </p:blipFill>
        <p:spPr>
          <a:xfrm>
            <a:off x="2057400" y="3048120"/>
            <a:ext cx="4419720" cy="29304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rcRect l="0" t="43521" r="82888" b="22507"/>
          <a:stretch/>
        </p:blipFill>
        <p:spPr>
          <a:xfrm>
            <a:off x="2514600" y="2286000"/>
            <a:ext cx="1295280" cy="113652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rcRect l="0" t="28240" r="89433" b="55818"/>
          <a:stretch/>
        </p:blipFill>
        <p:spPr>
          <a:xfrm>
            <a:off x="685800" y="1523880"/>
            <a:ext cx="190512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д са мишем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View Window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погледом на модел)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ирањ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Зум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и десни клик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точкић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Object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(манипулација објектима)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Y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T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анслација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 ос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X,Y,Z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ротациј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 клик на објекат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X and Y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леви клик на жуту тачку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Промена величине по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Z: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сн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 леви клик на жуту тачку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-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вуц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57200"/>
            <a:ext cx="49528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 Дефинисање лејаута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1143000" y="2438280"/>
            <a:ext cx="1623960" cy="403884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1066680" y="762120"/>
            <a:ext cx="74678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Левим тастером миша превуците објекте из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bjects </a:t>
            </a: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L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ibrary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библиотеке објеката) и поставите их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отира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ли мењајте величин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бјекат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шем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743200" y="2438280"/>
            <a:ext cx="548640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" name="" descr=""/>
          <p:cNvPicPr/>
          <p:nvPr/>
        </p:nvPicPr>
        <p:blipFill>
          <a:blip r:embed="rId1"/>
          <a:stretch/>
        </p:blipFill>
        <p:spPr>
          <a:xfrm>
            <a:off x="1219320" y="2971800"/>
            <a:ext cx="6476760" cy="34416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609480" y="1371600"/>
            <a:ext cx="822960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Док држите типку 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“A”,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кликните и вуците да би сте створили излазно-улазну везу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output to input port connection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између објеката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Ове везе су потребне да би се означио ток произв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. Дефинисање тока производа кроз модел-повезивање објеката уз помоћ порт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990720" y="1828800"/>
            <a:ext cx="7010280" cy="4495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752480" y="914040"/>
            <a:ext cx="5562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Типке које се користе за повезивање портов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43200" y="2797200"/>
            <a:ext cx="4419720" cy="30700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507120" y="457200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A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30080" y="3124080"/>
            <a:ext cx="7736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Q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564160" y="3124080"/>
            <a:ext cx="9000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W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6800" y="4572000"/>
            <a:ext cx="688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3481f"/>
                </a:solidFill>
                <a:latin typeface="Arial"/>
              </a:rPr>
              <a:t>S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1295280" y="4343400"/>
            <a:ext cx="586764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952880" y="1981080"/>
            <a:ext cx="0" cy="388620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1066680" y="335268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аздв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371600" y="48006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пајањ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905120" y="1828800"/>
            <a:ext cx="30477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злазни са улаз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utputs to Inpu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5105520" y="1828800"/>
            <a:ext cx="35049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Централни са централни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Center to Cen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828440" y="685440"/>
            <a:ext cx="48769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Разне врсте вез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325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ред излазно-улазних веза (о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utput to input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 постоје и централне везе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Централне везе (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Center port to center port connections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се најчешће користе да би неки фиксирани објекат (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Fixed Resource) 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озвао транспорт или ’’помоћ’’ при раду </a:t>
            </a:r>
            <a:r>
              <a:rPr b="0" lang="sr-Latn-CS" sz="2200" spc="-1" strike="noStrike">
                <a:solidFill>
                  <a:srgbClr val="00006a"/>
                </a:solidFill>
                <a:latin typeface="Arial"/>
              </a:rPr>
              <a:t>(Transporter, Operator)</a:t>
            </a:r>
            <a:r>
              <a:rPr b="0" lang="en-US" sz="2200" spc="-1" strike="noStrike">
                <a:solidFill>
                  <a:srgbClr val="00006a"/>
                </a:solidFill>
                <a:latin typeface="Arial"/>
              </a:rPr>
              <a:t>.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Дакле, излазно-улазним везама се </a:t>
            </a:r>
            <a:r>
              <a:rPr b="0" lang="sr-CS" sz="2200" spc="-1" strike="noStrike" u="sng">
                <a:solidFill>
                  <a:srgbClr val="ff3300"/>
                </a:solidFill>
                <a:uFillTx/>
                <a:latin typeface="Arial"/>
              </a:rPr>
              <a:t>искључиво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 спајају фиксирани објекти (</a:t>
            </a:r>
            <a:r>
              <a:rPr b="0" lang="sr-Latn-CS" sz="2200" spc="-1" strike="noStrike">
                <a:solidFill>
                  <a:srgbClr val="ff3300"/>
                </a:solidFill>
                <a:latin typeface="Arial"/>
              </a:rPr>
              <a:t>Source,Queue,Processor)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, док је централним везама омогућено спајање било које комбинације фиксни – мобилни ресурс.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1752480" y="838080"/>
            <a:ext cx="563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Лејаут по завршетку повезивањ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0" name=""/>
          <p:cNvGraphicFramePr/>
          <p:nvPr/>
        </p:nvGraphicFramePr>
        <p:xfrm>
          <a:off x="380880" y="1828800"/>
          <a:ext cx="8305920" cy="419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8305920" cy="419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191120" y="609120"/>
            <a:ext cx="49528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76212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CS" sz="2800" spc="-1" strike="noStrike">
                <a:solidFill>
                  <a:srgbClr val="000000"/>
                </a:solidFill>
                <a:latin typeface="Arial"/>
              </a:rPr>
              <a:t>. Детаљније одређење објеката променом њихових параметара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828800" y="990720"/>
            <a:ext cx="2133720" cy="685800"/>
          </a:xfrm>
          <a:prstGeom prst="wedgeRoundRectCallout">
            <a:avLst>
              <a:gd name="adj1" fmla="val 36162"/>
              <a:gd name="adj2" fmla="val 10601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Documents"/>
          <p:cNvSpPr/>
          <p:nvPr/>
        </p:nvSpPr>
        <p:spPr>
          <a:xfrm>
            <a:off x="304920" y="1371600"/>
            <a:ext cx="4343400" cy="32767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нели параметре са претходног слајда морамо да приступимо параметарским прозорима објеката који сачињавају наш лејау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Document"/>
          <p:cNvSpPr/>
          <p:nvPr/>
        </p:nvSpPr>
        <p:spPr>
          <a:xfrm>
            <a:off x="5257800" y="4648320"/>
            <a:ext cx="3352680" cy="17524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упли клик на објекат, или десни клик па изабери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aramet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3809880" y="228240"/>
            <a:ext cx="5105520" cy="1085400"/>
            <a:chOff x="3809880" y="228240"/>
            <a:chExt cx="5105520" cy="1085400"/>
          </a:xfrm>
        </p:grpSpPr>
        <p:sp>
          <p:nvSpPr>
            <p:cNvPr id="251" name="File"/>
            <p:cNvSpPr/>
            <p:nvPr/>
          </p:nvSpPr>
          <p:spPr>
            <a:xfrm rot="10800000">
              <a:off x="3809880" y="227880"/>
              <a:ext cx="510552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3809880" y="307440"/>
              <a:ext cx="49176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Parameters Window (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араметарски проз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3" name=""/>
          <p:cNvSpPr/>
          <p:nvPr/>
        </p:nvSpPr>
        <p:spPr>
          <a:xfrm rot="1740000">
            <a:off x="4191120" y="342864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 flipH="1" rot="19687200">
            <a:off x="1980720" y="7621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s Window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04920" y="1905120"/>
            <a:ext cx="4114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а врста објекта има свој параметарски прозор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одређују време које производи проведу у објект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упућују поједине врсте производа ка одређеним портовим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57" name=""/>
          <p:cNvGraphicFramePr/>
          <p:nvPr/>
        </p:nvGraphicFramePr>
        <p:xfrm>
          <a:off x="4343400" y="1523880"/>
          <a:ext cx="4454640" cy="457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43400" y="1523880"/>
                    <a:ext cx="4454640" cy="457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904760" y="5335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arameter tab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Параметарске странице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838080" y="1371240"/>
            <a:ext cx="739152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параметарски прозор има своје параметарске страниц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араметри су груписани у странице, по својој врс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ваки фиксирани објекат има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Flow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(ток) и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“Triggers”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(окидачи) страницу.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да неки објекти имају више окидача од осталих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261" name=""/>
          <p:cNvGraphicFramePr/>
          <p:nvPr/>
        </p:nvGraphicFramePr>
        <p:xfrm>
          <a:off x="757080" y="3251160"/>
          <a:ext cx="4175280" cy="150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7080" y="3251160"/>
                    <a:ext cx="4175280" cy="150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3" name=""/>
          <p:cNvGraphicFramePr/>
          <p:nvPr/>
        </p:nvGraphicFramePr>
        <p:xfrm>
          <a:off x="4191120" y="4648320"/>
          <a:ext cx="4190760" cy="161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191120" y="4648320"/>
                    <a:ext cx="4190760" cy="161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"/>
          <p:cNvGrpSpPr/>
          <p:nvPr/>
        </p:nvGrpSpPr>
        <p:grpSpPr>
          <a:xfrm>
            <a:off x="3505320" y="380880"/>
            <a:ext cx="5333760" cy="1047600"/>
            <a:chOff x="3505320" y="380880"/>
            <a:chExt cx="5333760" cy="1047600"/>
          </a:xfrm>
        </p:grpSpPr>
        <p:sp>
          <p:nvSpPr>
            <p:cNvPr id="87" name="File"/>
            <p:cNvSpPr/>
            <p:nvPr/>
          </p:nvSpPr>
          <p:spPr>
            <a:xfrm rot="10800000">
              <a:off x="3505320" y="380520"/>
              <a:ext cx="533376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05320" y="457200"/>
              <a:ext cx="513612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Врсте симулационог софтвер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9" name=""/>
          <p:cNvSpPr/>
          <p:nvPr/>
        </p:nvSpPr>
        <p:spPr>
          <a:xfrm>
            <a:off x="5410080" y="3962520"/>
            <a:ext cx="1752840" cy="53316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66680" y="3886200"/>
            <a:ext cx="31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AN - Aren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962520"/>
            <a:ext cx="3353040" cy="533160"/>
          </a:xfrm>
          <a:prstGeom prst="flowChartTerminator">
            <a:avLst/>
          </a:prstGeom>
          <a:solidFill>
            <a:srgbClr val="cc9900">
              <a:alpha val="40000"/>
            </a:srgbClr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Document"/>
          <p:cNvSpPr/>
          <p:nvPr/>
        </p:nvSpPr>
        <p:spPr>
          <a:xfrm>
            <a:off x="457200" y="525780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есплатни софтвер отвореног код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Document"/>
          <p:cNvSpPr/>
          <p:nvPr/>
        </p:nvSpPr>
        <p:spPr>
          <a:xfrm>
            <a:off x="457200" y="1523880"/>
            <a:ext cx="8077320" cy="5335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мерцијални софтве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228600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utomo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5800" y="2286000"/>
            <a:ext cx="160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P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629400" y="2286000"/>
            <a:ext cx="205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24280" y="228600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aylo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334120" y="3886200"/>
            <a:ext cx="1904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lexsim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80160" y="2971800"/>
            <a:ext cx="252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mPlant  (Simple++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52680" y="2971800"/>
            <a:ext cx="1067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GASP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5029200" y="2971800"/>
            <a:ext cx="137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086600" y="297180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uli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116600" y="6095880"/>
            <a:ext cx="91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SimP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8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1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5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266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Sourc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Извор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Documents"/>
          <p:cNvSpPr/>
          <p:nvPr/>
        </p:nvSpPr>
        <p:spPr>
          <a:xfrm>
            <a:off x="228600" y="1981080"/>
            <a:ext cx="43434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 rot="1740000">
            <a:off x="4191120" y="312372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Documents"/>
          <p:cNvSpPr/>
          <p:nvPr/>
        </p:nvSpPr>
        <p:spPr>
          <a:xfrm>
            <a:off x="3962520" y="4267080"/>
            <a:ext cx="38862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одељивање врсте и јединствене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боје производима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duniform(1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9360">
            <a:solidFill>
              <a:srgbClr val="ff3300"/>
            </a:solidFill>
            <a:miter/>
          </a:ln>
        </p:spPr>
      </p:pic>
      <p:sp>
        <p:nvSpPr>
          <p:cNvPr id="274" name=""/>
          <p:cNvSpPr/>
          <p:nvPr/>
        </p:nvSpPr>
        <p:spPr>
          <a:xfrm>
            <a:off x="317520" y="1892160"/>
            <a:ext cx="4863960" cy="546120"/>
          </a:xfrm>
          <a:custGeom>
            <a:avLst/>
            <a:gdLst/>
            <a:ahLst/>
            <a:rect l="l" t="t" r="r" b="b"/>
            <a:pathLst>
              <a:path w="3208" h="335">
                <a:moveTo>
                  <a:pt x="477" y="42"/>
                </a:moveTo>
                <a:cubicBezTo>
                  <a:pt x="345" y="0"/>
                  <a:pt x="196" y="9"/>
                  <a:pt x="65" y="51"/>
                </a:cubicBezTo>
                <a:cubicBezTo>
                  <a:pt x="2" y="93"/>
                  <a:pt x="17" y="67"/>
                  <a:pt x="1" y="115"/>
                </a:cubicBezTo>
                <a:cubicBezTo>
                  <a:pt x="4" y="152"/>
                  <a:pt x="0" y="190"/>
                  <a:pt x="10" y="225"/>
                </a:cubicBezTo>
                <a:cubicBezTo>
                  <a:pt x="18" y="251"/>
                  <a:pt x="144" y="270"/>
                  <a:pt x="157" y="271"/>
                </a:cubicBezTo>
                <a:cubicBezTo>
                  <a:pt x="233" y="276"/>
                  <a:pt x="309" y="277"/>
                  <a:pt x="385" y="280"/>
                </a:cubicBezTo>
                <a:cubicBezTo>
                  <a:pt x="681" y="304"/>
                  <a:pt x="300" y="275"/>
                  <a:pt x="934" y="298"/>
                </a:cubicBezTo>
                <a:cubicBezTo>
                  <a:pt x="1125" y="305"/>
                  <a:pt x="911" y="303"/>
                  <a:pt x="1034" y="317"/>
                </a:cubicBezTo>
                <a:cubicBezTo>
                  <a:pt x="1073" y="321"/>
                  <a:pt x="1310" y="334"/>
                  <a:pt x="1336" y="335"/>
                </a:cubicBezTo>
                <a:cubicBezTo>
                  <a:pt x="1871" y="327"/>
                  <a:pt x="1743" y="335"/>
                  <a:pt x="1985" y="335"/>
                </a:cubicBezTo>
                <a:lnTo>
                  <a:pt x="3208" y="296"/>
                </a:lnTo>
                <a:lnTo>
                  <a:pt x="3016" y="8"/>
                </a:lnTo>
                <a:lnTo>
                  <a:pt x="534" y="99"/>
                </a:lnTo>
                <a:cubicBezTo>
                  <a:pt x="534" y="99"/>
                  <a:pt x="477" y="42"/>
                  <a:pt x="477" y="42"/>
                </a:cubicBezTo>
                <a:close/>
              </a:path>
            </a:pathLst>
          </a:custGeom>
          <a:noFill/>
          <a:ln w="255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181480" y="2362320"/>
            <a:ext cx="20574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81480" y="1447920"/>
            <a:ext cx="3962520" cy="1600200"/>
          </a:xfrm>
          <a:prstGeom prst="irregularSeal1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чин, стил наиласка проивода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Одређен временом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09480" y="4114800"/>
            <a:ext cx="3810240" cy="1219320"/>
          </a:xfrm>
          <a:custGeom>
            <a:avLst/>
            <a:gdLst>
              <a:gd name="textAreaLeft" fmla="*/ 869760 w 3810240"/>
              <a:gd name="textAreaRight" fmla="*/ 2940480 w 3810240"/>
              <a:gd name="textAreaTop" fmla="*/ 278280 h 1219320"/>
              <a:gd name="textAreaBottom" fmla="*/ 94104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652" y="12384"/>
                </a:lnTo>
                <a:lnTo>
                  <a:pt x="786" y="14846"/>
                </a:lnTo>
                <a:lnTo>
                  <a:pt x="3839" y="15321"/>
                </a:lnTo>
                <a:lnTo>
                  <a:pt x="3163" y="18437"/>
                </a:lnTo>
                <a:lnTo>
                  <a:pt x="6159" y="17681"/>
                </a:lnTo>
                <a:lnTo>
                  <a:pt x="6580" y="20741"/>
                </a:lnTo>
                <a:lnTo>
                  <a:pt x="9074" y="18919"/>
                </a:lnTo>
                <a:lnTo>
                  <a:pt x="10800" y="21600"/>
                </a:lnTo>
                <a:lnTo>
                  <a:pt x="12384" y="18948"/>
                </a:lnTo>
                <a:lnTo>
                  <a:pt x="14846" y="20814"/>
                </a:lnTo>
                <a:lnTo>
                  <a:pt x="15321" y="17761"/>
                </a:lnTo>
                <a:lnTo>
                  <a:pt x="18437" y="18437"/>
                </a:lnTo>
                <a:lnTo>
                  <a:pt x="17681" y="15441"/>
                </a:lnTo>
                <a:lnTo>
                  <a:pt x="20741" y="15020"/>
                </a:lnTo>
                <a:lnTo>
                  <a:pt x="18919" y="12526"/>
                </a:lnTo>
                <a:lnTo>
                  <a:pt x="21600" y="10800"/>
                </a:lnTo>
                <a:lnTo>
                  <a:pt x="18948" y="9216"/>
                </a:lnTo>
                <a:lnTo>
                  <a:pt x="20814" y="6754"/>
                </a:lnTo>
                <a:lnTo>
                  <a:pt x="17761" y="6279"/>
                </a:lnTo>
                <a:lnTo>
                  <a:pt x="18437" y="3163"/>
                </a:lnTo>
                <a:lnTo>
                  <a:pt x="15441" y="3919"/>
                </a:lnTo>
                <a:lnTo>
                  <a:pt x="15020" y="859"/>
                </a:lnTo>
                <a:lnTo>
                  <a:pt x="12526" y="2681"/>
                </a:lnTo>
                <a:lnTo>
                  <a:pt x="10800" y="0"/>
                </a:lnTo>
                <a:lnTo>
                  <a:pt x="9216" y="2652"/>
                </a:lnTo>
                <a:lnTo>
                  <a:pt x="6754" y="786"/>
                </a:lnTo>
                <a:lnTo>
                  <a:pt x="6279" y="3839"/>
                </a:lnTo>
                <a:lnTo>
                  <a:pt x="3163" y="3163"/>
                </a:lnTo>
                <a:lnTo>
                  <a:pt x="3919" y="6159"/>
                </a:lnTo>
                <a:lnTo>
                  <a:pt x="859" y="6580"/>
                </a:lnTo>
                <a:lnTo>
                  <a:pt x="2681" y="9074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збор расподеле вероватноћ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која описује време између наилаз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347760" y="4952880"/>
            <a:ext cx="7043760" cy="70812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391520" y="36576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7315200" y="40381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2590920"/>
            <a:ext cx="2286000" cy="99036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533160" y="609480"/>
            <a:ext cx="6629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de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mplate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(Кодни шаблон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09120" y="1523520"/>
            <a:ext cx="480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Служи да се задају параметри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екст браон боје се може мењати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Задајемо параметре нормалне расподеле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μ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0, </a:t>
            </a:r>
            <a:r>
              <a:rPr b="0" lang="el-GR" sz="2000" spc="-1" strike="noStrike">
                <a:solidFill>
                  <a:srgbClr val="00006a"/>
                </a:solidFill>
                <a:latin typeface="Arial"/>
                <a:ea typeface="Arial"/>
              </a:rPr>
              <a:t>σ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  <a:ea typeface="Arial"/>
              </a:rPr>
              <a:t>=2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914400" y="3276720"/>
            <a:ext cx="6705720" cy="18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4495680" y="304920"/>
            <a:ext cx="4343400" cy="1904760"/>
          </a:xfrm>
          <a:custGeom>
            <a:avLst/>
            <a:gdLst>
              <a:gd name="textAreaLeft" fmla="*/ 991440 w 4343400"/>
              <a:gd name="textAreaRight" fmla="*/ 3351960 w 4343400"/>
              <a:gd name="textAreaTop" fmla="*/ 434880 h 1904760"/>
              <a:gd name="textAreaBottom" fmla="*/ 1469880 h 19047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62" y="11812"/>
                </a:lnTo>
                <a:lnTo>
                  <a:pt x="368" y="13595"/>
                </a:lnTo>
                <a:lnTo>
                  <a:pt x="3104" y="13909"/>
                </a:lnTo>
                <a:lnTo>
                  <a:pt x="1447" y="16200"/>
                </a:lnTo>
                <a:lnTo>
                  <a:pt x="4171" y="15795"/>
                </a:lnTo>
                <a:lnTo>
                  <a:pt x="3163" y="18437"/>
                </a:lnTo>
                <a:lnTo>
                  <a:pt x="5690" y="17340"/>
                </a:lnTo>
                <a:lnTo>
                  <a:pt x="5400" y="20153"/>
                </a:lnTo>
                <a:lnTo>
                  <a:pt x="7557" y="18440"/>
                </a:lnTo>
                <a:lnTo>
                  <a:pt x="8005" y="21232"/>
                </a:lnTo>
                <a:lnTo>
                  <a:pt x="9645" y="19019"/>
                </a:lnTo>
                <a:lnTo>
                  <a:pt x="10800" y="21600"/>
                </a:lnTo>
                <a:lnTo>
                  <a:pt x="11812" y="19038"/>
                </a:lnTo>
                <a:lnTo>
                  <a:pt x="13595" y="21232"/>
                </a:lnTo>
                <a:lnTo>
                  <a:pt x="13909" y="18496"/>
                </a:lnTo>
                <a:lnTo>
                  <a:pt x="16200" y="20153"/>
                </a:lnTo>
                <a:lnTo>
                  <a:pt x="15795" y="17429"/>
                </a:lnTo>
                <a:lnTo>
                  <a:pt x="18437" y="18437"/>
                </a:lnTo>
                <a:lnTo>
                  <a:pt x="17340" y="15910"/>
                </a:lnTo>
                <a:lnTo>
                  <a:pt x="20153" y="16200"/>
                </a:lnTo>
                <a:lnTo>
                  <a:pt x="18440" y="14043"/>
                </a:lnTo>
                <a:lnTo>
                  <a:pt x="21232" y="13595"/>
                </a:lnTo>
                <a:lnTo>
                  <a:pt x="19019" y="11955"/>
                </a:lnTo>
                <a:lnTo>
                  <a:pt x="21600" y="10800"/>
                </a:lnTo>
                <a:lnTo>
                  <a:pt x="19038" y="9788"/>
                </a:lnTo>
                <a:lnTo>
                  <a:pt x="21232" y="8005"/>
                </a:lnTo>
                <a:lnTo>
                  <a:pt x="18496" y="7691"/>
                </a:lnTo>
                <a:lnTo>
                  <a:pt x="20153" y="5400"/>
                </a:lnTo>
                <a:lnTo>
                  <a:pt x="17429" y="5805"/>
                </a:lnTo>
                <a:lnTo>
                  <a:pt x="18437" y="3163"/>
                </a:lnTo>
                <a:lnTo>
                  <a:pt x="15910" y="4260"/>
                </a:lnTo>
                <a:lnTo>
                  <a:pt x="16200" y="1447"/>
                </a:lnTo>
                <a:lnTo>
                  <a:pt x="14043" y="3160"/>
                </a:lnTo>
                <a:lnTo>
                  <a:pt x="13595" y="368"/>
                </a:lnTo>
                <a:lnTo>
                  <a:pt x="11955" y="2581"/>
                </a:lnTo>
                <a:lnTo>
                  <a:pt x="10800" y="0"/>
                </a:lnTo>
                <a:lnTo>
                  <a:pt x="9788" y="2562"/>
                </a:lnTo>
                <a:lnTo>
                  <a:pt x="8005" y="368"/>
                </a:lnTo>
                <a:lnTo>
                  <a:pt x="7691" y="3104"/>
                </a:lnTo>
                <a:lnTo>
                  <a:pt x="5400" y="1447"/>
                </a:lnTo>
                <a:lnTo>
                  <a:pt x="5805" y="4171"/>
                </a:lnTo>
                <a:lnTo>
                  <a:pt x="3163" y="3163"/>
                </a:lnTo>
                <a:lnTo>
                  <a:pt x="4260" y="5690"/>
                </a:lnTo>
                <a:lnTo>
                  <a:pt x="1447" y="5400"/>
                </a:lnTo>
                <a:lnTo>
                  <a:pt x="3160" y="7557"/>
                </a:lnTo>
                <a:lnTo>
                  <a:pt x="368" y="8005"/>
                </a:lnTo>
                <a:lnTo>
                  <a:pt x="2581" y="9645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Source trigg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задајемо врсту и боју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33520" y="457200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391520" y="342900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V="1">
            <a:off x="716292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477120" y="228600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3" name="" descr=""/>
          <p:cNvPicPr/>
          <p:nvPr/>
        </p:nvPicPr>
        <p:blipFill>
          <a:blip r:embed="rId1"/>
          <a:stretch/>
        </p:blipFill>
        <p:spPr>
          <a:xfrm>
            <a:off x="1600200" y="3886200"/>
            <a:ext cx="5905440" cy="1581120"/>
          </a:xfrm>
          <a:prstGeom prst="rect">
            <a:avLst/>
          </a:prstGeom>
          <a:ln w="0">
            <a:noFill/>
          </a:ln>
        </p:spPr>
      </p:pic>
      <p:sp>
        <p:nvSpPr>
          <p:cNvPr id="294" name=""/>
          <p:cNvSpPr/>
          <p:nvPr/>
        </p:nvSpPr>
        <p:spPr>
          <a:xfrm>
            <a:off x="1371600" y="1295280"/>
            <a:ext cx="4267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ели производу врсту са бројем равномерно расподељеним између 1 и 3, и свакој врсти производа дај јединствену боју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33520" y="838080"/>
            <a:ext cx="5816520" cy="297180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715000" y="3048120"/>
            <a:ext cx="53352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95320" y="304920"/>
            <a:ext cx="4496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ourceTriggers Tab</a:t>
            </a:r>
            <a:br>
              <a:rPr sz="2400"/>
            </a:b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траница са окидачима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1"/>
          <a:stretch/>
        </p:blipFill>
        <p:spPr>
          <a:xfrm>
            <a:off x="4114800" y="1371600"/>
            <a:ext cx="4861080" cy="4876920"/>
          </a:xfrm>
          <a:prstGeom prst="rect">
            <a:avLst/>
          </a:prstGeom>
          <a:ln w="0">
            <a:noFill/>
          </a:ln>
        </p:spPr>
      </p:pic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600200"/>
            <a:ext cx="3962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Окидачи су функције које се извршавају у одређеним тренуцима: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Rese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ресетов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Message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пријему порук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Creation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стварању производ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OnExit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-по изласку производа из објект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и смо равноправно могли да користимо последња два окидача пошто дају сличне резултате!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"/>
          <p:cNvGrpSpPr/>
          <p:nvPr/>
        </p:nvGrpSpPr>
        <p:grpSpPr>
          <a:xfrm>
            <a:off x="3429000" y="228240"/>
            <a:ext cx="5410080" cy="1085400"/>
            <a:chOff x="3429000" y="228240"/>
            <a:chExt cx="5410080" cy="1085400"/>
          </a:xfrm>
        </p:grpSpPr>
        <p:sp>
          <p:nvSpPr>
            <p:cNvPr id="301" name="File"/>
            <p:cNvSpPr/>
            <p:nvPr/>
          </p:nvSpPr>
          <p:spPr>
            <a:xfrm rot="10800000">
              <a:off x="3429000" y="22788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3429000" y="30744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Queue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Ред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3" name=""/>
          <p:cNvSpPr/>
          <p:nvPr/>
        </p:nvSpPr>
        <p:spPr>
          <a:xfrm flipH="1" rot="19687200">
            <a:off x="1523520" y="990720"/>
            <a:ext cx="1676880" cy="53316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Documents"/>
          <p:cNvSpPr/>
          <p:nvPr/>
        </p:nvSpPr>
        <p:spPr>
          <a:xfrm>
            <a:off x="228600" y="1981080"/>
            <a:ext cx="4343400" cy="12956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2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 rot="1740000">
            <a:off x="4267080" y="3276360"/>
            <a:ext cx="2286000" cy="519120"/>
          </a:xfrm>
          <a:custGeom>
            <a:avLst/>
            <a:gdLst>
              <a:gd name="textAreaLeft" fmla="*/ 399960 w 2286000"/>
              <a:gd name="textAreaRight" fmla="*/ 1657440 w 2286000"/>
              <a:gd name="textAreaTop" fmla="*/ 69480 h 519120"/>
              <a:gd name="textAreaBottom" fmla="*/ 449640 h 519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Documents"/>
          <p:cNvSpPr/>
          <p:nvPr/>
        </p:nvSpPr>
        <p:spPr>
          <a:xfrm>
            <a:off x="3962520" y="4267080"/>
            <a:ext cx="4572000" cy="20574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Слање произв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1. врсте на 1. машину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2. врсте на 2.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ма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3. врсте на 3. машину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266760" y="1790640"/>
            <a:ext cx="4622760" cy="660600"/>
          </a:xfrm>
          <a:custGeom>
            <a:avLst/>
            <a:gdLst/>
            <a:ahLst/>
            <a:rect l="l" t="t" r="r" b="b"/>
            <a:pathLst>
              <a:path w="2912" h="416">
                <a:moveTo>
                  <a:pt x="264" y="72"/>
                </a:moveTo>
                <a:cubicBezTo>
                  <a:pt x="192" y="88"/>
                  <a:pt x="48" y="128"/>
                  <a:pt x="24" y="168"/>
                </a:cubicBezTo>
                <a:cubicBezTo>
                  <a:pt x="0" y="208"/>
                  <a:pt x="56" y="280"/>
                  <a:pt x="120" y="312"/>
                </a:cubicBezTo>
                <a:cubicBezTo>
                  <a:pt x="184" y="344"/>
                  <a:pt x="272" y="352"/>
                  <a:pt x="408" y="360"/>
                </a:cubicBezTo>
                <a:cubicBezTo>
                  <a:pt x="544" y="368"/>
                  <a:pt x="832" y="360"/>
                  <a:pt x="936" y="360"/>
                </a:cubicBezTo>
                <a:cubicBezTo>
                  <a:pt x="1040" y="360"/>
                  <a:pt x="936" y="352"/>
                  <a:pt x="1032" y="360"/>
                </a:cubicBezTo>
                <a:cubicBezTo>
                  <a:pt x="1128" y="368"/>
                  <a:pt x="1344" y="400"/>
                  <a:pt x="1512" y="408"/>
                </a:cubicBezTo>
                <a:cubicBezTo>
                  <a:pt x="1680" y="416"/>
                  <a:pt x="1872" y="408"/>
                  <a:pt x="2040" y="408"/>
                </a:cubicBezTo>
                <a:cubicBezTo>
                  <a:pt x="2208" y="408"/>
                  <a:pt x="2384" y="416"/>
                  <a:pt x="2520" y="408"/>
                </a:cubicBezTo>
                <a:cubicBezTo>
                  <a:pt x="2656" y="400"/>
                  <a:pt x="2800" y="400"/>
                  <a:pt x="2856" y="360"/>
                </a:cubicBezTo>
                <a:cubicBezTo>
                  <a:pt x="2912" y="320"/>
                  <a:pt x="2888" y="224"/>
                  <a:pt x="2856" y="168"/>
                </a:cubicBezTo>
                <a:cubicBezTo>
                  <a:pt x="2824" y="112"/>
                  <a:pt x="2768" y="48"/>
                  <a:pt x="2664" y="24"/>
                </a:cubicBezTo>
                <a:cubicBezTo>
                  <a:pt x="2560" y="0"/>
                  <a:pt x="2392" y="24"/>
                  <a:pt x="2232" y="24"/>
                </a:cubicBezTo>
                <a:cubicBezTo>
                  <a:pt x="2072" y="24"/>
                  <a:pt x="1864" y="16"/>
                  <a:pt x="1704" y="24"/>
                </a:cubicBezTo>
                <a:cubicBezTo>
                  <a:pt x="1544" y="32"/>
                  <a:pt x="1424" y="64"/>
                  <a:pt x="1272" y="72"/>
                </a:cubicBezTo>
                <a:cubicBezTo>
                  <a:pt x="1120" y="80"/>
                  <a:pt x="928" y="72"/>
                  <a:pt x="792" y="72"/>
                </a:cubicBezTo>
                <a:cubicBezTo>
                  <a:pt x="656" y="72"/>
                  <a:pt x="544" y="80"/>
                  <a:pt x="456" y="72"/>
                </a:cubicBezTo>
                <a:cubicBezTo>
                  <a:pt x="368" y="64"/>
                  <a:pt x="336" y="56"/>
                  <a:pt x="264" y="72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4876920" y="1295280"/>
            <a:ext cx="3047760" cy="1676520"/>
          </a:xfrm>
          <a:custGeom>
            <a:avLst/>
            <a:gdLst>
              <a:gd name="textAreaLeft" fmla="*/ 695520 w 3047760"/>
              <a:gd name="textAreaRight" fmla="*/ 2352240 w 304776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Максимални капаците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или садржај објекта ре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3962520" y="609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ок произв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H="1">
            <a:off x="1371240" y="106668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33520" y="3505320"/>
            <a:ext cx="678168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7391520" y="213372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7162920" y="2514600"/>
            <a:ext cx="228600" cy="129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6477120" y="99072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990720" y="1066680"/>
            <a:ext cx="2133360" cy="1067040"/>
          </a:xfrm>
          <a:prstGeom prst="flowChartTerminator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828800"/>
            <a:ext cx="2362320" cy="4800600"/>
          </a:xfrm>
          <a:prstGeom prst="flowChartAlternateProcess">
            <a:avLst/>
          </a:prstGeom>
          <a:solidFill>
            <a:srgbClr val="8ecf6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0720" y="1143000"/>
            <a:ext cx="1904760" cy="549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Корисниц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A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eorgia Te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H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IB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ik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o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…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4952520" y="151920"/>
            <a:ext cx="3629160" cy="1590840"/>
            <a:chOff x="4952520" y="151920"/>
            <a:chExt cx="3629160" cy="1590840"/>
          </a:xfrm>
        </p:grpSpPr>
        <p:sp>
          <p:nvSpPr>
            <p:cNvPr id="108" name="File"/>
            <p:cNvSpPr/>
            <p:nvPr/>
          </p:nvSpPr>
          <p:spPr>
            <a:xfrm rot="10800000">
              <a:off x="4952520" y="151560"/>
              <a:ext cx="3629160" cy="159084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9" name="" descr=""/>
            <p:cNvPicPr/>
            <p:nvPr/>
          </p:nvPicPr>
          <p:blipFill>
            <a:blip r:embed="rId1"/>
            <a:stretch/>
          </p:blipFill>
          <p:spPr>
            <a:xfrm>
              <a:off x="5024880" y="209160"/>
              <a:ext cx="3456720" cy="1191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3352680" y="1766880"/>
            <a:ext cx="5791320" cy="42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7" name=""/>
          <p:cNvGraphicFramePr/>
          <p:nvPr/>
        </p:nvGraphicFramePr>
        <p:xfrm>
          <a:off x="3200400" y="609480"/>
          <a:ext cx="5342040" cy="340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00400" y="609480"/>
                    <a:ext cx="5342040" cy="340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9" name=""/>
          <p:cNvSpPr/>
          <p:nvPr/>
        </p:nvSpPr>
        <p:spPr>
          <a:xfrm>
            <a:off x="1219320" y="4648320"/>
            <a:ext cx="426708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налазимо детаљнији опис опциј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аљи производ на онај порт који одговара редном броју његовог типа (врсте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762120" y="4267080"/>
            <a:ext cx="502920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 flipV="1">
            <a:off x="3200400" y="2285640"/>
            <a:ext cx="609480" cy="2133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3505320" y="761760"/>
            <a:ext cx="5410080" cy="1085400"/>
            <a:chOff x="3505320" y="761760"/>
            <a:chExt cx="5410080" cy="1085400"/>
          </a:xfrm>
        </p:grpSpPr>
        <p:sp>
          <p:nvSpPr>
            <p:cNvPr id="323" name="File"/>
            <p:cNvSpPr/>
            <p:nvPr/>
          </p:nvSpPr>
          <p:spPr>
            <a:xfrm rot="10800000">
              <a:off x="3505320" y="761400"/>
              <a:ext cx="5410080" cy="10854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505320" y="84096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Process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Машина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5" name=""/>
          <p:cNvSpPr/>
          <p:nvPr/>
        </p:nvSpPr>
        <p:spPr>
          <a:xfrm flipH="1" rot="19687200">
            <a:off x="2133000" y="2057040"/>
            <a:ext cx="1676160" cy="533520"/>
          </a:xfrm>
          <a:custGeom>
            <a:avLst/>
            <a:gdLst>
              <a:gd name="textAreaLeft" fmla="*/ 293040 w 1676160"/>
              <a:gd name="textAreaRight" fmla="*/ 1215360 w 167616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Documents"/>
          <p:cNvSpPr/>
          <p:nvPr/>
        </p:nvSpPr>
        <p:spPr>
          <a:xfrm>
            <a:off x="457200" y="3200400"/>
            <a:ext cx="4343400" cy="12952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28" name=""/>
          <p:cNvSpPr/>
          <p:nvPr/>
        </p:nvSpPr>
        <p:spPr>
          <a:xfrm>
            <a:off x="241200" y="2768760"/>
            <a:ext cx="1676520" cy="546120"/>
          </a:xfrm>
          <a:custGeom>
            <a:avLst/>
            <a:gdLst/>
            <a:ahLst/>
            <a:rect l="l" t="t" r="r" b="b"/>
            <a:pathLst>
              <a:path w="1056" h="344">
                <a:moveTo>
                  <a:pt x="136" y="128"/>
                </a:moveTo>
                <a:cubicBezTo>
                  <a:pt x="32" y="176"/>
                  <a:pt x="0" y="296"/>
                  <a:pt x="136" y="320"/>
                </a:cubicBezTo>
                <a:cubicBezTo>
                  <a:pt x="272" y="344"/>
                  <a:pt x="848" y="320"/>
                  <a:pt x="952" y="272"/>
                </a:cubicBezTo>
                <a:cubicBezTo>
                  <a:pt x="1056" y="224"/>
                  <a:pt x="896" y="64"/>
                  <a:pt x="760" y="32"/>
                </a:cubicBezTo>
                <a:cubicBezTo>
                  <a:pt x="624" y="0"/>
                  <a:pt x="240" y="80"/>
                  <a:pt x="136" y="12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1752480"/>
            <a:ext cx="1828800" cy="1295640"/>
          </a:xfrm>
          <a:custGeom>
            <a:avLst/>
            <a:gdLst>
              <a:gd name="textAreaLeft" fmla="*/ 417240 w 1828800"/>
              <a:gd name="textAreaRight" fmla="*/ 1411560 w 1828800"/>
              <a:gd name="textAreaTop" fmla="*/ 295560 h 1295640"/>
              <a:gd name="textAreaBottom" fmla="*/ 1000080 h 12956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еме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цесирањ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flipH="1">
            <a:off x="1676160" y="2514600"/>
            <a:ext cx="297180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380880" y="4572000"/>
            <a:ext cx="6782040" cy="457200"/>
          </a:xfrm>
          <a:custGeom>
            <a:avLst/>
            <a:gdLst/>
            <a:ahLst/>
            <a:rect l="l" t="t" r="r" b="b"/>
            <a:pathLst>
              <a:path w="4437" h="446">
                <a:moveTo>
                  <a:pt x="220" y="89"/>
                </a:moveTo>
                <a:cubicBezTo>
                  <a:pt x="166" y="95"/>
                  <a:pt x="124" y="99"/>
                  <a:pt x="74" y="117"/>
                </a:cubicBezTo>
                <a:cubicBezTo>
                  <a:pt x="10" y="179"/>
                  <a:pt x="38" y="136"/>
                  <a:pt x="19" y="199"/>
                </a:cubicBezTo>
                <a:cubicBezTo>
                  <a:pt x="13" y="218"/>
                  <a:pt x="0" y="254"/>
                  <a:pt x="0" y="254"/>
                </a:cubicBezTo>
                <a:cubicBezTo>
                  <a:pt x="3" y="278"/>
                  <a:pt x="3" y="303"/>
                  <a:pt x="10" y="327"/>
                </a:cubicBezTo>
                <a:cubicBezTo>
                  <a:pt x="29" y="394"/>
                  <a:pt x="141" y="416"/>
                  <a:pt x="202" y="427"/>
                </a:cubicBezTo>
                <a:cubicBezTo>
                  <a:pt x="226" y="432"/>
                  <a:pt x="251" y="433"/>
                  <a:pt x="275" y="437"/>
                </a:cubicBezTo>
                <a:cubicBezTo>
                  <a:pt x="290" y="439"/>
                  <a:pt x="320" y="446"/>
                  <a:pt x="320" y="446"/>
                </a:cubicBezTo>
                <a:lnTo>
                  <a:pt x="1221" y="432"/>
                </a:lnTo>
                <a:lnTo>
                  <a:pt x="2277" y="432"/>
                </a:lnTo>
                <a:lnTo>
                  <a:pt x="3429" y="384"/>
                </a:lnTo>
                <a:lnTo>
                  <a:pt x="4389" y="384"/>
                </a:lnTo>
                <a:lnTo>
                  <a:pt x="4437" y="240"/>
                </a:lnTo>
                <a:lnTo>
                  <a:pt x="4101" y="48"/>
                </a:lnTo>
                <a:lnTo>
                  <a:pt x="3621" y="0"/>
                </a:lnTo>
                <a:lnTo>
                  <a:pt x="2469" y="48"/>
                </a:lnTo>
                <a:lnTo>
                  <a:pt x="1797" y="48"/>
                </a:lnTo>
                <a:lnTo>
                  <a:pt x="1173" y="48"/>
                </a:lnTo>
                <a:lnTo>
                  <a:pt x="501" y="48"/>
                </a:lnTo>
                <a:lnTo>
                  <a:pt x="261" y="48"/>
                </a:lnTo>
                <a:lnTo>
                  <a:pt x="165" y="96"/>
                </a:ln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7162920" y="3124080"/>
            <a:ext cx="457200" cy="457200"/>
          </a:xfrm>
          <a:custGeom>
            <a:avLst/>
            <a:gdLst/>
            <a:ahLst/>
            <a:rect l="l" t="t" r="r" b="b"/>
            <a:pathLst>
              <a:path w="240" h="336">
                <a:moveTo>
                  <a:pt x="0" y="48"/>
                </a:moveTo>
                <a:lnTo>
                  <a:pt x="0" y="240"/>
                </a:lnTo>
                <a:lnTo>
                  <a:pt x="48" y="336"/>
                </a:lnTo>
                <a:lnTo>
                  <a:pt x="144" y="336"/>
                </a:lnTo>
                <a:lnTo>
                  <a:pt x="240" y="336"/>
                </a:lnTo>
                <a:lnTo>
                  <a:pt x="240" y="192"/>
                </a:lnTo>
                <a:lnTo>
                  <a:pt x="192" y="48"/>
                </a:lnTo>
                <a:lnTo>
                  <a:pt x="96" y="0"/>
                </a:lnTo>
                <a:lnTo>
                  <a:pt x="0" y="48"/>
                </a:ln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V="1">
            <a:off x="7010280" y="3580920"/>
            <a:ext cx="228600" cy="1295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477120" y="1981080"/>
            <a:ext cx="2666880" cy="1143000"/>
          </a:xfrm>
          <a:prstGeom prst="irregularSeal2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de templ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дни шабл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1143000" y="1447920"/>
            <a:ext cx="5905440" cy="144756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3200400" y="4419720"/>
            <a:ext cx="4267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 кодном шаблону уписујемо одговарајуће вредности парамета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експоненцијалне расподел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3048120" y="3809880"/>
            <a:ext cx="4647960" cy="2362320"/>
          </a:xfrm>
          <a:custGeom>
            <a:avLst/>
            <a:gdLst/>
            <a:ahLst/>
            <a:rect l="l" t="t" r="r" b="b"/>
            <a:pathLst>
              <a:path w="3664" h="1872">
                <a:moveTo>
                  <a:pt x="768" y="136"/>
                </a:moveTo>
                <a:cubicBezTo>
                  <a:pt x="508" y="276"/>
                  <a:pt x="248" y="416"/>
                  <a:pt x="144" y="568"/>
                </a:cubicBezTo>
                <a:cubicBezTo>
                  <a:pt x="40" y="720"/>
                  <a:pt x="0" y="848"/>
                  <a:pt x="144" y="1048"/>
                </a:cubicBezTo>
                <a:cubicBezTo>
                  <a:pt x="288" y="1248"/>
                  <a:pt x="584" y="1664"/>
                  <a:pt x="1008" y="1768"/>
                </a:cubicBezTo>
                <a:cubicBezTo>
                  <a:pt x="1432" y="1872"/>
                  <a:pt x="2264" y="1792"/>
                  <a:pt x="2688" y="1672"/>
                </a:cubicBezTo>
                <a:cubicBezTo>
                  <a:pt x="3112" y="1552"/>
                  <a:pt x="3440" y="1264"/>
                  <a:pt x="3552" y="1048"/>
                </a:cubicBezTo>
                <a:cubicBezTo>
                  <a:pt x="3664" y="832"/>
                  <a:pt x="3536" y="544"/>
                  <a:pt x="3360" y="376"/>
                </a:cubicBezTo>
                <a:cubicBezTo>
                  <a:pt x="3184" y="208"/>
                  <a:pt x="2872" y="80"/>
                  <a:pt x="2496" y="40"/>
                </a:cubicBezTo>
                <a:cubicBezTo>
                  <a:pt x="2120" y="0"/>
                  <a:pt x="1488" y="80"/>
                  <a:pt x="1104" y="136"/>
                </a:cubicBezTo>
                <a:cubicBezTo>
                  <a:pt x="720" y="192"/>
                  <a:pt x="368" y="320"/>
                  <a:pt x="192" y="376"/>
                </a:cubicBezTo>
                <a:cubicBezTo>
                  <a:pt x="16" y="432"/>
                  <a:pt x="32" y="452"/>
                  <a:pt x="48" y="4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 flipH="1" flipV="1">
            <a:off x="2743200" y="2362320"/>
            <a:ext cx="1295280" cy="2133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9" name=""/>
          <p:cNvGrpSpPr/>
          <p:nvPr/>
        </p:nvGrpSpPr>
        <p:grpSpPr>
          <a:xfrm>
            <a:off x="3123720" y="380880"/>
            <a:ext cx="5410440" cy="1085760"/>
            <a:chOff x="3123720" y="380880"/>
            <a:chExt cx="5410440" cy="1085760"/>
          </a:xfrm>
        </p:grpSpPr>
        <p:sp>
          <p:nvSpPr>
            <p:cNvPr id="340" name="File"/>
            <p:cNvSpPr/>
            <p:nvPr/>
          </p:nvSpPr>
          <p:spPr>
            <a:xfrm rot="10800000">
              <a:off x="3123720" y="380520"/>
              <a:ext cx="5410440" cy="108576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124080" y="459720"/>
              <a:ext cx="521100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ромена параметара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објеката </a:t>
              </a:r>
              <a:r>
                <a:rPr b="1" lang="sr-Latn-CS" sz="2400" spc="-1" strike="noStrike">
                  <a:solidFill>
                    <a:srgbClr val="000000"/>
                  </a:solidFill>
                  <a:latin typeface="Arial"/>
                </a:rPr>
                <a:t>  Conveyor </a:t>
              </a: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(Конвејери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"/>
          <p:cNvSpPr/>
          <p:nvPr/>
        </p:nvSpPr>
        <p:spPr>
          <a:xfrm flipH="1" rot="19687200">
            <a:off x="1828800" y="1752480"/>
            <a:ext cx="1676880" cy="533520"/>
          </a:xfrm>
          <a:custGeom>
            <a:avLst/>
            <a:gdLst>
              <a:gd name="textAreaLeft" fmla="*/ 293400 w 1676880"/>
              <a:gd name="textAreaRight" fmla="*/ 1215720 w 1676880"/>
              <a:gd name="textAreaTop" fmla="*/ 71280 h 533520"/>
              <a:gd name="textAreaBottom" fmla="*/ 462240 h 533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Documents"/>
          <p:cNvSpPr/>
          <p:nvPr/>
        </p:nvSpPr>
        <p:spPr>
          <a:xfrm>
            <a:off x="990720" y="2971800"/>
            <a:ext cx="5181480" cy="23623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егледом параметарских страница објекта уверавамо се да брзина конвејера већ износи 1 </a:t>
            </a:r>
            <a:r>
              <a:rPr b="0" lang="sr-Latn-CS" sz="2000" spc="-1" strike="noStrike">
                <a:solidFill>
                  <a:srgbClr val="000000"/>
                </a:solidFill>
                <a:latin typeface="Arial"/>
              </a:rPr>
              <a:t>m/s</a:t>
            </a: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, па нема потребе да ишта мења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380880" y="91404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Компајлирање и пуштање модела у рад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380520" y="1905120"/>
            <a:ext cx="4343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мпајлирај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Ресетујте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,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крените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онтролишите брзину извршавања модела клизачем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Експериментер се користи за одређивање трајања симулације (Ове опције нема у демо верзији)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46" name=""/>
          <p:cNvGraphicFramePr/>
          <p:nvPr/>
        </p:nvGraphicFramePr>
        <p:xfrm>
          <a:off x="5105520" y="1905120"/>
          <a:ext cx="957240" cy="42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05520" y="1905120"/>
                    <a:ext cx="957240" cy="422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8" name=""/>
          <p:cNvGraphicFramePr/>
          <p:nvPr/>
        </p:nvGraphicFramePr>
        <p:xfrm>
          <a:off x="5029200" y="3962520"/>
          <a:ext cx="3200400" cy="517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3962520"/>
                    <a:ext cx="3200400" cy="51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0" name=""/>
          <p:cNvGraphicFramePr/>
          <p:nvPr/>
        </p:nvGraphicFramePr>
        <p:xfrm>
          <a:off x="3429000" y="2862360"/>
          <a:ext cx="4876920" cy="4903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29000" y="2862360"/>
                    <a:ext cx="4876920" cy="49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"/>
          <p:cNvGraphicFramePr/>
          <p:nvPr/>
        </p:nvGraphicFramePr>
        <p:xfrm>
          <a:off x="5334120" y="5141880"/>
          <a:ext cx="1447560" cy="49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3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334120" y="5141880"/>
                    <a:ext cx="1447560" cy="49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4495680" y="304920"/>
            <a:ext cx="434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. Прикупљање и обрада подата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5" name="" descr=""/>
          <p:cNvPicPr/>
          <p:nvPr/>
        </p:nvPicPr>
        <p:blipFill>
          <a:blip r:embed="rId1"/>
          <a:stretch/>
        </p:blipFill>
        <p:spPr>
          <a:xfrm>
            <a:off x="2438280" y="1676520"/>
            <a:ext cx="6089760" cy="46368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304920" y="762120"/>
            <a:ext cx="3047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1.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Најједноставнији начин, посматрањем вредности поред објека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6095880" y="152280"/>
            <a:ext cx="281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Уз помоћ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roperties (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Особине) прозора обј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304920" y="762120"/>
            <a:ext cx="5638680" cy="59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8800" cy="6858000"/>
          </a:xfrm>
          <a:prstGeom prst="rect">
            <a:avLst/>
          </a:prstGeom>
          <a:ln w="0">
            <a:noFill/>
          </a:ln>
        </p:spPr>
      </p:pic>
      <p:sp>
        <p:nvSpPr>
          <p:cNvPr id="360" name=""/>
          <p:cNvSpPr/>
          <p:nvPr/>
        </p:nvSpPr>
        <p:spPr>
          <a:xfrm>
            <a:off x="6553080" y="1066680"/>
            <a:ext cx="2362320" cy="31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тање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казује проценат и време  које је објекат провео у одређеним ста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2" name=""/>
          <p:cNvSpPr/>
          <p:nvPr/>
        </p:nvSpPr>
        <p:spPr>
          <a:xfrm>
            <a:off x="6553080" y="457200"/>
            <a:ext cx="2362320" cy="57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ent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Садржај) страница доступна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прозору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број производа који се налазе унутар објекта у току извесног интерв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ff3300"/>
                </a:solidFill>
                <a:latin typeface="Arial"/>
              </a:rPr>
              <a:t>Морају бити укључена подешавања за прикупљање статис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1" name=""/>
          <p:cNvGrpSpPr/>
          <p:nvPr/>
        </p:nvGrpSpPr>
        <p:grpSpPr>
          <a:xfrm>
            <a:off x="3352320" y="304920"/>
            <a:ext cx="5334120" cy="1047600"/>
            <a:chOff x="3352320" y="304920"/>
            <a:chExt cx="5334120" cy="1047600"/>
          </a:xfrm>
        </p:grpSpPr>
        <p:sp>
          <p:nvSpPr>
            <p:cNvPr id="112" name="File"/>
            <p:cNvSpPr/>
            <p:nvPr/>
          </p:nvSpPr>
          <p:spPr>
            <a:xfrm rot="10800000">
              <a:off x="3352320" y="304560"/>
              <a:ext cx="533412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352680" y="381240"/>
              <a:ext cx="5137560" cy="82548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Где наћи потребну документацију за учење  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" name=""/>
          <p:cNvSpPr/>
          <p:nvPr/>
        </p:nvSpPr>
        <p:spPr>
          <a:xfrm>
            <a:off x="1908720" y="5257800"/>
            <a:ext cx="534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800" spc="-1" strike="noStrike">
                <a:solidFill>
                  <a:srgbClr val="808080"/>
                </a:solidFill>
                <a:latin typeface="Arial"/>
              </a:rPr>
              <a:t>http://www.flexsim.com/products/flexsim/webdemo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8040" y="2438280"/>
            <a:ext cx="616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2. </a:t>
            </a:r>
            <a:r>
              <a:rPr b="1" lang="sr-Latn-CS" sz="1800" spc="-1" strike="noStrike">
                <a:solidFill>
                  <a:srgbClr val="002ab0"/>
                </a:solidFill>
                <a:latin typeface="Arial"/>
              </a:rPr>
              <a:t>http://file.sf.bg.ac.yu/nastava/course/view.php?id=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80880" y="198108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2ab0"/>
                </a:solidFill>
                <a:latin typeface="Arial"/>
              </a:rPr>
              <a:t>1. He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370520" y="2971800"/>
            <a:ext cx="632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ample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sr-CS" sz="1600" spc="-1" strike="noStrike">
                <a:solidFill>
                  <a:srgbClr val="000000"/>
                </a:solidFill>
                <a:latin typeface="Arial"/>
              </a:rPr>
              <a:t>примери различите тежине, са објашњењим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43000" y="3429000"/>
            <a:ext cx="7391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б)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lassmodels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2.6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неколико туторијала од најједноставнијих до врло тешких, са објашњењи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04920" y="4724280"/>
            <a:ext cx="883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808080"/>
                </a:solidFill>
                <a:latin typeface="Arial"/>
              </a:rPr>
              <a:t>Кратки демо за увод у прављење модела у последњој верзији софтвер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237360" cy="6858000"/>
          </a:xfrm>
          <a:prstGeom prst="rect">
            <a:avLst/>
          </a:prstGeom>
          <a:ln w="0">
            <a:noFill/>
          </a:ln>
        </p:spPr>
      </p:pic>
      <p:sp>
        <p:nvSpPr>
          <p:cNvPr id="364" name=""/>
          <p:cNvSpPr/>
          <p:nvPr/>
        </p:nvSpPr>
        <p:spPr>
          <a:xfrm>
            <a:off x="6553080" y="457200"/>
            <a:ext cx="2362320" cy="58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ytim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Време задржавања) страница доступна на прозор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иказује структуру задржавања производа у објект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ваки стубац представља број производа који се задржавају одређени временски интерва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5410080" y="228600"/>
            <a:ext cx="3505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е посматрали, пратили и обрађивали подаци, одговарајући објекти морају бити селектован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533520" y="914400"/>
            <a:ext cx="3809880" cy="21178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2"/>
          <a:stretch/>
        </p:blipFill>
        <p:spPr>
          <a:xfrm>
            <a:off x="685800" y="3886200"/>
            <a:ext cx="3200400" cy="243828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2209680" y="3048120"/>
            <a:ext cx="381240" cy="838080"/>
          </a:xfrm>
          <a:prstGeom prst="downArrow">
            <a:avLst>
              <a:gd name="adj1" fmla="val 50000"/>
              <a:gd name="adj2" fmla="val 54958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3124080"/>
            <a:ext cx="3657600" cy="17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ње: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hif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-ву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одавање у селекцију: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 клик на објека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лектовани објекти су означени црвеном бојо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0" name="" descr=""/>
          <p:cNvPicPr/>
          <p:nvPr/>
        </p:nvPicPr>
        <p:blipFill>
          <a:blip r:embed="rId1"/>
          <a:stretch/>
        </p:blipFill>
        <p:spPr>
          <a:xfrm>
            <a:off x="304920" y="914400"/>
            <a:ext cx="5867280" cy="2473200"/>
          </a:xfrm>
          <a:prstGeom prst="rect">
            <a:avLst/>
          </a:prstGeom>
          <a:ln w="0">
            <a:noFill/>
          </a:ln>
        </p:spPr>
      </p:pic>
      <p:pic>
        <p:nvPicPr>
          <p:cNvPr id="371" name="" descr=""/>
          <p:cNvPicPr/>
          <p:nvPr/>
        </p:nvPicPr>
        <p:blipFill>
          <a:blip r:embed="rId2"/>
          <a:stretch/>
        </p:blipFill>
        <p:spPr>
          <a:xfrm>
            <a:off x="380880" y="3809880"/>
            <a:ext cx="5791320" cy="2417760"/>
          </a:xfrm>
          <a:prstGeom prst="rect">
            <a:avLst/>
          </a:prstGeom>
          <a:ln w="0">
            <a:noFill/>
          </a:ln>
        </p:spPr>
      </p:pic>
      <p:sp>
        <p:nvSpPr>
          <p:cNvPr id="372" name=""/>
          <p:cNvSpPr/>
          <p:nvPr/>
        </p:nvSpPr>
        <p:spPr>
          <a:xfrm>
            <a:off x="4724280" y="0"/>
            <a:ext cx="441972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Такође, морају бити извршен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ешавања</a:t>
            </a: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у падајућем мениј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0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781680" y="2819520"/>
            <a:ext cx="18288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мисао ових подешавања је да се омогући прикупљање података, баш за селектоване објекте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 flipH="1" flipV="1">
            <a:off x="5562720" y="2742840"/>
            <a:ext cx="129528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210360" y="2489040"/>
            <a:ext cx="2628720" cy="3480120"/>
          </a:xfrm>
          <a:custGeom>
            <a:avLst/>
            <a:gdLst/>
            <a:ahLst/>
            <a:rect l="l" t="t" r="r" b="b"/>
            <a:pathLst>
              <a:path w="1656" h="2192">
                <a:moveTo>
                  <a:pt x="408" y="112"/>
                </a:moveTo>
                <a:cubicBezTo>
                  <a:pt x="204" y="648"/>
                  <a:pt x="0" y="1184"/>
                  <a:pt x="168" y="1504"/>
                </a:cubicBezTo>
                <a:cubicBezTo>
                  <a:pt x="336" y="1824"/>
                  <a:pt x="1176" y="2192"/>
                  <a:pt x="1416" y="2032"/>
                </a:cubicBezTo>
                <a:cubicBezTo>
                  <a:pt x="1656" y="1872"/>
                  <a:pt x="1648" y="880"/>
                  <a:pt x="1608" y="544"/>
                </a:cubicBezTo>
                <a:cubicBezTo>
                  <a:pt x="1568" y="208"/>
                  <a:pt x="1440" y="32"/>
                  <a:pt x="1176" y="16"/>
                </a:cubicBezTo>
                <a:cubicBezTo>
                  <a:pt x="912" y="0"/>
                  <a:pt x="208" y="440"/>
                  <a:pt x="24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/>
          </p:nvPr>
        </p:nvSpPr>
        <p:spPr>
          <a:xfrm>
            <a:off x="304560" y="1294920"/>
            <a:ext cx="380988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да су подешавања у менију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tat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извршена појављују се зелени оквири око објект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квири се могу сакрити избором опције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Hide Green Indicator Boxe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“Stats”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енија</a:t>
            </a:r>
            <a:endParaRPr b="0" lang="en-US" sz="18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77" name="" descr=""/>
          <p:cNvPicPr/>
          <p:nvPr/>
        </p:nvPicPr>
        <p:blipFill>
          <a:blip r:embed="rId1"/>
          <a:stretch/>
        </p:blipFill>
        <p:spPr>
          <a:xfrm>
            <a:off x="4572000" y="762120"/>
            <a:ext cx="3459240" cy="2516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8" name=""/>
          <p:cNvGraphicFramePr/>
          <p:nvPr/>
        </p:nvGraphicFramePr>
        <p:xfrm>
          <a:off x="4114800" y="3657600"/>
          <a:ext cx="4363920" cy="2546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114800" y="3657600"/>
                    <a:ext cx="4363920" cy="254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33160" y="762120"/>
            <a:ext cx="556236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tandard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Стандардни извештај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1" name="" descr=""/>
          <p:cNvPicPr/>
          <p:nvPr/>
        </p:nvPicPr>
        <p:blipFill>
          <a:blip r:embed="rId1"/>
          <a:stretch/>
        </p:blipFill>
        <p:spPr>
          <a:xfrm>
            <a:off x="304920" y="1295280"/>
            <a:ext cx="8305560" cy="4540320"/>
          </a:xfrm>
          <a:prstGeom prst="rect">
            <a:avLst/>
          </a:prstGeom>
          <a:ln w="0">
            <a:noFill/>
          </a:ln>
        </p:spPr>
      </p:pic>
      <p:sp>
        <p:nvSpPr>
          <p:cNvPr id="382" name=""/>
          <p:cNvSpPr/>
          <p:nvPr/>
        </p:nvSpPr>
        <p:spPr>
          <a:xfrm>
            <a:off x="6095880" y="228600"/>
            <a:ext cx="2819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a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09480" y="594360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је преглед параметара с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траница у табеларној форми погодној за даљу обрад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6840" y="990720"/>
            <a:ext cx="5334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lexsim State Report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- Извештај о стањима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2743200" cy="36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ценат времена које је објекат провео у сваком од стања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Профил стања је дат за сваки објекат који је тренутно </a:t>
            </a:r>
            <a:r>
              <a:rPr b="0" lang="sr-CS" sz="2200" spc="-1" strike="noStrike">
                <a:solidFill>
                  <a:srgbClr val="ff3300"/>
                </a:solidFill>
                <a:latin typeface="Arial"/>
              </a:rPr>
              <a:t>селектован</a:t>
            </a:r>
            <a:r>
              <a:rPr b="0" lang="sr-CS" sz="2200" spc="-1" strike="noStrike">
                <a:solidFill>
                  <a:srgbClr val="00006a"/>
                </a:solidFill>
                <a:latin typeface="Arial"/>
              </a:rPr>
              <a:t> у моделу</a:t>
            </a: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5638680" cy="4226040"/>
          </a:xfrm>
          <a:prstGeom prst="rect">
            <a:avLst/>
          </a:prstGeom>
          <a:ln w="0">
            <a:noFill/>
          </a:ln>
        </p:spPr>
      </p:pic>
      <p:sp>
        <p:nvSpPr>
          <p:cNvPr id="387" name=""/>
          <p:cNvSpPr/>
          <p:nvPr/>
        </p:nvSpPr>
        <p:spPr>
          <a:xfrm>
            <a:off x="4042440" y="231840"/>
            <a:ext cx="513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б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Извожење податак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у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914400" y="182880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or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440" y="2819160"/>
            <a:ext cx="792468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Служи да сними и прикаже статистичке податке у виду хистограма, табела, питиц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Може да сакупља тачкасте податке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(min, max, avg) 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или комплетне вредности кроз сваки протекли тренутак времена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Дуплим кликом на објекат се стартује његова параметарска страница на којој се налазе подешавања за прикупљање податак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390" name=""/>
          <p:cNvGraphicFramePr/>
          <p:nvPr/>
        </p:nvGraphicFramePr>
        <p:xfrm>
          <a:off x="7010280" y="1447920"/>
          <a:ext cx="1219320" cy="121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010280" y="1447920"/>
                    <a:ext cx="12193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2" name=""/>
          <p:cNvSpPr/>
          <p:nvPr/>
        </p:nvSpPr>
        <p:spPr>
          <a:xfrm>
            <a:off x="4952880" y="304920"/>
            <a:ext cx="3962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4. Уз помоћ објекта </a:t>
            </a: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(Сниматељ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3" name="" descr=""/>
          <p:cNvPicPr/>
          <p:nvPr/>
        </p:nvPicPr>
        <p:blipFill>
          <a:blip r:embed="rId1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5410080" y="114300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3657600" y="1219320"/>
            <a:ext cx="2590920" cy="304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676520" y="0"/>
            <a:ext cx="2666880" cy="1676520"/>
          </a:xfrm>
          <a:custGeom>
            <a:avLst/>
            <a:gdLst>
              <a:gd name="textAreaLeft" fmla="*/ 608760 w 2666880"/>
              <a:gd name="textAreaRight" fmla="*/ 2058120 w 2666880"/>
              <a:gd name="textAreaTop" fmla="*/ 382680 h 1676520"/>
              <a:gd name="textAreaBottom" fmla="*/ 1293840 h 16765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з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икупљање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2"/>
          <a:stretch/>
        </p:blipFill>
        <p:spPr>
          <a:xfrm>
            <a:off x="0" y="3048120"/>
            <a:ext cx="10820520" cy="4500360"/>
          </a:xfrm>
          <a:prstGeom prst="rect">
            <a:avLst/>
          </a:prstGeom>
          <a:ln w="0">
            <a:noFill/>
          </a:ln>
        </p:spPr>
      </p:pic>
      <p:sp>
        <p:nvSpPr>
          <p:cNvPr id="398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457200" y="26668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Тип подата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380880" y="2577960"/>
            <a:ext cx="1613160" cy="520920"/>
          </a:xfrm>
          <a:custGeom>
            <a:avLst/>
            <a:gdLst/>
            <a:ahLst/>
            <a:rect l="l" t="t" r="r" b="b"/>
            <a:pathLst>
              <a:path w="1016" h="328">
                <a:moveTo>
                  <a:pt x="144" y="8"/>
                </a:moveTo>
                <a:cubicBezTo>
                  <a:pt x="104" y="80"/>
                  <a:pt x="64" y="152"/>
                  <a:pt x="96" y="200"/>
                </a:cubicBezTo>
                <a:cubicBezTo>
                  <a:pt x="128" y="248"/>
                  <a:pt x="216" y="280"/>
                  <a:pt x="336" y="296"/>
                </a:cubicBezTo>
                <a:cubicBezTo>
                  <a:pt x="456" y="312"/>
                  <a:pt x="704" y="328"/>
                  <a:pt x="816" y="296"/>
                </a:cubicBezTo>
                <a:cubicBezTo>
                  <a:pt x="928" y="264"/>
                  <a:pt x="1016" y="152"/>
                  <a:pt x="1008" y="104"/>
                </a:cubicBezTo>
                <a:cubicBezTo>
                  <a:pt x="1000" y="56"/>
                  <a:pt x="904" y="16"/>
                  <a:pt x="768" y="8"/>
                </a:cubicBezTo>
                <a:cubicBezTo>
                  <a:pt x="632" y="0"/>
                  <a:pt x="320" y="32"/>
                  <a:pt x="192" y="56"/>
                </a:cubicBezTo>
                <a:cubicBezTo>
                  <a:pt x="64" y="80"/>
                  <a:pt x="40" y="168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914040" y="2971800"/>
            <a:ext cx="15228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77840" y="3746520"/>
            <a:ext cx="1612800" cy="622440"/>
          </a:xfrm>
          <a:custGeom>
            <a:avLst/>
            <a:gdLst/>
            <a:ahLst/>
            <a:rect l="l" t="t" r="r" b="b"/>
            <a:pathLst>
              <a:path w="1016" h="392">
                <a:moveTo>
                  <a:pt x="128" y="136"/>
                </a:moveTo>
                <a:cubicBezTo>
                  <a:pt x="64" y="164"/>
                  <a:pt x="0" y="192"/>
                  <a:pt x="32" y="232"/>
                </a:cubicBezTo>
                <a:cubicBezTo>
                  <a:pt x="64" y="272"/>
                  <a:pt x="168" y="360"/>
                  <a:pt x="320" y="376"/>
                </a:cubicBezTo>
                <a:cubicBezTo>
                  <a:pt x="472" y="392"/>
                  <a:pt x="872" y="384"/>
                  <a:pt x="944" y="328"/>
                </a:cubicBezTo>
                <a:cubicBezTo>
                  <a:pt x="1016" y="272"/>
                  <a:pt x="872" y="80"/>
                  <a:pt x="752" y="40"/>
                </a:cubicBezTo>
                <a:cubicBezTo>
                  <a:pt x="632" y="0"/>
                  <a:pt x="344" y="40"/>
                  <a:pt x="224" y="88"/>
                </a:cubicBezTo>
                <a:cubicBezTo>
                  <a:pt x="104" y="136"/>
                  <a:pt x="72" y="296"/>
                  <a:pt x="32" y="3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5181480" y="3886200"/>
            <a:ext cx="1828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тандардни подац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 flipH="1">
            <a:off x="3352320" y="40384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029200" y="3797280"/>
            <a:ext cx="1866960" cy="736560"/>
          </a:xfrm>
          <a:custGeom>
            <a:avLst/>
            <a:gdLst/>
            <a:ahLst/>
            <a:rect l="l" t="t" r="r" b="b"/>
            <a:pathLst>
              <a:path w="1176" h="464">
                <a:moveTo>
                  <a:pt x="336" y="8"/>
                </a:moveTo>
                <a:cubicBezTo>
                  <a:pt x="276" y="72"/>
                  <a:pt x="216" y="136"/>
                  <a:pt x="240" y="200"/>
                </a:cubicBezTo>
                <a:cubicBezTo>
                  <a:pt x="264" y="264"/>
                  <a:pt x="368" y="352"/>
                  <a:pt x="480" y="392"/>
                </a:cubicBezTo>
                <a:cubicBezTo>
                  <a:pt x="592" y="432"/>
                  <a:pt x="800" y="464"/>
                  <a:pt x="912" y="440"/>
                </a:cubicBezTo>
                <a:cubicBezTo>
                  <a:pt x="1024" y="416"/>
                  <a:pt x="1128" y="312"/>
                  <a:pt x="1152" y="248"/>
                </a:cubicBezTo>
                <a:cubicBezTo>
                  <a:pt x="1176" y="184"/>
                  <a:pt x="1144" y="96"/>
                  <a:pt x="1056" y="56"/>
                </a:cubicBezTo>
                <a:cubicBezTo>
                  <a:pt x="968" y="16"/>
                  <a:pt x="752" y="0"/>
                  <a:pt x="624" y="8"/>
                </a:cubicBezTo>
                <a:cubicBezTo>
                  <a:pt x="496" y="16"/>
                  <a:pt x="392" y="88"/>
                  <a:pt x="288" y="104"/>
                </a:cubicBezTo>
                <a:cubicBezTo>
                  <a:pt x="184" y="120"/>
                  <a:pt x="40" y="120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553080" y="4800600"/>
            <a:ext cx="175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324480" y="468648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flipH="1" flipV="1">
            <a:off x="3809880" y="4952880"/>
            <a:ext cx="2895840" cy="76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1295280" y="6340320"/>
            <a:ext cx="1981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Врста података који се прикупљају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914400" y="6210360"/>
            <a:ext cx="2463840" cy="876240"/>
          </a:xfrm>
          <a:custGeom>
            <a:avLst/>
            <a:gdLst/>
            <a:ahLst/>
            <a:rect l="l" t="t" r="r" b="b"/>
            <a:pathLst>
              <a:path w="1552" h="552">
                <a:moveTo>
                  <a:pt x="336" y="24"/>
                </a:moveTo>
                <a:cubicBezTo>
                  <a:pt x="268" y="20"/>
                  <a:pt x="200" y="16"/>
                  <a:pt x="192" y="72"/>
                </a:cubicBezTo>
                <a:cubicBezTo>
                  <a:pt x="184" y="128"/>
                  <a:pt x="168" y="280"/>
                  <a:pt x="288" y="360"/>
                </a:cubicBezTo>
                <a:cubicBezTo>
                  <a:pt x="408" y="440"/>
                  <a:pt x="720" y="552"/>
                  <a:pt x="912" y="552"/>
                </a:cubicBezTo>
                <a:cubicBezTo>
                  <a:pt x="1104" y="552"/>
                  <a:pt x="1360" y="440"/>
                  <a:pt x="1440" y="360"/>
                </a:cubicBezTo>
                <a:cubicBezTo>
                  <a:pt x="1520" y="280"/>
                  <a:pt x="1552" y="128"/>
                  <a:pt x="1392" y="72"/>
                </a:cubicBezTo>
                <a:cubicBezTo>
                  <a:pt x="1232" y="16"/>
                  <a:pt x="712" y="0"/>
                  <a:pt x="480" y="24"/>
                </a:cubicBezTo>
                <a:cubicBezTo>
                  <a:pt x="248" y="48"/>
                  <a:pt x="88" y="216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flipH="1" flipV="1">
            <a:off x="1066320" y="5410080"/>
            <a:ext cx="685800" cy="990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172200" y="594360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Садржај објек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172200" y="5791320"/>
            <a:ext cx="2222640" cy="622080"/>
          </a:xfrm>
          <a:custGeom>
            <a:avLst/>
            <a:gdLst/>
            <a:ahLst/>
            <a:rect l="l" t="t" r="r" b="b"/>
            <a:pathLst>
              <a:path w="1400" h="392">
                <a:moveTo>
                  <a:pt x="240" y="72"/>
                </a:moveTo>
                <a:cubicBezTo>
                  <a:pt x="156" y="200"/>
                  <a:pt x="72" y="328"/>
                  <a:pt x="240" y="360"/>
                </a:cubicBezTo>
                <a:cubicBezTo>
                  <a:pt x="408" y="392"/>
                  <a:pt x="1096" y="312"/>
                  <a:pt x="1248" y="264"/>
                </a:cubicBezTo>
                <a:cubicBezTo>
                  <a:pt x="1400" y="216"/>
                  <a:pt x="1264" y="112"/>
                  <a:pt x="1152" y="72"/>
                </a:cubicBezTo>
                <a:cubicBezTo>
                  <a:pt x="1040" y="32"/>
                  <a:pt x="744" y="0"/>
                  <a:pt x="576" y="24"/>
                </a:cubicBezTo>
                <a:cubicBezTo>
                  <a:pt x="408" y="48"/>
                  <a:pt x="240" y="184"/>
                  <a:pt x="144" y="216"/>
                </a:cubicBezTo>
                <a:cubicBezTo>
                  <a:pt x="48" y="248"/>
                  <a:pt x="16" y="240"/>
                  <a:pt x="0" y="21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flipH="1" flipV="1">
            <a:off x="3580920" y="5562360"/>
            <a:ext cx="3124440" cy="685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304920" y="3200400"/>
            <a:ext cx="5486400" cy="3500280"/>
          </a:xfrm>
          <a:prstGeom prst="rect">
            <a:avLst/>
          </a:prstGeom>
          <a:ln w="0">
            <a:noFill/>
          </a:ln>
        </p:spPr>
      </p:pic>
      <p:pic>
        <p:nvPicPr>
          <p:cNvPr id="416" name="" descr=""/>
          <p:cNvPicPr/>
          <p:nvPr/>
        </p:nvPicPr>
        <p:blipFill>
          <a:blip r:embed="rId2"/>
          <a:stretch/>
        </p:blipFill>
        <p:spPr>
          <a:xfrm>
            <a:off x="5334120" y="0"/>
            <a:ext cx="3671640" cy="300348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5410080" y="1447920"/>
            <a:ext cx="2438640" cy="558720"/>
          </a:xfrm>
          <a:custGeom>
            <a:avLst/>
            <a:gdLst/>
            <a:ahLst/>
            <a:rect l="l" t="t" r="r" b="b"/>
            <a:pathLst>
              <a:path w="1536" h="352">
                <a:moveTo>
                  <a:pt x="144" y="64"/>
                </a:moveTo>
                <a:cubicBezTo>
                  <a:pt x="112" y="140"/>
                  <a:pt x="80" y="216"/>
                  <a:pt x="96" y="256"/>
                </a:cubicBezTo>
                <a:cubicBezTo>
                  <a:pt x="112" y="296"/>
                  <a:pt x="168" y="288"/>
                  <a:pt x="240" y="304"/>
                </a:cubicBezTo>
                <a:cubicBezTo>
                  <a:pt x="312" y="320"/>
                  <a:pt x="368" y="352"/>
                  <a:pt x="528" y="352"/>
                </a:cubicBezTo>
                <a:cubicBezTo>
                  <a:pt x="688" y="352"/>
                  <a:pt x="1040" y="312"/>
                  <a:pt x="1200" y="304"/>
                </a:cubicBezTo>
                <a:cubicBezTo>
                  <a:pt x="1360" y="296"/>
                  <a:pt x="1440" y="328"/>
                  <a:pt x="1488" y="304"/>
                </a:cubicBezTo>
                <a:cubicBezTo>
                  <a:pt x="1536" y="280"/>
                  <a:pt x="1512" y="208"/>
                  <a:pt x="1488" y="160"/>
                </a:cubicBezTo>
                <a:cubicBezTo>
                  <a:pt x="1464" y="112"/>
                  <a:pt x="1408" y="32"/>
                  <a:pt x="1344" y="16"/>
                </a:cubicBezTo>
                <a:cubicBezTo>
                  <a:pt x="1280" y="0"/>
                  <a:pt x="1232" y="56"/>
                  <a:pt x="1104" y="64"/>
                </a:cubicBezTo>
                <a:cubicBezTo>
                  <a:pt x="976" y="72"/>
                  <a:pt x="712" y="64"/>
                  <a:pt x="576" y="64"/>
                </a:cubicBezTo>
                <a:cubicBezTo>
                  <a:pt x="440" y="64"/>
                  <a:pt x="384" y="32"/>
                  <a:pt x="288" y="64"/>
                </a:cubicBezTo>
                <a:cubicBezTo>
                  <a:pt x="192" y="96"/>
                  <a:pt x="48" y="224"/>
                  <a:pt x="0" y="2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3657600" y="1219320"/>
            <a:ext cx="2362320" cy="6094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676520" y="0"/>
            <a:ext cx="2895480" cy="1447920"/>
          </a:xfrm>
          <a:custGeom>
            <a:avLst/>
            <a:gdLst>
              <a:gd name="textAreaLeft" fmla="*/ 660960 w 2895480"/>
              <a:gd name="textAreaRight" fmla="*/ 2234520 w 2895480"/>
              <a:gd name="textAreaTop" fmla="*/ 330480 h 1447920"/>
              <a:gd name="textAreaBottom" fmla="*/ 111744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одешавања изгле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4162800">
            <a:off x="4215960" y="1269720"/>
            <a:ext cx="469800" cy="2197080"/>
          </a:xfrm>
          <a:custGeom>
            <a:avLst/>
            <a:gdLst>
              <a:gd name="textAreaLeft" fmla="*/ 62640 w 469800"/>
              <a:gd name="textAreaRight" fmla="*/ 407160 w 469800"/>
              <a:gd name="textAreaTop" fmla="*/ 384480 h 2197080"/>
              <a:gd name="textAreaBottom" fmla="*/ 1593000 h 21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1195711"/>
                <a:lnTo>
                  <a:pt x="6598" y="19479"/>
                </a:lnTo>
                <a:lnTo>
                  <a:pt x="21600" y="17280"/>
                </a:lnTo>
                <a:lnTo>
                  <a:pt x="6598" y="10839"/>
                </a:lnTo>
                <a:lnTo>
                  <a:pt x="6598" y="12999"/>
                </a:lnTo>
                <a:arcTo wR="21600" hR="7560" stAng="9604289" swAng="838276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562720" y="4800600"/>
            <a:ext cx="266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400" spc="-1" strike="noStrike">
                <a:solidFill>
                  <a:srgbClr val="000000"/>
                </a:solidFill>
                <a:latin typeface="Arial"/>
              </a:rPr>
              <a:t>Промена имена граф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H="1" flipV="1">
            <a:off x="2895120" y="3885840"/>
            <a:ext cx="2971800" cy="12193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5410080" y="4648320"/>
            <a:ext cx="2616480" cy="533160"/>
          </a:xfrm>
          <a:custGeom>
            <a:avLst/>
            <a:gdLst/>
            <a:ahLst/>
            <a:rect l="l" t="t" r="r" b="b"/>
            <a:pathLst>
              <a:path w="1648" h="336">
                <a:moveTo>
                  <a:pt x="240" y="32"/>
                </a:moveTo>
                <a:cubicBezTo>
                  <a:pt x="152" y="128"/>
                  <a:pt x="64" y="224"/>
                  <a:pt x="96" y="272"/>
                </a:cubicBezTo>
                <a:cubicBezTo>
                  <a:pt x="128" y="320"/>
                  <a:pt x="288" y="312"/>
                  <a:pt x="432" y="320"/>
                </a:cubicBezTo>
                <a:cubicBezTo>
                  <a:pt x="576" y="328"/>
                  <a:pt x="800" y="320"/>
                  <a:pt x="960" y="320"/>
                </a:cubicBezTo>
                <a:cubicBezTo>
                  <a:pt x="1120" y="320"/>
                  <a:pt x="1280" y="336"/>
                  <a:pt x="1392" y="320"/>
                </a:cubicBezTo>
                <a:cubicBezTo>
                  <a:pt x="1504" y="304"/>
                  <a:pt x="1616" y="272"/>
                  <a:pt x="1632" y="224"/>
                </a:cubicBezTo>
                <a:cubicBezTo>
                  <a:pt x="1648" y="176"/>
                  <a:pt x="1552" y="64"/>
                  <a:pt x="1488" y="32"/>
                </a:cubicBezTo>
                <a:cubicBezTo>
                  <a:pt x="1424" y="0"/>
                  <a:pt x="1376" y="24"/>
                  <a:pt x="1248" y="32"/>
                </a:cubicBezTo>
                <a:cubicBezTo>
                  <a:pt x="1120" y="40"/>
                  <a:pt x="872" y="64"/>
                  <a:pt x="720" y="80"/>
                </a:cubicBezTo>
                <a:cubicBezTo>
                  <a:pt x="568" y="96"/>
                  <a:pt x="456" y="120"/>
                  <a:pt x="336" y="128"/>
                </a:cubicBezTo>
                <a:cubicBezTo>
                  <a:pt x="216" y="136"/>
                  <a:pt x="48" y="152"/>
                  <a:pt x="0" y="12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5181480" cy="395604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/>
          <p:nvPr/>
        </p:nvSpPr>
        <p:spPr>
          <a:xfrm>
            <a:off x="5867280" y="609480"/>
            <a:ext cx="3048120" cy="339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зглед 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Recorder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сле параметарских подешавањ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Ради посматрања садржаја графика и у перспективи, а не само у првој пројекцији, треба променити одређене вредности н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perties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страницама објект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533160" y="762120"/>
            <a:ext cx="8229240" cy="1047600"/>
            <a:chOff x="533160" y="762120"/>
            <a:chExt cx="8229240" cy="1047600"/>
          </a:xfrm>
        </p:grpSpPr>
        <p:sp>
          <p:nvSpPr>
            <p:cNvPr id="121" name="File"/>
            <p:cNvSpPr/>
            <p:nvPr/>
          </p:nvSpPr>
          <p:spPr>
            <a:xfrm rot="10800000">
              <a:off x="533160" y="761760"/>
              <a:ext cx="8229240" cy="104760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33520" y="838440"/>
              <a:ext cx="792648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Задатак за симулацију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" name=""/>
          <p:cNvSpPr/>
          <p:nvPr/>
        </p:nvSpPr>
        <p:spPr>
          <a:xfrm>
            <a:off x="1295280" y="2819520"/>
            <a:ext cx="6324840" cy="3276360"/>
          </a:xfrm>
          <a:prstGeom prst="cloudCallout">
            <a:avLst>
              <a:gd name="adj1" fmla="val 22541"/>
              <a:gd name="adj2" fmla="val -85319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Наилазак 3 врсте производа на пуфер, после чега се свака врста упућује на обраду на једној од 3 машине (процесора). Са машина се врши отпрема конвејерима до излаза из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19320" y="1066680"/>
            <a:ext cx="6858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bject Properties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страна – Особине објек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Поред статистичких,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страна садржи и генералне физичке и визуелне информације о објекту.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Tab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– стране на сваком </a:t>
            </a:r>
            <a:r>
              <a:rPr b="0" lang="en-US" sz="2400" spc="-1" strike="noStrike">
                <a:solidFill>
                  <a:srgbClr val="00006a"/>
                </a:solidFill>
                <a:latin typeface="Arial"/>
              </a:rPr>
              <a:t>Properties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 прозор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Visu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визуелн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General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опште (тип и име објекта, сви портови) 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Label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налепнице(напреднији ниво)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3481f"/>
                </a:solidFill>
                <a:latin typeface="Arial"/>
              </a:rPr>
              <a:t>Statistics</a:t>
            </a:r>
            <a:r>
              <a:rPr b="0" lang="sr-CS" sz="2400" spc="-1" strike="noStrike">
                <a:solidFill>
                  <a:srgbClr val="53481f"/>
                </a:solidFill>
                <a:latin typeface="Arial"/>
              </a:rPr>
              <a:t> - статистичке</a:t>
            </a: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6629400" y="228600"/>
            <a:ext cx="2057400" cy="533520"/>
          </a:xfrm>
          <a:prstGeom prst="wedgeRoundRectCallout">
            <a:avLst>
              <a:gd name="adj1" fmla="val -52856"/>
              <a:gd name="adj2" fmla="val 94643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/>
          </p:nvPr>
        </p:nvSpPr>
        <p:spPr>
          <a:xfrm>
            <a:off x="6629400" y="304560"/>
            <a:ext cx="175248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sual tab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6a"/>
              </a:solidFill>
              <a:latin typeface="Arial"/>
            </a:endParaRPr>
          </a:p>
        </p:txBody>
      </p:sp>
      <p:pic>
        <p:nvPicPr>
          <p:cNvPr id="430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4621320" cy="6858000"/>
          </a:xfrm>
          <a:prstGeom prst="rect">
            <a:avLst/>
          </a:prstGeom>
          <a:ln w="0">
            <a:noFill/>
          </a:ln>
        </p:spPr>
      </p:pic>
      <p:sp>
        <p:nvSpPr>
          <p:cNvPr id="431" name=""/>
          <p:cNvSpPr/>
          <p:nvPr/>
        </p:nvSpPr>
        <p:spPr>
          <a:xfrm>
            <a:off x="5257800" y="4114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Координате и димензије објект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638680" y="1295280"/>
            <a:ext cx="28958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Фајл који садржи информације о изгледу објекта. Може бит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екстензије 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.3ds(3DsMax)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или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sr-Latn-CS" sz="1600" spc="-1" strike="noStrike">
                <a:solidFill>
                  <a:srgbClr val="000000"/>
                </a:solidFill>
                <a:latin typeface="Arial"/>
              </a:rPr>
              <a:t>dxf(AutoCad). </a:t>
            </a:r>
            <a:r>
              <a:rPr b="1" lang="sr-CS" sz="1600" spc="-1" strike="noStrike">
                <a:solidFill>
                  <a:srgbClr val="000000"/>
                </a:solidFill>
                <a:latin typeface="Arial"/>
              </a:rPr>
              <a:t>Може се мењати по жељ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93840" y="1346040"/>
            <a:ext cx="39369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04920" y="3479760"/>
            <a:ext cx="4203720" cy="162576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5181480" y="914400"/>
            <a:ext cx="3657600" cy="23749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952880" y="3936960"/>
            <a:ext cx="2959200" cy="119376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H="1" flipV="1">
            <a:off x="3505320" y="1828440"/>
            <a:ext cx="175248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 flipH="1" flipV="1">
            <a:off x="4038480" y="4190760"/>
            <a:ext cx="144792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781680" y="5943600"/>
            <a:ext cx="2057400" cy="533520"/>
          </a:xfrm>
          <a:prstGeom prst="wedgeRoundRectCallout">
            <a:avLst>
              <a:gd name="adj1" fmla="val -45449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/>
          </p:nvPr>
        </p:nvSpPr>
        <p:spPr>
          <a:xfrm>
            <a:off x="6248520" y="228600"/>
            <a:ext cx="22096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eneral tab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3481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228600" y="228600"/>
            <a:ext cx="4311720" cy="6400800"/>
          </a:xfrm>
          <a:prstGeom prst="rect">
            <a:avLst/>
          </a:prstGeom>
          <a:ln w="0">
            <a:noFill/>
          </a:ln>
        </p:spPr>
      </p:pic>
      <p:sp>
        <p:nvSpPr>
          <p:cNvPr id="442" name=""/>
          <p:cNvSpPr/>
          <p:nvPr/>
        </p:nvSpPr>
        <p:spPr>
          <a:xfrm>
            <a:off x="990720" y="838080"/>
            <a:ext cx="3479760" cy="698760"/>
          </a:xfrm>
          <a:custGeom>
            <a:avLst/>
            <a:gdLst/>
            <a:ahLst/>
            <a:rect l="l" t="t" r="r" b="b"/>
            <a:pathLst>
              <a:path w="2480" h="440">
                <a:moveTo>
                  <a:pt x="280" y="112"/>
                </a:moveTo>
                <a:cubicBezTo>
                  <a:pt x="204" y="124"/>
                  <a:pt x="128" y="136"/>
                  <a:pt x="88" y="160"/>
                </a:cubicBezTo>
                <a:cubicBezTo>
                  <a:pt x="48" y="184"/>
                  <a:pt x="0" y="224"/>
                  <a:pt x="40" y="256"/>
                </a:cubicBezTo>
                <a:cubicBezTo>
                  <a:pt x="80" y="288"/>
                  <a:pt x="184" y="336"/>
                  <a:pt x="328" y="352"/>
                </a:cubicBezTo>
                <a:cubicBezTo>
                  <a:pt x="472" y="368"/>
                  <a:pt x="696" y="344"/>
                  <a:pt x="904" y="352"/>
                </a:cubicBezTo>
                <a:cubicBezTo>
                  <a:pt x="1112" y="360"/>
                  <a:pt x="1408" y="392"/>
                  <a:pt x="1576" y="400"/>
                </a:cubicBezTo>
                <a:cubicBezTo>
                  <a:pt x="1744" y="408"/>
                  <a:pt x="1776" y="400"/>
                  <a:pt x="1912" y="400"/>
                </a:cubicBezTo>
                <a:cubicBezTo>
                  <a:pt x="2048" y="400"/>
                  <a:pt x="2304" y="440"/>
                  <a:pt x="2392" y="400"/>
                </a:cubicBezTo>
                <a:cubicBezTo>
                  <a:pt x="2480" y="360"/>
                  <a:pt x="2480" y="224"/>
                  <a:pt x="2440" y="160"/>
                </a:cubicBezTo>
                <a:cubicBezTo>
                  <a:pt x="2400" y="96"/>
                  <a:pt x="2248" y="32"/>
                  <a:pt x="2152" y="16"/>
                </a:cubicBezTo>
                <a:cubicBezTo>
                  <a:pt x="2056" y="0"/>
                  <a:pt x="2024" y="56"/>
                  <a:pt x="1864" y="64"/>
                </a:cubicBezTo>
                <a:cubicBezTo>
                  <a:pt x="1704" y="72"/>
                  <a:pt x="1384" y="64"/>
                  <a:pt x="1192" y="64"/>
                </a:cubicBezTo>
                <a:cubicBezTo>
                  <a:pt x="1000" y="64"/>
                  <a:pt x="824" y="64"/>
                  <a:pt x="712" y="64"/>
                </a:cubicBezTo>
                <a:cubicBezTo>
                  <a:pt x="600" y="64"/>
                  <a:pt x="632" y="56"/>
                  <a:pt x="520" y="64"/>
                </a:cubicBezTo>
                <a:cubicBezTo>
                  <a:pt x="408" y="72"/>
                  <a:pt x="128" y="128"/>
                  <a:pt x="40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2514600"/>
            <a:ext cx="4267440" cy="1905120"/>
          </a:xfrm>
          <a:custGeom>
            <a:avLst/>
            <a:gdLst/>
            <a:ahLst/>
            <a:rect l="l" t="t" r="r" b="b"/>
            <a:pathLst>
              <a:path w="2648" h="1024">
                <a:moveTo>
                  <a:pt x="96" y="64"/>
                </a:moveTo>
                <a:cubicBezTo>
                  <a:pt x="72" y="148"/>
                  <a:pt x="48" y="232"/>
                  <a:pt x="48" y="352"/>
                </a:cubicBezTo>
                <a:cubicBezTo>
                  <a:pt x="48" y="472"/>
                  <a:pt x="24" y="680"/>
                  <a:pt x="96" y="784"/>
                </a:cubicBezTo>
                <a:cubicBezTo>
                  <a:pt x="168" y="888"/>
                  <a:pt x="280" y="936"/>
                  <a:pt x="480" y="976"/>
                </a:cubicBezTo>
                <a:cubicBezTo>
                  <a:pt x="680" y="1016"/>
                  <a:pt x="1008" y="1024"/>
                  <a:pt x="1296" y="1024"/>
                </a:cubicBezTo>
                <a:cubicBezTo>
                  <a:pt x="1584" y="1024"/>
                  <a:pt x="1992" y="1000"/>
                  <a:pt x="2208" y="976"/>
                </a:cubicBezTo>
                <a:cubicBezTo>
                  <a:pt x="2424" y="952"/>
                  <a:pt x="2536" y="968"/>
                  <a:pt x="2592" y="880"/>
                </a:cubicBezTo>
                <a:cubicBezTo>
                  <a:pt x="2648" y="792"/>
                  <a:pt x="2576" y="568"/>
                  <a:pt x="2544" y="448"/>
                </a:cubicBezTo>
                <a:cubicBezTo>
                  <a:pt x="2512" y="328"/>
                  <a:pt x="2624" y="224"/>
                  <a:pt x="2400" y="160"/>
                </a:cubicBezTo>
                <a:cubicBezTo>
                  <a:pt x="2176" y="96"/>
                  <a:pt x="1552" y="88"/>
                  <a:pt x="1200" y="64"/>
                </a:cubicBezTo>
                <a:cubicBezTo>
                  <a:pt x="848" y="40"/>
                  <a:pt x="488" y="0"/>
                  <a:pt x="288" y="16"/>
                </a:cubicBezTo>
                <a:cubicBezTo>
                  <a:pt x="88" y="32"/>
                  <a:pt x="56" y="176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5181480" y="914400"/>
            <a:ext cx="2057400" cy="1219320"/>
          </a:xfrm>
          <a:custGeom>
            <a:avLst/>
            <a:gdLst/>
            <a:ahLst/>
            <a:rect l="l" t="t" r="r" b="b"/>
            <a:pathLst>
              <a:path w="2488" h="1592">
                <a:moveTo>
                  <a:pt x="336" y="160"/>
                </a:moveTo>
                <a:cubicBezTo>
                  <a:pt x="168" y="500"/>
                  <a:pt x="0" y="840"/>
                  <a:pt x="192" y="1072"/>
                </a:cubicBezTo>
                <a:cubicBezTo>
                  <a:pt x="384" y="1304"/>
                  <a:pt x="1120" y="1592"/>
                  <a:pt x="1488" y="1552"/>
                </a:cubicBezTo>
                <a:cubicBezTo>
                  <a:pt x="1856" y="1512"/>
                  <a:pt x="2312" y="1080"/>
                  <a:pt x="2400" y="832"/>
                </a:cubicBezTo>
                <a:cubicBezTo>
                  <a:pt x="2488" y="584"/>
                  <a:pt x="2416" y="128"/>
                  <a:pt x="2016" y="64"/>
                </a:cubicBezTo>
                <a:cubicBezTo>
                  <a:pt x="1616" y="0"/>
                  <a:pt x="344" y="416"/>
                  <a:pt x="0" y="44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5334120" y="3505320"/>
            <a:ext cx="2286000" cy="1600200"/>
          </a:xfrm>
          <a:custGeom>
            <a:avLst/>
            <a:gdLst/>
            <a:ahLst/>
            <a:rect l="l" t="t" r="r" b="b"/>
            <a:pathLst>
              <a:path w="1864" h="752">
                <a:moveTo>
                  <a:pt x="192" y="112"/>
                </a:moveTo>
                <a:cubicBezTo>
                  <a:pt x="128" y="276"/>
                  <a:pt x="64" y="440"/>
                  <a:pt x="192" y="544"/>
                </a:cubicBezTo>
                <a:cubicBezTo>
                  <a:pt x="320" y="648"/>
                  <a:pt x="688" y="752"/>
                  <a:pt x="960" y="736"/>
                </a:cubicBezTo>
                <a:cubicBezTo>
                  <a:pt x="1232" y="720"/>
                  <a:pt x="1784" y="560"/>
                  <a:pt x="1824" y="448"/>
                </a:cubicBezTo>
                <a:cubicBezTo>
                  <a:pt x="1864" y="336"/>
                  <a:pt x="1464" y="128"/>
                  <a:pt x="1200" y="64"/>
                </a:cubicBezTo>
                <a:cubicBezTo>
                  <a:pt x="936" y="0"/>
                  <a:pt x="440" y="40"/>
                  <a:pt x="240" y="64"/>
                </a:cubicBezTo>
                <a:cubicBezTo>
                  <a:pt x="40" y="88"/>
                  <a:pt x="20" y="148"/>
                  <a:pt x="0" y="20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 flipH="1" flipV="1">
            <a:off x="3848040" y="1320480"/>
            <a:ext cx="154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 flipH="1" flipV="1">
            <a:off x="4346640" y="3682800"/>
            <a:ext cx="1279440" cy="228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5486400" y="3657600"/>
            <a:ext cx="1905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лазни, централни и излазни портов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5334120" y="1295280"/>
            <a:ext cx="19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Име и тип обј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6477120" y="5943600"/>
            <a:ext cx="2057400" cy="533520"/>
          </a:xfrm>
          <a:prstGeom prst="wedgeRoundRectCallout">
            <a:avLst>
              <a:gd name="adj1" fmla="val -39814"/>
              <a:gd name="adj2" fmla="val -130652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-380880"/>
            <a:ext cx="4879800" cy="7238880"/>
          </a:xfrm>
          <a:prstGeom prst="rect">
            <a:avLst/>
          </a:prstGeom>
          <a:ln w="0">
            <a:noFill/>
          </a:ln>
        </p:spPr>
      </p:pic>
      <p:pic>
        <p:nvPicPr>
          <p:cNvPr id="452" name="" descr=""/>
          <p:cNvPicPr/>
          <p:nvPr/>
        </p:nvPicPr>
        <p:blipFill>
          <a:blip r:embed="rId2"/>
          <a:stretch/>
        </p:blipFill>
        <p:spPr>
          <a:xfrm>
            <a:off x="5105520" y="152280"/>
            <a:ext cx="3809880" cy="2903760"/>
          </a:xfrm>
          <a:prstGeom prst="rect">
            <a:avLst/>
          </a:prstGeom>
          <a:ln w="0">
            <a:noFill/>
          </a:ln>
        </p:spPr>
      </p:pic>
      <p:sp>
        <p:nvSpPr>
          <p:cNvPr id="453" name=""/>
          <p:cNvSpPr/>
          <p:nvPr/>
        </p:nvSpPr>
        <p:spPr>
          <a:xfrm>
            <a:off x="5334120" y="38098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бјекат изгледао као на горњој слици потребно је унети заокружене параметр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04920" y="4419720"/>
            <a:ext cx="1231920" cy="444240"/>
          </a:xfrm>
          <a:custGeom>
            <a:avLst/>
            <a:gdLst/>
            <a:ahLst/>
            <a:rect l="l" t="t" r="r" b="b"/>
            <a:pathLst>
              <a:path w="776" h="280">
                <a:moveTo>
                  <a:pt x="152" y="72"/>
                </a:moveTo>
                <a:cubicBezTo>
                  <a:pt x="76" y="104"/>
                  <a:pt x="0" y="136"/>
                  <a:pt x="8" y="168"/>
                </a:cubicBezTo>
                <a:cubicBezTo>
                  <a:pt x="16" y="200"/>
                  <a:pt x="88" y="248"/>
                  <a:pt x="200" y="264"/>
                </a:cubicBezTo>
                <a:cubicBezTo>
                  <a:pt x="312" y="280"/>
                  <a:pt x="584" y="280"/>
                  <a:pt x="680" y="264"/>
                </a:cubicBezTo>
                <a:cubicBezTo>
                  <a:pt x="776" y="248"/>
                  <a:pt x="776" y="208"/>
                  <a:pt x="776" y="168"/>
                </a:cubicBezTo>
                <a:cubicBezTo>
                  <a:pt x="776" y="128"/>
                  <a:pt x="760" y="48"/>
                  <a:pt x="680" y="24"/>
                </a:cubicBezTo>
                <a:cubicBezTo>
                  <a:pt x="600" y="0"/>
                  <a:pt x="408" y="8"/>
                  <a:pt x="296" y="24"/>
                </a:cubicBezTo>
                <a:cubicBezTo>
                  <a:pt x="184" y="40"/>
                  <a:pt x="72" y="120"/>
                  <a:pt x="8" y="1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65280" y="3657600"/>
            <a:ext cx="1427040" cy="468360"/>
          </a:xfrm>
          <a:custGeom>
            <a:avLst/>
            <a:gdLst/>
            <a:ahLst/>
            <a:rect l="l" t="t" r="r" b="b"/>
            <a:pathLst>
              <a:path w="899" h="295">
                <a:moveTo>
                  <a:pt x="102" y="37"/>
                </a:moveTo>
                <a:cubicBezTo>
                  <a:pt x="87" y="64"/>
                  <a:pt x="0" y="151"/>
                  <a:pt x="11" y="192"/>
                </a:cubicBezTo>
                <a:cubicBezTo>
                  <a:pt x="22" y="233"/>
                  <a:pt x="38" y="271"/>
                  <a:pt x="166" y="283"/>
                </a:cubicBezTo>
                <a:cubicBezTo>
                  <a:pt x="294" y="295"/>
                  <a:pt x="659" y="283"/>
                  <a:pt x="779" y="264"/>
                </a:cubicBezTo>
                <a:cubicBezTo>
                  <a:pt x="899" y="245"/>
                  <a:pt x="886" y="208"/>
                  <a:pt x="886" y="168"/>
                </a:cubicBezTo>
                <a:cubicBezTo>
                  <a:pt x="886" y="128"/>
                  <a:pt x="868" y="48"/>
                  <a:pt x="779" y="24"/>
                </a:cubicBezTo>
                <a:cubicBezTo>
                  <a:pt x="690" y="0"/>
                  <a:pt x="466" y="17"/>
                  <a:pt x="352" y="24"/>
                </a:cubicBezTo>
                <a:cubicBezTo>
                  <a:pt x="238" y="31"/>
                  <a:pt x="147" y="56"/>
                  <a:pt x="93" y="6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523880" y="10663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3200" spc="-1" strike="noStrike">
                <a:solidFill>
                  <a:srgbClr val="000000"/>
                </a:solidFill>
                <a:latin typeface="Arial"/>
              </a:rPr>
              <a:t>Приближавање модела реалности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685800" y="2438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диспечера и 2 оператера 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пуфера и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Додавање 3 селективна палетна регал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глобалне табеле з</a:t>
            </a:r>
            <a:r>
              <a:rPr b="1" lang="en-US" sz="2400" spc="-1" strike="noStrike">
                <a:solidFill>
                  <a:srgbClr val="00006a"/>
                </a:solidFill>
                <a:latin typeface="Arial"/>
              </a:rPr>
              <a:t>a</a:t>
            </a: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 рутирање производ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6a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6a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2822040" y="762120"/>
            <a:ext cx="602568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Додавање диспечера и 2 оператера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685800" y="1371600"/>
            <a:ext cx="41148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" descr=""/>
          <p:cNvPicPr/>
          <p:nvPr/>
        </p:nvPicPr>
        <p:blipFill>
          <a:blip r:embed="rId1"/>
          <a:stretch/>
        </p:blipFill>
        <p:spPr>
          <a:xfrm>
            <a:off x="304920" y="1447920"/>
            <a:ext cx="5638680" cy="4294080"/>
          </a:xfrm>
          <a:prstGeom prst="rect">
            <a:avLst/>
          </a:prstGeom>
          <a:ln w="0">
            <a:noFill/>
          </a:ln>
        </p:spPr>
      </p:pic>
      <p:sp>
        <p:nvSpPr>
          <p:cNvPr id="461" name=""/>
          <p:cNvSpPr/>
          <p:nvPr/>
        </p:nvSpPr>
        <p:spPr>
          <a:xfrm>
            <a:off x="6324480" y="1600200"/>
            <a:ext cx="23623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управља оператерима који носе производе од пуфера ка машинам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477120" y="380988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испечер је спојен са операторима излазно-улазном везом, док је са пуфером спојен централно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"/>
          <p:cNvSpPr/>
          <p:nvPr/>
        </p:nvSpPr>
        <p:spPr>
          <a:xfrm>
            <a:off x="6553080" y="1219320"/>
            <a:ext cx="259092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што диспечер и оператери служе да транспортују производе од пуфера до машина,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(ток)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мора бити чекирано коришћење транспор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6477120" cy="5397480"/>
          </a:xfrm>
          <a:prstGeom prst="rect">
            <a:avLst/>
          </a:prstGeom>
          <a:ln w="0">
            <a:noFill/>
          </a:ln>
        </p:spPr>
      </p:pic>
      <p:sp>
        <p:nvSpPr>
          <p:cNvPr id="465" name=""/>
          <p:cNvSpPr/>
          <p:nvPr/>
        </p:nvSpPr>
        <p:spPr>
          <a:xfrm>
            <a:off x="177840" y="2984400"/>
            <a:ext cx="1663560" cy="596880"/>
          </a:xfrm>
          <a:custGeom>
            <a:avLst/>
            <a:gdLst/>
            <a:ahLst/>
            <a:rect l="l" t="t" r="r" b="b"/>
            <a:pathLst>
              <a:path w="1048" h="376">
                <a:moveTo>
                  <a:pt x="176" y="88"/>
                </a:moveTo>
                <a:cubicBezTo>
                  <a:pt x="72" y="136"/>
                  <a:pt x="0" y="288"/>
                  <a:pt x="128" y="328"/>
                </a:cubicBezTo>
                <a:cubicBezTo>
                  <a:pt x="256" y="368"/>
                  <a:pt x="840" y="376"/>
                  <a:pt x="944" y="328"/>
                </a:cubicBezTo>
                <a:cubicBezTo>
                  <a:pt x="1048" y="280"/>
                  <a:pt x="872" y="80"/>
                  <a:pt x="752" y="40"/>
                </a:cubicBezTo>
                <a:cubicBezTo>
                  <a:pt x="632" y="0"/>
                  <a:pt x="280" y="40"/>
                  <a:pt x="176" y="88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6019920" y="228600"/>
            <a:ext cx="2895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Ако желомо да искористимо оператере за припрему процеса обраде који се обавља на машинама, треба д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7" name="" descr=""/>
          <p:cNvPicPr/>
          <p:nvPr/>
        </p:nvPicPr>
        <p:blipFill>
          <a:blip r:embed="rId1"/>
          <a:stretch/>
        </p:blipFill>
        <p:spPr>
          <a:xfrm>
            <a:off x="76320" y="1371600"/>
            <a:ext cx="5867280" cy="4468680"/>
          </a:xfrm>
          <a:prstGeom prst="rect">
            <a:avLst/>
          </a:prstGeom>
          <a:ln w="0">
            <a:noFill/>
          </a:ln>
        </p:spPr>
      </p:pic>
      <p:sp>
        <p:nvSpPr>
          <p:cNvPr id="468" name=""/>
          <p:cNvSpPr/>
          <p:nvPr/>
        </p:nvSpPr>
        <p:spPr>
          <a:xfrm>
            <a:off x="6324480" y="3886200"/>
            <a:ext cx="2438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појимо централним портовима диспечера и машине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4211640"/>
          </a:xfrm>
          <a:prstGeom prst="rect">
            <a:avLst/>
          </a:prstGeom>
          <a:ln w="0">
            <a:noFill/>
          </a:ln>
        </p:spPr>
      </p:pic>
      <p:pic>
        <p:nvPicPr>
          <p:cNvPr id="470" name="" descr=""/>
          <p:cNvPicPr/>
          <p:nvPr/>
        </p:nvPicPr>
        <p:blipFill>
          <a:blip r:embed="rId2"/>
          <a:stretch/>
        </p:blipFill>
        <p:spPr>
          <a:xfrm>
            <a:off x="228600" y="5410080"/>
            <a:ext cx="5334120" cy="1123920"/>
          </a:xfrm>
          <a:prstGeom prst="rect">
            <a:avLst/>
          </a:prstGeom>
          <a:ln w="0">
            <a:noFill/>
          </a:ln>
        </p:spPr>
      </p:pic>
      <p:sp>
        <p:nvSpPr>
          <p:cNvPr id="471" name=""/>
          <p:cNvSpPr/>
          <p:nvPr/>
        </p:nvSpPr>
        <p:spPr>
          <a:xfrm>
            <a:off x="6477120" y="914400"/>
            <a:ext cx="22860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..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Унесемо трајањ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мештања (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tup tim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Process Times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-152280" y="1905120"/>
            <a:ext cx="5562360" cy="761760"/>
          </a:xfrm>
          <a:custGeom>
            <a:avLst/>
            <a:gdLst/>
            <a:ahLst/>
            <a:rect l="l" t="t" r="r" b="b"/>
            <a:pathLst>
              <a:path w="3496" h="320">
                <a:moveTo>
                  <a:pt x="360" y="40"/>
                </a:moveTo>
                <a:cubicBezTo>
                  <a:pt x="328" y="92"/>
                  <a:pt x="296" y="144"/>
                  <a:pt x="312" y="184"/>
                </a:cubicBezTo>
                <a:cubicBezTo>
                  <a:pt x="328" y="224"/>
                  <a:pt x="0" y="264"/>
                  <a:pt x="456" y="280"/>
                </a:cubicBezTo>
                <a:cubicBezTo>
                  <a:pt x="912" y="296"/>
                  <a:pt x="2600" y="320"/>
                  <a:pt x="3048" y="280"/>
                </a:cubicBezTo>
                <a:cubicBezTo>
                  <a:pt x="3496" y="240"/>
                  <a:pt x="3240" y="80"/>
                  <a:pt x="3144" y="40"/>
                </a:cubicBezTo>
                <a:cubicBezTo>
                  <a:pt x="3048" y="0"/>
                  <a:pt x="2824" y="40"/>
                  <a:pt x="2472" y="40"/>
                </a:cubicBezTo>
                <a:cubicBezTo>
                  <a:pt x="2120" y="40"/>
                  <a:pt x="1400" y="32"/>
                  <a:pt x="1032" y="40"/>
                </a:cubicBezTo>
                <a:cubicBezTo>
                  <a:pt x="664" y="48"/>
                  <a:pt x="392" y="104"/>
                  <a:pt x="264" y="8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3200400" y="2438280"/>
            <a:ext cx="1752480" cy="33530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1"/>
          <a:stretch/>
        </p:blipFill>
        <p:spPr>
          <a:xfrm>
            <a:off x="152280" y="762120"/>
            <a:ext cx="6019920" cy="5029200"/>
          </a:xfrm>
          <a:prstGeom prst="rect">
            <a:avLst/>
          </a:prstGeom>
          <a:ln w="0">
            <a:noFill/>
          </a:ln>
        </p:spPr>
      </p:pic>
      <p:sp>
        <p:nvSpPr>
          <p:cNvPr id="475" name=""/>
          <p:cNvSpPr/>
          <p:nvPr/>
        </p:nvSpPr>
        <p:spPr>
          <a:xfrm>
            <a:off x="6553080" y="1600200"/>
            <a:ext cx="22860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.. На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Operators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значимо да желимо да користимо оператере за припрему.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152280" y="2044800"/>
            <a:ext cx="2235240" cy="635040"/>
          </a:xfrm>
          <a:custGeom>
            <a:avLst/>
            <a:gdLst/>
            <a:ahLst/>
            <a:rect l="l" t="t" r="r" b="b"/>
            <a:pathLst>
              <a:path w="1408" h="400">
                <a:moveTo>
                  <a:pt x="96" y="8"/>
                </a:moveTo>
                <a:cubicBezTo>
                  <a:pt x="72" y="148"/>
                  <a:pt x="48" y="288"/>
                  <a:pt x="240" y="344"/>
                </a:cubicBezTo>
                <a:cubicBezTo>
                  <a:pt x="432" y="400"/>
                  <a:pt x="1088" y="392"/>
                  <a:pt x="1248" y="344"/>
                </a:cubicBezTo>
                <a:cubicBezTo>
                  <a:pt x="1408" y="296"/>
                  <a:pt x="1376" y="112"/>
                  <a:pt x="1200" y="56"/>
                </a:cubicBezTo>
                <a:cubicBezTo>
                  <a:pt x="1024" y="0"/>
                  <a:pt x="384" y="8"/>
                  <a:pt x="192" y="8"/>
                </a:cubicBezTo>
                <a:cubicBezTo>
                  <a:pt x="0" y="8"/>
                  <a:pt x="72" y="80"/>
                  <a:pt x="48" y="5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6781680" y="533520"/>
            <a:ext cx="2057400" cy="1218960"/>
          </a:xfrm>
          <a:prstGeom prst="wedgeRoundRectCallout">
            <a:avLst>
              <a:gd name="adj1" fmla="val 25847"/>
              <a:gd name="adj2" fmla="val 161328"/>
              <a:gd name="adj3" fmla="val 1666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Завршетак посматраног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33520" y="3124080"/>
            <a:ext cx="380880" cy="30492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28600" y="3124080"/>
            <a:ext cx="30492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1905120"/>
            <a:ext cx="2057400" cy="914400"/>
          </a:xfrm>
          <a:prstGeom prst="wedgeRoundRectCallout">
            <a:avLst>
              <a:gd name="adj1" fmla="val -23611"/>
              <a:gd name="adj2" fmla="val 70138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Почетак посматраног  тока произво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33720" y="1295280"/>
            <a:ext cx="1371600" cy="457200"/>
          </a:xfrm>
          <a:prstGeom prst="wedgeRoundRectCallout">
            <a:avLst>
              <a:gd name="adj1" fmla="val -47222"/>
              <a:gd name="adj2" fmla="val 322569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Чекањ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124080" y="685800"/>
            <a:ext cx="1143000" cy="457200"/>
          </a:xfrm>
          <a:prstGeom prst="wedgeRoundRectCallout">
            <a:avLst>
              <a:gd name="adj1" fmla="val 8750"/>
              <a:gd name="adj2" fmla="val 23506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Обра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00600" y="990720"/>
            <a:ext cx="1752480" cy="457200"/>
          </a:xfrm>
          <a:prstGeom prst="wedgeRoundRectCallout">
            <a:avLst>
              <a:gd name="adj1" fmla="val 7518"/>
              <a:gd name="adj2" fmla="val 196180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Транспор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5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416 4.56647E-006 E">
                                      <p:cBhvr>
                                        <p:cTn id="11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33333E-006 4.56647E-006 L 0.15 4.56647E-006 E">
                                      <p:cBhvr>
                                        <p:cTn id="11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4.56647E-006 L 0.15417 4.56647E-006 E">
                                      <p:cBhvr>
                                        <p:cTn id="117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1.09827E-006 L 0.28333 -0.14428 E">
                                      <p:cBhvr>
                                        <p:cTn id="12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416 4.56647E-006 L 0.3375 0.01109 E">
                                      <p:cBhvr>
                                        <p:cTn id="12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2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15 4.56647E-006 L 0.38333 0.19976 E">
                                      <p:cBhvr>
                                        <p:cTn id="12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9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0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1" dur="500" autoRev="1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3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4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5" dur="500" autoRev="1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" nodeType="withEffect" fill="hold" presetClass="emph" presetID="27" repeatCount="4000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7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38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39" dur="500" autoRev="1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8334 -0.14428 L 0.67084 -0.13318 E">
                                      <p:cBhvr>
                                        <p:cTn id="143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375 0.0111 L 0.72083 0.0222 E">
                                      <p:cBhvr>
                                        <p:cTn id="145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4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8333 0.19976 L 0.75833 0.21086 E">
                                      <p:cBhvr>
                                        <p:cTn id="147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67084 -0.13318 L 0.8375 0.03329 E">
                                      <p:cBhvr>
                                        <p:cTn id="151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2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083 0.02219 L 0.8375 0.03329 E">
                                      <p:cBhvr>
                                        <p:cTn id="153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833 0.21086 L 0.84166 0.03329 E">
                                      <p:cBhvr>
                                        <p:cTn id="155" dur="2000" fill="hold"/>
                                        <p:tgtEl>
                                          <p:spTgt spid="1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500"/>
                            </p:stCondLst>
                            <p:childTnLst>
                              <p:par>
                                <p:cTn id="165" nodeType="afterEffect" fill="hold" presetClass="emph" presetID="26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7" dur="250" autoRev="1" fill="hold"/>
                                        <p:tgtEl>
                                          <p:spTgt spid="14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68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0" dur="250" autoRev="1" fill="hold"/>
                                        <p:tgtEl>
                                          <p:spTgt spid="1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1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3" dur="250" autoRev="1" fill="hold"/>
                                        <p:tgtEl>
                                          <p:spTgt spid="14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4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6" dur="250" autoRev="1" fill="hold"/>
                                        <p:tgtEl>
                                          <p:spTgt spid="14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77" nodeType="with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79" dur="250" autoRev="1" fill="hold"/>
                                        <p:tgtEl>
                                          <p:spTgt spid="14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000"/>
                            </p:stCondLst>
                            <p:childTnLst>
                              <p:par>
                                <p:cTn id="181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2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9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28600" y="762120"/>
            <a:ext cx="6095880" cy="3698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6477120" y="533520"/>
            <a:ext cx="2438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553080" y="228600"/>
            <a:ext cx="2590920" cy="163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2. Додавање пуфера и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553080" y="1600200"/>
            <a:ext cx="23623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смо уопште дошли до оваквог лејаута прво смо морали да прекинемо излазно-улазне везе између сва три конвејера и понора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Sink).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ом смо повезали конвејере и пуфер, пуфер и понор, док смо централном везом спојили пуфер и виљушкар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80880" y="4724280"/>
            <a:ext cx="2971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вде нема диспечера јер постоји само један виљушкар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581280" y="4648320"/>
            <a:ext cx="274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ао и код претходног пуфера и овде морамо да чекирамо употребу транспорта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6248520" y="304920"/>
            <a:ext cx="2590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3. Додавање 3 селективна палетна рега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4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6019560" cy="4065480"/>
          </a:xfrm>
          <a:prstGeom prst="rect">
            <a:avLst/>
          </a:prstGeom>
          <a:ln w="0">
            <a:noFill/>
          </a:ln>
        </p:spPr>
      </p:pic>
      <p:sp>
        <p:nvSpPr>
          <p:cNvPr id="485" name=""/>
          <p:cNvSpPr/>
          <p:nvPr/>
        </p:nvSpPr>
        <p:spPr>
          <a:xfrm>
            <a:off x="6629400" y="1828800"/>
            <a:ext cx="2133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отребно је прво прекинути везе између пуфера и понора па затим повезати пуфер и регале као на слиц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"/>
          <p:cNvSpPr/>
          <p:nvPr/>
        </p:nvSpPr>
        <p:spPr>
          <a:xfrm>
            <a:off x="5791320" y="685800"/>
            <a:ext cx="19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7" name=""/>
          <p:cNvGraphicFramePr/>
          <p:nvPr/>
        </p:nvGraphicFramePr>
        <p:xfrm>
          <a:off x="762120" y="1066680"/>
          <a:ext cx="4038480" cy="200988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757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Врста производ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ор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Производ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r-CS" sz="2000" spc="-1" strike="noStrike">
                          <a:solidFill>
                            <a:srgbClr val="00006a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88" name=""/>
          <p:cNvSpPr/>
          <p:nvPr/>
        </p:nvSpPr>
        <p:spPr>
          <a:xfrm>
            <a:off x="5257800" y="990720"/>
            <a:ext cx="3505320" cy="1904760"/>
          </a:xfrm>
          <a:prstGeom prst="wedgeRoundRectCallout">
            <a:avLst>
              <a:gd name="adj1" fmla="val -65851"/>
              <a:gd name="adj2" fmla="val 26916"/>
              <a:gd name="adj3" fmla="val 16667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 који одговарају овим портовима су у ствари регали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371600" y="3809880"/>
            <a:ext cx="434340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ретпоставимо да треба да рутирамо производе у складу са горњом табелом. За сваку акцију која се може или мора представити табеларно постоји разрађен механизам глобалних табела (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Global Tabl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Global Tabl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400" spc="-1" strike="noStrike">
                <a:solidFill>
                  <a:srgbClr val="00006a"/>
                </a:solidFill>
                <a:latin typeface="Arial"/>
              </a:rPr>
              <a:t>K</a:t>
            </a: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ако поставити глобалну табелу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“ToolBox”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коницу 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Add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Н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Global Tables 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изаберите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“Edit”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ефинишите број редова и колона и притисните 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Apply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53481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Дајте име табели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 (</a:t>
            </a:r>
            <a:r>
              <a:rPr b="0" lang="sr-CS" sz="2000" spc="-1" strike="noStrike">
                <a:solidFill>
                  <a:srgbClr val="53481f"/>
                </a:solidFill>
                <a:latin typeface="Arial"/>
              </a:rPr>
              <a:t>битно је да ли су мала или велика слова</a:t>
            </a:r>
            <a:r>
              <a:rPr b="0" lang="en-US" sz="2000" spc="-1" strike="noStrike">
                <a:solidFill>
                  <a:srgbClr val="53481f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53481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400" spc="-1" strike="noStrike">
                <a:solidFill>
                  <a:srgbClr val="00006a"/>
                </a:solidFill>
                <a:latin typeface="Arial"/>
              </a:rPr>
              <a:t>На табелу се у току рада позивамо њеним именом</a:t>
            </a:r>
            <a:endParaRPr b="0" lang="en-US" sz="24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492" name=""/>
          <p:cNvGraphicFramePr/>
          <p:nvPr/>
        </p:nvGraphicFramePr>
        <p:xfrm>
          <a:off x="5334120" y="1523880"/>
          <a:ext cx="990360" cy="354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4120" y="1523880"/>
                    <a:ext cx="990360" cy="3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228600" y="762120"/>
            <a:ext cx="2057400" cy="533160"/>
          </a:xfrm>
          <a:prstGeom prst="wedgeRoundRectCallout">
            <a:avLst>
              <a:gd name="adj1" fmla="val 93828"/>
              <a:gd name="adj2" fmla="val 49106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" descr=""/>
          <p:cNvPicPr/>
          <p:nvPr/>
        </p:nvPicPr>
        <p:blipFill>
          <a:blip r:embed="rId3"/>
          <a:stretch/>
        </p:blipFill>
        <p:spPr>
          <a:xfrm>
            <a:off x="6629400" y="2133720"/>
            <a:ext cx="752400" cy="360360"/>
          </a:xfrm>
          <a:prstGeom prst="rect">
            <a:avLst/>
          </a:prstGeom>
          <a:ln w="0">
            <a:noFill/>
          </a:ln>
        </p:spPr>
      </p:pic>
      <p:pic>
        <p:nvPicPr>
          <p:cNvPr id="496" name="" descr=""/>
          <p:cNvPicPr/>
          <p:nvPr/>
        </p:nvPicPr>
        <p:blipFill>
          <a:blip r:embed="rId4"/>
          <a:stretch/>
        </p:blipFill>
        <p:spPr>
          <a:xfrm>
            <a:off x="7543800" y="2971800"/>
            <a:ext cx="914400" cy="380880"/>
          </a:xfrm>
          <a:prstGeom prst="rect">
            <a:avLst/>
          </a:prstGeom>
          <a:ln w="0">
            <a:noFill/>
          </a:ln>
        </p:spPr>
      </p:pic>
      <p:pic>
        <p:nvPicPr>
          <p:cNvPr id="497" name="" descr=""/>
          <p:cNvPicPr/>
          <p:nvPr/>
        </p:nvPicPr>
        <p:blipFill>
          <a:blip r:embed="rId5"/>
          <a:stretch/>
        </p:blipFill>
        <p:spPr>
          <a:xfrm>
            <a:off x="6019920" y="3886200"/>
            <a:ext cx="1904760" cy="993600"/>
          </a:xfrm>
          <a:prstGeom prst="rect">
            <a:avLst/>
          </a:prstGeom>
          <a:ln w="0">
            <a:noFill/>
          </a:ln>
        </p:spPr>
      </p:pic>
      <p:pic>
        <p:nvPicPr>
          <p:cNvPr id="498" name="" descr=""/>
          <p:cNvPicPr/>
          <p:nvPr/>
        </p:nvPicPr>
        <p:blipFill>
          <a:blip r:embed="rId6"/>
          <a:stretch/>
        </p:blipFill>
        <p:spPr>
          <a:xfrm>
            <a:off x="5029200" y="5276880"/>
            <a:ext cx="1981080" cy="490680"/>
          </a:xfrm>
          <a:prstGeom prst="rect">
            <a:avLst/>
          </a:prstGeom>
          <a:ln w="0">
            <a:noFill/>
          </a:ln>
        </p:spPr>
      </p:pic>
      <p:sp>
        <p:nvSpPr>
          <p:cNvPr id="499" name=""/>
          <p:cNvSpPr/>
          <p:nvPr/>
        </p:nvSpPr>
        <p:spPr>
          <a:xfrm>
            <a:off x="5486400" y="3733920"/>
            <a:ext cx="2882880" cy="1333440"/>
          </a:xfrm>
          <a:custGeom>
            <a:avLst/>
            <a:gdLst/>
            <a:ahLst/>
            <a:rect l="l" t="t" r="r" b="b"/>
            <a:pathLst>
              <a:path w="1816" h="840">
                <a:moveTo>
                  <a:pt x="240" y="56"/>
                </a:moveTo>
                <a:cubicBezTo>
                  <a:pt x="168" y="120"/>
                  <a:pt x="96" y="184"/>
                  <a:pt x="96" y="296"/>
                </a:cubicBezTo>
                <a:cubicBezTo>
                  <a:pt x="96" y="408"/>
                  <a:pt x="120" y="640"/>
                  <a:pt x="240" y="728"/>
                </a:cubicBezTo>
                <a:cubicBezTo>
                  <a:pt x="360" y="816"/>
                  <a:pt x="576" y="840"/>
                  <a:pt x="816" y="824"/>
                </a:cubicBezTo>
                <a:cubicBezTo>
                  <a:pt x="1056" y="808"/>
                  <a:pt x="1544" y="752"/>
                  <a:pt x="1680" y="632"/>
                </a:cubicBezTo>
                <a:cubicBezTo>
                  <a:pt x="1816" y="512"/>
                  <a:pt x="1808" y="208"/>
                  <a:pt x="1632" y="104"/>
                </a:cubicBezTo>
                <a:cubicBezTo>
                  <a:pt x="1456" y="0"/>
                  <a:pt x="896" y="0"/>
                  <a:pt x="624" y="8"/>
                </a:cubicBezTo>
                <a:cubicBezTo>
                  <a:pt x="352" y="16"/>
                  <a:pt x="104" y="120"/>
                  <a:pt x="0" y="15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686480" y="5156280"/>
            <a:ext cx="2679480" cy="749160"/>
          </a:xfrm>
          <a:custGeom>
            <a:avLst/>
            <a:gdLst/>
            <a:ahLst/>
            <a:rect l="l" t="t" r="r" b="b"/>
            <a:pathLst>
              <a:path w="1688" h="472">
                <a:moveTo>
                  <a:pt x="168" y="64"/>
                </a:moveTo>
                <a:cubicBezTo>
                  <a:pt x="84" y="152"/>
                  <a:pt x="0" y="240"/>
                  <a:pt x="24" y="304"/>
                </a:cubicBezTo>
                <a:cubicBezTo>
                  <a:pt x="48" y="368"/>
                  <a:pt x="104" y="424"/>
                  <a:pt x="312" y="448"/>
                </a:cubicBezTo>
                <a:cubicBezTo>
                  <a:pt x="520" y="472"/>
                  <a:pt x="1056" y="456"/>
                  <a:pt x="1272" y="448"/>
                </a:cubicBezTo>
                <a:cubicBezTo>
                  <a:pt x="1488" y="440"/>
                  <a:pt x="1544" y="456"/>
                  <a:pt x="1608" y="400"/>
                </a:cubicBezTo>
                <a:cubicBezTo>
                  <a:pt x="1672" y="344"/>
                  <a:pt x="1688" y="176"/>
                  <a:pt x="1656" y="112"/>
                </a:cubicBezTo>
                <a:cubicBezTo>
                  <a:pt x="1624" y="48"/>
                  <a:pt x="1576" y="32"/>
                  <a:pt x="1416" y="16"/>
                </a:cubicBezTo>
                <a:cubicBezTo>
                  <a:pt x="1256" y="0"/>
                  <a:pt x="888" y="16"/>
                  <a:pt x="696" y="16"/>
                </a:cubicBezTo>
                <a:cubicBezTo>
                  <a:pt x="504" y="16"/>
                  <a:pt x="376" y="0"/>
                  <a:pt x="264" y="16"/>
                </a:cubicBezTo>
                <a:cubicBezTo>
                  <a:pt x="152" y="32"/>
                  <a:pt x="88" y="72"/>
                  <a:pt x="24" y="11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4495680" y="76320"/>
            <a:ext cx="4496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Да би од пуфера производи заиста продужавали пут ка регалима у складу са табелом, потребно је изабрати опцију у параметарској страници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Flow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Queue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2" name=""/>
          <p:cNvGraphicFramePr/>
          <p:nvPr/>
        </p:nvGraphicFramePr>
        <p:xfrm>
          <a:off x="228600" y="1549440"/>
          <a:ext cx="61722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9440"/>
                    <a:ext cx="61722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04" name="" descr=""/>
          <p:cNvPicPr/>
          <p:nvPr/>
        </p:nvPicPr>
        <p:blipFill>
          <a:blip r:embed="rId3"/>
          <a:stretch/>
        </p:blipFill>
        <p:spPr>
          <a:xfrm>
            <a:off x="2362320" y="4941720"/>
            <a:ext cx="5943600" cy="1362240"/>
          </a:xfrm>
          <a:prstGeom prst="rect">
            <a:avLst/>
          </a:prstGeom>
          <a:ln w="0">
            <a:noFill/>
          </a:ln>
        </p:spPr>
      </p:pic>
      <p:sp>
        <p:nvSpPr>
          <p:cNvPr id="505" name=""/>
          <p:cNvSpPr/>
          <p:nvPr/>
        </p:nvSpPr>
        <p:spPr>
          <a:xfrm>
            <a:off x="5486400" y="3429000"/>
            <a:ext cx="838080" cy="1828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143680" y="3048120"/>
            <a:ext cx="457200" cy="495360"/>
          </a:xfrm>
          <a:custGeom>
            <a:avLst/>
            <a:gdLst/>
            <a:ahLst/>
            <a:rect l="l" t="t" r="r" b="b"/>
            <a:pathLst>
              <a:path w="288" h="384">
                <a:moveTo>
                  <a:pt x="24" y="120"/>
                </a:moveTo>
                <a:cubicBezTo>
                  <a:pt x="0" y="176"/>
                  <a:pt x="32" y="336"/>
                  <a:pt x="72" y="360"/>
                </a:cubicBezTo>
                <a:cubicBezTo>
                  <a:pt x="112" y="384"/>
                  <a:pt x="240" y="320"/>
                  <a:pt x="264" y="264"/>
                </a:cubicBezTo>
                <a:cubicBezTo>
                  <a:pt x="288" y="208"/>
                  <a:pt x="264" y="48"/>
                  <a:pt x="216" y="24"/>
                </a:cubicBezTo>
                <a:cubicBezTo>
                  <a:pt x="168" y="0"/>
                  <a:pt x="48" y="64"/>
                  <a:pt x="24" y="120"/>
                </a:cubicBezTo>
                <a:close/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"/>
          <p:cNvSpPr/>
          <p:nvPr/>
        </p:nvSpPr>
        <p:spPr>
          <a:xfrm>
            <a:off x="5181480" y="152280"/>
            <a:ext cx="3962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Коришћење мрежних чворова за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6324480" y="4572000"/>
            <a:ext cx="259092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Објектима типа 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(Network Node)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се обезбеђује да транспортери прате сложену путању</a:t>
            </a:r>
            <a:r>
              <a:rPr b="1" lang="sr-Latn-C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коју ови објекти формирај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9" name="" descr=""/>
          <p:cNvPicPr/>
          <p:nvPr/>
        </p:nvPicPr>
        <p:blipFill>
          <a:blip r:embed="rId1"/>
          <a:stretch/>
        </p:blipFill>
        <p:spPr>
          <a:xfrm>
            <a:off x="228600" y="1219320"/>
            <a:ext cx="6248520" cy="4219560"/>
          </a:xfrm>
          <a:prstGeom prst="rect">
            <a:avLst/>
          </a:prstGeom>
          <a:ln w="0">
            <a:noFill/>
          </a:ln>
        </p:spPr>
      </p:pic>
      <p:sp>
        <p:nvSpPr>
          <p:cNvPr id="510" name=""/>
          <p:cNvSpPr/>
          <p:nvPr/>
        </p:nvSpPr>
        <p:spPr>
          <a:xfrm>
            <a:off x="3962520" y="3429000"/>
            <a:ext cx="533160" cy="393840"/>
          </a:xfrm>
          <a:custGeom>
            <a:avLst/>
            <a:gdLst/>
            <a:ahLst/>
            <a:rect l="l" t="t" r="r" b="b"/>
            <a:pathLst>
              <a:path w="336" h="248">
                <a:moveTo>
                  <a:pt x="96" y="72"/>
                </a:moveTo>
                <a:cubicBezTo>
                  <a:pt x="80" y="132"/>
                  <a:pt x="64" y="192"/>
                  <a:pt x="96" y="216"/>
                </a:cubicBezTo>
                <a:cubicBezTo>
                  <a:pt x="128" y="240"/>
                  <a:pt x="256" y="248"/>
                  <a:pt x="288" y="216"/>
                </a:cubicBezTo>
                <a:cubicBezTo>
                  <a:pt x="320" y="184"/>
                  <a:pt x="336" y="48"/>
                  <a:pt x="288" y="24"/>
                </a:cubicBezTo>
                <a:cubicBezTo>
                  <a:pt x="240" y="0"/>
                  <a:pt x="120" y="36"/>
                  <a:pt x="0" y="7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H="1" flipV="1">
            <a:off x="4419720" y="3733920"/>
            <a:ext cx="2133360" cy="1218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2666880" y="990720"/>
            <a:ext cx="3200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09120" y="1905120"/>
            <a:ext cx="8153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утања се формира коришћењем неколик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Network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Nodes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везаних 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, исто као код излазно-улазних портова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Макар један Мрежни чвор мора бити повезан са сваком утоварном и истоварном станицом. У нашем случају са пуфером и регалима. Опет користимо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у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ранспортер се додељује путањи повезивањем са било којим мрежним чвором у путањи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оћу </a:t>
            </a:r>
            <a:r>
              <a:rPr b="0" lang="en-US" sz="2000" spc="-1" strike="noStrike">
                <a:solidFill>
                  <a:srgbClr val="00006a"/>
                </a:solidFill>
                <a:latin typeface="Arial"/>
              </a:rPr>
              <a:t>“A”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типке.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4" name=""/>
          <p:cNvGraphicFramePr/>
          <p:nvPr/>
        </p:nvGraphicFramePr>
        <p:xfrm>
          <a:off x="7543800" y="457200"/>
          <a:ext cx="1066680" cy="1066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3800" y="457200"/>
                    <a:ext cx="10666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6" name=""/>
          <p:cNvSpPr/>
          <p:nvPr/>
        </p:nvSpPr>
        <p:spPr>
          <a:xfrm>
            <a:off x="533520" y="5257800"/>
            <a:ext cx="2057400" cy="533520"/>
          </a:xfrm>
          <a:prstGeom prst="wedgeRoundRectCallout">
            <a:avLst>
              <a:gd name="adj1" fmla="val 46912"/>
              <a:gd name="adj2" fmla="val -114879"/>
              <a:gd name="adj3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Подсетни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962520" y="228240"/>
            <a:ext cx="50292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</a:t>
            </a: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des</a:t>
            </a:r>
            <a:r>
              <a:rPr b="1" lang="sr-C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066320"/>
            <a:ext cx="4114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Као код излазно-улазних портова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 спајању види се зелена линија као и средишна тачка која одређује кривину. 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Померањем тачке закривљујемо путањ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6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2000" spc="-1" strike="noStrike">
                <a:solidFill>
                  <a:srgbClr val="00006a"/>
                </a:solidFill>
                <a:latin typeface="Arial"/>
              </a:rPr>
              <a:t>X </a:t>
            </a:r>
            <a:r>
              <a:rPr b="0" lang="sr-CS" sz="2000" spc="-1" strike="noStrike">
                <a:solidFill>
                  <a:srgbClr val="00006a"/>
                </a:solidFill>
                <a:latin typeface="Arial"/>
              </a:rPr>
              <a:t>и клик на средишњу тачку додаје још једну тачку</a:t>
            </a: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6a"/>
              </a:solidFill>
              <a:latin typeface="Arial"/>
            </a:endParaRPr>
          </a:p>
        </p:txBody>
      </p:sp>
      <p:graphicFrame>
        <p:nvGraphicFramePr>
          <p:cNvPr id="519" name=""/>
          <p:cNvGraphicFramePr/>
          <p:nvPr/>
        </p:nvGraphicFramePr>
        <p:xfrm>
          <a:off x="4800600" y="1143000"/>
          <a:ext cx="3598920" cy="1360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800600" y="1143000"/>
                    <a:ext cx="359892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1" name=""/>
          <p:cNvGraphicFramePr/>
          <p:nvPr/>
        </p:nvGraphicFramePr>
        <p:xfrm>
          <a:off x="4800600" y="2514600"/>
          <a:ext cx="3598920" cy="1338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2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2514600"/>
                    <a:ext cx="3598920" cy="13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3" name=""/>
          <p:cNvGraphicFramePr/>
          <p:nvPr/>
        </p:nvGraphicFramePr>
        <p:xfrm>
          <a:off x="8267760" y="2743200"/>
          <a:ext cx="190440" cy="3049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2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267760" y="2743200"/>
                    <a:ext cx="190440" cy="30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5" name=""/>
          <p:cNvGraphicFramePr/>
          <p:nvPr/>
        </p:nvGraphicFramePr>
        <p:xfrm>
          <a:off x="4876920" y="3962520"/>
          <a:ext cx="3381120" cy="1218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526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876920" y="3962520"/>
                    <a:ext cx="3381120" cy="121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7" name=""/>
          <p:cNvGraphicFramePr/>
          <p:nvPr/>
        </p:nvGraphicFramePr>
        <p:xfrm>
          <a:off x="4800600" y="5181480"/>
          <a:ext cx="3352680" cy="14479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4800600" y="5181480"/>
                    <a:ext cx="3352680" cy="144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6781680" cy="4579920"/>
          </a:xfrm>
          <a:prstGeom prst="rect">
            <a:avLst/>
          </a:prstGeom>
          <a:ln w="0">
            <a:noFill/>
          </a:ln>
        </p:spPr>
      </p:pic>
      <p:sp>
        <p:nvSpPr>
          <p:cNvPr id="530" name=""/>
          <p:cNvSpPr/>
          <p:nvPr/>
        </p:nvSpPr>
        <p:spPr>
          <a:xfrm>
            <a:off x="5562720" y="228600"/>
            <a:ext cx="358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утоварних и истоварних станиц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7162920" y="266688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Плаве линиј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 flipH="1">
            <a:off x="6095520" y="3048120"/>
            <a:ext cx="1752840" cy="2057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 flipH="1">
            <a:off x="2819160" y="3048120"/>
            <a:ext cx="48006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7162920" cy="483696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4800600" y="304920"/>
            <a:ext cx="419112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овезивање Мрежних чворова и транспорте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391520" y="259092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1800" spc="-1" strike="noStrike">
                <a:solidFill>
                  <a:srgbClr val="000000"/>
                </a:solidFill>
                <a:latin typeface="Arial"/>
              </a:rPr>
              <a:t>Црвена линиј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4495320" y="2895480"/>
            <a:ext cx="3124440" cy="2133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304920" y="3200400"/>
            <a:ext cx="99036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r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Изв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600200" y="3124080"/>
            <a:ext cx="1066680" cy="914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Que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уфе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3200400" y="2057400"/>
            <a:ext cx="114300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24280" y="2286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001000" y="3048120"/>
            <a:ext cx="914400" cy="10666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Понор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200400" y="3200400"/>
            <a:ext cx="1219320" cy="7621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76720" y="4419720"/>
            <a:ext cx="1143000" cy="7617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c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(Машина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800600" y="3429000"/>
            <a:ext cx="2590920" cy="30492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4648320"/>
            <a:ext cx="2590920" cy="304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vey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1295280" y="31240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2666880" y="2057040"/>
            <a:ext cx="53352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666880" y="3124080"/>
            <a:ext cx="53352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666880" y="3124080"/>
            <a:ext cx="60984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343400" y="205740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343400" y="320040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4419720" y="4419720"/>
            <a:ext cx="3808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315200" y="228600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391520" y="3429000"/>
            <a:ext cx="609480" cy="7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 flipV="1">
            <a:off x="7391520" y="3504960"/>
            <a:ext cx="6094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924680" y="3048120"/>
            <a:ext cx="762120" cy="1218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 flipH="1">
            <a:off x="7924320" y="3124080"/>
            <a:ext cx="838440" cy="11430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43000" y="2133720"/>
            <a:ext cx="1523880" cy="609480"/>
          </a:xfrm>
          <a:prstGeom prst="wedgeRoundRectCallout">
            <a:avLst>
              <a:gd name="adj1" fmla="val 19689"/>
              <a:gd name="adj2" fmla="val 114064"/>
              <a:gd name="adj3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апацитет пуфер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71800" y="304920"/>
            <a:ext cx="2133720" cy="685800"/>
          </a:xfrm>
          <a:prstGeom prst="wedgeRoundRectCallout">
            <a:avLst>
              <a:gd name="adj1" fmla="val -12722"/>
              <a:gd name="adj2" fmla="val 205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обраде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exponential(3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5029200" y="5486400"/>
            <a:ext cx="3048120" cy="457200"/>
          </a:xfrm>
          <a:prstGeom prst="wedgeRoundRectCallout">
            <a:avLst>
              <a:gd name="adj1" fmla="val -26717"/>
              <a:gd name="adj2" fmla="val -157986"/>
              <a:gd name="adj3" fmla="val 16667"/>
            </a:avLst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Брзин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конвејера: 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m/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04920" y="4495680"/>
            <a:ext cx="1904760" cy="1295640"/>
          </a:xfrm>
          <a:prstGeom prst="wedgeRoundRectCallout">
            <a:avLst>
              <a:gd name="adj1" fmla="val -30083"/>
              <a:gd name="adj2" fmla="val -90564"/>
              <a:gd name="adj3" fmla="val 16667"/>
            </a:avLst>
          </a:prstGeom>
          <a:solidFill>
            <a:srgbClr val="567e26">
              <a:alpha val="6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1800" spc="-1" strike="noStrike">
                <a:solidFill>
                  <a:srgbClr val="000000"/>
                </a:solidFill>
                <a:latin typeface="Arial"/>
              </a:rPr>
              <a:t>Време између наилазак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normal(20,2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2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7391520" cy="4991400"/>
          </a:xfrm>
          <a:prstGeom prst="rect">
            <a:avLst/>
          </a:prstGeom>
          <a:ln w="0">
            <a:noFill/>
          </a:ln>
        </p:spPr>
      </p:pic>
      <p:sp>
        <p:nvSpPr>
          <p:cNvPr id="539" name=""/>
          <p:cNvSpPr/>
          <p:nvPr/>
        </p:nvSpPr>
        <p:spPr>
          <a:xfrm>
            <a:off x="5410080" y="380880"/>
            <a:ext cx="3353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400" spc="-1" strike="noStrike">
                <a:solidFill>
                  <a:srgbClr val="000000"/>
                </a:solidFill>
                <a:latin typeface="Arial"/>
              </a:rPr>
              <a:t>Приказ закривљене путање виљушкар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752480" y="4038480"/>
            <a:ext cx="381240" cy="304920"/>
          </a:xfrm>
          <a:prstGeom prst="cube">
            <a:avLst>
              <a:gd name="adj" fmla="val 250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52480" y="4648320"/>
            <a:ext cx="381240" cy="304560"/>
          </a:xfrm>
          <a:prstGeom prst="cube">
            <a:avLst>
              <a:gd name="adj" fmla="val 25000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752480" y="5410080"/>
            <a:ext cx="381240" cy="304920"/>
          </a:xfrm>
          <a:prstGeom prst="cube">
            <a:avLst>
              <a:gd name="adj" fmla="val 25000"/>
            </a:avLst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219320" y="1828800"/>
            <a:ext cx="1218960" cy="1066680"/>
          </a:xfrm>
          <a:prstGeom prst="cube">
            <a:avLst>
              <a:gd name="adj" fmla="val 25000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000000"/>
                </a:solidFill>
                <a:latin typeface="Arial"/>
              </a:rPr>
              <a:t>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5562720" y="1752480"/>
            <a:ext cx="1904760" cy="838440"/>
          </a:xfrm>
          <a:prstGeom prst="cloudCallout">
            <a:avLst>
              <a:gd name="adj1" fmla="val -69500"/>
              <a:gd name="adj2" fmla="val 24810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ow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2819520" y="1828800"/>
            <a:ext cx="2209680" cy="914400"/>
          </a:xfrm>
          <a:prstGeom prst="cloudCallout">
            <a:avLst>
              <a:gd name="adj1" fmla="val -56250"/>
              <a:gd name="adj2" fmla="val 1041"/>
            </a:avLst>
          </a:prstGeom>
          <a:solidFill>
            <a:srgbClr val="cfecc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оизво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5880" y="4343400"/>
            <a:ext cx="1752840" cy="1066680"/>
          </a:xfrm>
          <a:prstGeom prst="cloudCallout">
            <a:avLst>
              <a:gd name="adj1" fmla="val -84962"/>
              <a:gd name="adj2" fmla="val 13245"/>
            </a:avLst>
          </a:prstGeom>
          <a:solidFill>
            <a:srgbClr val="abc28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te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 rot="20686800">
            <a:off x="685800" y="3352320"/>
            <a:ext cx="380880" cy="1752840"/>
          </a:xfrm>
          <a:custGeom>
            <a:avLst/>
            <a:gdLst>
              <a:gd name="textAreaLeft" fmla="*/ 50760 w 380880"/>
              <a:gd name="textAreaRight" fmla="*/ 330120 w 380880"/>
              <a:gd name="textAreaTop" fmla="*/ 361080 h 1752840"/>
              <a:gd name="textAreaBottom" fmla="*/ 1216440 h 1752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903" stAng="-5400000" swAng="-5400000"/>
                <a:lnTo>
                  <a:pt x="0" y="10537"/>
                </a:lnTo>
                <a:arcTo wR="21600" hR="8903" stAng="10800000" swAng="-2962674"/>
                <a:lnTo>
                  <a:pt x="14400" y="21091"/>
                </a:lnTo>
                <a:lnTo>
                  <a:pt x="21600" y="18623"/>
                </a:lnTo>
                <a:lnTo>
                  <a:pt x="14400" y="15137"/>
                </a:lnTo>
                <a:lnTo>
                  <a:pt x="14400" y="17297"/>
                </a:lnTo>
                <a:arcTo wR="21600" hR="8903" stAng="7837326" swAng="2832156"/>
                <a:lnTo>
                  <a:pt x="91" y="9720"/>
                </a:lnTo>
                <a:arcTo wR="21600" hR="8903" stAng="-10669482" swAng="5269482"/>
                <a:close/>
              </a:path>
              <a:path fill="darkenLess" w="21600" h="21600">
                <a:moveTo>
                  <a:pt x="21600" y="0"/>
                </a:moveTo>
                <a:arcTo wR="21600" hR="8903" stAng="-5400000" swAng="-5400000"/>
                <a:lnTo>
                  <a:pt x="0" y="8903"/>
                </a:lnTo>
                <a:arcTo wR="21600" hR="8903" stAng="10800000" swAng="-130518"/>
                <a:lnTo>
                  <a:pt x="91" y="9720"/>
                </a:lnTo>
                <a:arcTo wR="21600" hR="8903" stAng="-10669482" swAng="5269482"/>
                <a:close/>
              </a:path>
            </a:pathLst>
          </a:cu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6" name=""/>
          <p:cNvGrpSpPr/>
          <p:nvPr/>
        </p:nvGrpSpPr>
        <p:grpSpPr>
          <a:xfrm>
            <a:off x="3733560" y="304920"/>
            <a:ext cx="5105160" cy="838080"/>
            <a:chOff x="3733560" y="304920"/>
            <a:chExt cx="5105160" cy="838080"/>
          </a:xfrm>
        </p:grpSpPr>
        <p:sp>
          <p:nvSpPr>
            <p:cNvPr id="187" name="File"/>
            <p:cNvSpPr/>
            <p:nvPr/>
          </p:nvSpPr>
          <p:spPr>
            <a:xfrm rot="10800000">
              <a:off x="3733560" y="304560"/>
              <a:ext cx="5105160" cy="83808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733920" y="365760"/>
              <a:ext cx="4917240" cy="459720"/>
            </a:xfrm>
            <a:prstGeom prst="rect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sr-CS" sz="2400" spc="-1" strike="noStrike">
                  <a:solidFill>
                    <a:srgbClr val="000000"/>
                  </a:solidFill>
                  <a:latin typeface="Arial"/>
                </a:rPr>
                <a:t>Понешто о терминологиј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743200" y="4191120"/>
            <a:ext cx="2590920" cy="1371600"/>
          </a:xfrm>
          <a:prstGeom prst="cloudCallout">
            <a:avLst>
              <a:gd name="adj1" fmla="val -56004"/>
              <a:gd name="adj2" fmla="val -7754"/>
            </a:avLst>
          </a:prstGeom>
          <a:solidFill>
            <a:srgbClr val="cde4c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Тип или врста производа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ocuments"/>
          <p:cNvSpPr/>
          <p:nvPr/>
        </p:nvSpPr>
        <p:spPr>
          <a:xfrm>
            <a:off x="380880" y="1219320"/>
            <a:ext cx="8534520" cy="541008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CS" sz="2000" spc="-1" strike="noStrike">
                <a:solidFill>
                  <a:srgbClr val="000000"/>
                </a:solidFill>
                <a:latin typeface="Arial"/>
              </a:rPr>
              <a:t>Израда моде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лејаута – превлачење објеката на радну површин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финисање тока производа кроз модел – повезивање објеката уз помоћ порто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Детаљније одређење објеката променом њихових парамета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Завршно компајлирање и пуштање модела у ра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Arial"/>
              </a:rPr>
              <a:t>Прикупљање и обрада подата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rot="3738000">
            <a:off x="3136320" y="139680"/>
            <a:ext cx="838440" cy="2235240"/>
          </a:xfrm>
          <a:custGeom>
            <a:avLst/>
            <a:gdLst>
              <a:gd name="textAreaLeft" fmla="*/ 112320 w 838440"/>
              <a:gd name="textAreaRight" fmla="*/ 726120 w 838440"/>
              <a:gd name="textAreaTop" fmla="*/ 390960 h 2235240"/>
              <a:gd name="textAreaBottom" fmla="*/ 1620720 h 2235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" name=""/>
          <p:cNvGrpSpPr/>
          <p:nvPr/>
        </p:nvGrpSpPr>
        <p:grpSpPr>
          <a:xfrm>
            <a:off x="5105160" y="228240"/>
            <a:ext cx="3809880" cy="1676520"/>
            <a:chOff x="5105160" y="228240"/>
            <a:chExt cx="3809880" cy="1676520"/>
          </a:xfrm>
        </p:grpSpPr>
        <p:sp>
          <p:nvSpPr>
            <p:cNvPr id="193" name="File"/>
            <p:cNvSpPr/>
            <p:nvPr/>
          </p:nvSpPr>
          <p:spPr>
            <a:xfrm rot="10800000">
              <a:off x="5105160" y="227880"/>
              <a:ext cx="3809880" cy="1676520"/>
            </a:xfrm>
            <a:prstGeom prst="pie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4" name="" descr=""/>
            <p:cNvPicPr/>
            <p:nvPr/>
          </p:nvPicPr>
          <p:blipFill>
            <a:blip r:embed="rId1"/>
            <a:stretch/>
          </p:blipFill>
          <p:spPr>
            <a:xfrm>
              <a:off x="5181480" y="288360"/>
              <a:ext cx="3629160" cy="12556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0T15:55:37Z</dcterms:created>
  <dc:creator>trn</dc:creator>
  <dc:description/>
  <dc:language>en-US</dc:language>
  <cp:lastModifiedBy>515-n</cp:lastModifiedBy>
  <dcterms:modified xsi:type="dcterms:W3CDTF">2008-11-24T16:30:53Z</dcterms:modified>
  <cp:revision>68</cp:revision>
  <dc:subject/>
  <dc:title>Slide 1</dc:title>
</cp:coreProperties>
</file>